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6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70.png" ContentType="image/png"/>
  <Override PartName="/ppt/media/image1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0.png" ContentType="image/png"/>
  <Override PartName="/ppt/media/image47.png" ContentType="image/png"/>
  <Override PartName="/ppt/media/image65.wmf" ContentType="image/x-wmf"/>
  <Override PartName="/ppt/media/image25.png" ContentType="image/png"/>
  <Override PartName="/ppt/media/image63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36.png" ContentType="image/png"/>
  <Override PartName="/ppt/media/image11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39.png" ContentType="image/png"/>
  <Override PartName="/ppt/media/image8.png" ContentType="image/png"/>
  <Override PartName="/ppt/media/image42.wmf" ContentType="image/x-wmf"/>
  <Override PartName="/ppt/media/image43.wmf" ContentType="image/x-wmf"/>
  <Override PartName="/ppt/media/image9.png" ContentType="image/pn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ABF5-AEB4-4C0F-AAA6-895EDAF5BAE4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DD64-7EB6-4172-A70A-A6E7DE67A085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A18F-DE26-44A2-A485-6343009BFA0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0964-A346-4C24-9474-EB707EA8B76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7289-1DAF-46B0-9B3E-B88C083F5FC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B2E5-A92A-4BF4-97A6-3028EA54CF8F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19A3-57A2-4EDE-8E4F-46A6985AB3AE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E481-E7FC-4D00-B113-2E46B873F39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6641-2E96-4D4B-B9F5-E9A62F5653A2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3375-95DA-4E70-813B-385715463AF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FB68-6C98-406E-B2E2-2F76AA38077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E7DF-AFBD-4099-9FE0-181F343EA3CF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0490-821C-48E8-B2CE-46250836B7D9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ECDE-9160-4048-ACC7-5BE15D3FA81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B8E0-6E6C-4323-ADBB-5A5F025C9908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642E-D416-44E0-884F-C0E68B3149DC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A101-273E-4F6C-AB7F-C4A4E7A82439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E921-88A8-441A-831A-CA5F398573AC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BA92-B5E7-447F-BB21-F72A4ED1E37C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DA96-9309-467A-8857-53763AED524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6A9F-05B9-4191-9694-CE4A0742929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E4D3-EB7C-4558-ADD9-78F839634FF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53C5-1A60-42DF-B95E-64CAA952BE0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55D4-295E-47B8-B474-195BAD099D2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6937-7AD9-4F25-B79F-18164F79CEA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BF57-8815-4E2B-BAE1-110D3B4C903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F988-D825-47B9-9610-F023EDC25407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8F73-B73A-4116-9874-8BF607DA636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A836-789E-4742-A809-5B38E04832A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4EEE-60D0-4CDB-8AFF-D836C9537F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6B3D-EB9A-4A9B-B9DB-BB3D32EA09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732B-2543-4E60-86F3-2778ECF12A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A812-6140-48C5-91FF-4A9B3AAB33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81E2-3D1F-4FD3-B881-6F775863D6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5420-0DDD-4940-AD6C-A536A144B3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6EB2-5F9C-44CD-98CD-5E9D31E4E6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B0D0-73D7-47EF-B51C-A504C003C1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5CC8-E1C6-4DC7-8811-75EE7EA103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8FB9-3B1E-41ED-87DC-E44DF71588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DAC8-456D-4C76-A6B6-410FC083E8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5C1D-BC3F-412D-A15A-6CAB116368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792A-2F3A-4F53-BDA9-5992C8AE61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7572-A71E-4CD3-B915-B380CB5808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8C66-7880-4E91-8F5B-391BC25F3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DA21-17E8-41B0-B474-A14BA9FD4D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6709-6EB4-4253-BA0B-E0701DA95A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9FB6-329E-40FC-8F76-3BFBF64742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8D2B-03B1-4E28-80CC-29F90B3D08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78B5-2BAC-4659-AD64-A7DA76D221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9384-1C12-4B7C-ADBC-742F534134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614A-B989-44AB-BB8C-E6EE551C12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AF7C9-341F-48E6-B75A-C39DC442AB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FA07-7306-4516-B57A-66837E874EB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E8C-992B-42D9-A764-3CF52B0D0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E61-D7A1-4640-9C3C-DBA9329768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B45-483D-4C8E-A192-080695A7F13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937-8326-4FAA-A194-56C1EE9C746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2E7-31A6-46B8-A3D6-702477FD6F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DF6-DD2B-4825-B63E-7AEF80D4E78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19F-E023-456D-868D-90C4194D1DF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F13-FC59-4097-86E3-2BF92DE83D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100-F34D-4287-A972-0A06C8E19B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245-DFCE-490E-A280-B3DBCC6CA67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764-63CA-4A74-88D6-7DEA9946F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8CA-5536-4E29-8B8C-F3B740315F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Image 1" descr="Fond.jpg"/>
          <p:cNvPicPr/>
          <p:nvPr/>
        </p:nvPicPr>
        <p:blipFill>
          <a:blip r:embed="rId2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ENTSOG_LOGO_001.png"/>
          <p:cNvPicPr/>
          <p:nvPr/>
        </p:nvPicPr>
        <p:blipFill>
          <a:blip r:embed="rId3"/>
          <a:stretch/>
        </p:blipFill>
        <p:spPr>
          <a:xfrm>
            <a:off x="3855960" y="614988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071960" y="6559560"/>
            <a:ext cx="8571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CA63-E695-4CB5-A64C-2B4C3B8A3D2C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3929040" y="6091200"/>
            <a:ext cx="1000080" cy="758880"/>
            <a:chOff x="3929040" y="6091200"/>
            <a:chExt cx="1000080" cy="758880"/>
          </a:xfrm>
        </p:grpSpPr>
        <p:pic>
          <p:nvPicPr>
            <p:cNvPr id="115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3929040" y="6091200"/>
              <a:ext cx="1000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4"/>
            <p:cNvSpPr/>
            <p:nvPr/>
          </p:nvSpPr>
          <p:spPr>
            <a:xfrm>
              <a:off x="4149720" y="6480000"/>
              <a:ext cx="77940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60D2-FE35-422C-A81F-143067237FE4}" type="slidenum">
              <a:rPr b="0" lang="fr-BE" sz="14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0"/>
          <p:cNvGrpSpPr/>
          <p:nvPr/>
        </p:nvGrpSpPr>
        <p:grpSpPr>
          <a:xfrm>
            <a:off x="4000680" y="6170760"/>
            <a:ext cx="1087200" cy="571320"/>
            <a:chOff x="4000680" y="6170760"/>
            <a:chExt cx="1087200" cy="571320"/>
          </a:xfrm>
        </p:grpSpPr>
        <p:pic>
          <p:nvPicPr>
            <p:cNvPr id="156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000680" y="6170760"/>
              <a:ext cx="10000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4"/>
            <p:cNvSpPr/>
            <p:nvPr/>
          </p:nvSpPr>
          <p:spPr>
            <a:xfrm>
              <a:off x="4230720" y="6575400"/>
              <a:ext cx="85716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66666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F8D5-16AE-46A7-9488-89097DDCF3E4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Image 1" descr="Fond2.jpg"/>
          <p:cNvPicPr/>
          <p:nvPr/>
        </p:nvPicPr>
        <p:blipFill>
          <a:blip r:embed="rId2"/>
          <a:stretch/>
        </p:blipFill>
        <p:spPr>
          <a:xfrm>
            <a:off x="1357200" y="349200"/>
            <a:ext cx="5956560" cy="61596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4143240" y="6170760"/>
            <a:ext cx="1071720" cy="571320"/>
            <a:chOff x="4143240" y="6170760"/>
            <a:chExt cx="1071720" cy="571320"/>
          </a:xfrm>
        </p:grpSpPr>
        <p:pic>
          <p:nvPicPr>
            <p:cNvPr id="199" name="Picture 2" descr="ENTSOG_LOGO_001.png"/>
            <p:cNvPicPr/>
            <p:nvPr/>
          </p:nvPicPr>
          <p:blipFill>
            <a:blip r:embed="rId3"/>
            <a:stretch/>
          </p:blipFill>
          <p:spPr>
            <a:xfrm>
              <a:off x="4143240" y="6170760"/>
              <a:ext cx="10004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4"/>
            <p:cNvSpPr/>
            <p:nvPr/>
          </p:nvSpPr>
          <p:spPr>
            <a:xfrm>
              <a:off x="4357440" y="6575400"/>
              <a:ext cx="85752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Olivier.Lebois@entsog.eu" TargetMode="External"/><Relationship Id="rId2" Type="http://schemas.openxmlformats.org/officeDocument/2006/relationships/hyperlink" Target="mailto:Carmen.Rodriguez@entsog.eu" TargetMode="External"/><Relationship Id="rId3" Type="http://schemas.openxmlformats.org/officeDocument/2006/relationships/hyperlink" Target="http://www.entsog.eu/" TargetMode="External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6.png"/><Relationship Id="rId34" Type="http://schemas.openxmlformats.org/officeDocument/2006/relationships/image" Target="../media/image14.png"/><Relationship Id="rId35" Type="http://schemas.openxmlformats.org/officeDocument/2006/relationships/image" Target="../media/image15.png"/><Relationship Id="rId36" Type="http://schemas.openxmlformats.org/officeDocument/2006/relationships/image" Target="../media/image6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7.png"/><Relationship Id="rId43" Type="http://schemas.openxmlformats.org/officeDocument/2006/relationships/image" Target="../media/image18.png"/><Relationship Id="rId44" Type="http://schemas.openxmlformats.org/officeDocument/2006/relationships/image" Target="../media/image18.png"/><Relationship Id="rId45" Type="http://schemas.openxmlformats.org/officeDocument/2006/relationships/image" Target="../media/image19.png"/><Relationship Id="rId46" Type="http://schemas.openxmlformats.org/officeDocument/2006/relationships/image" Target="../media/image20.png"/><Relationship Id="rId47" Type="http://schemas.openxmlformats.org/officeDocument/2006/relationships/image" Target="../media/image19.png"/><Relationship Id="rId48" Type="http://schemas.openxmlformats.org/officeDocument/2006/relationships/image" Target="../media/image21.png"/><Relationship Id="rId49" Type="http://schemas.openxmlformats.org/officeDocument/2006/relationships/image" Target="../media/image22.png"/><Relationship Id="rId50" Type="http://schemas.openxmlformats.org/officeDocument/2006/relationships/image" Target="../media/image22.png"/><Relationship Id="rId51" Type="http://schemas.openxmlformats.org/officeDocument/2006/relationships/image" Target="../media/image22.png"/><Relationship Id="rId52" Type="http://schemas.openxmlformats.org/officeDocument/2006/relationships/image" Target="../media/image21.png"/><Relationship Id="rId53" Type="http://schemas.openxmlformats.org/officeDocument/2006/relationships/image" Target="../media/image21.png"/><Relationship Id="rId54" Type="http://schemas.openxmlformats.org/officeDocument/2006/relationships/image" Target="../media/image22.png"/><Relationship Id="rId55" Type="http://schemas.openxmlformats.org/officeDocument/2006/relationships/image" Target="../media/image22.png"/><Relationship Id="rId56" Type="http://schemas.openxmlformats.org/officeDocument/2006/relationships/image" Target="../media/image17.png"/><Relationship Id="rId57" Type="http://schemas.openxmlformats.org/officeDocument/2006/relationships/image" Target="../media/image21.png"/><Relationship Id="rId58" Type="http://schemas.openxmlformats.org/officeDocument/2006/relationships/image" Target="../media/image14.png"/><Relationship Id="rId59" Type="http://schemas.openxmlformats.org/officeDocument/2006/relationships/image" Target="../media/image21.png"/><Relationship Id="rId60" Type="http://schemas.openxmlformats.org/officeDocument/2006/relationships/image" Target="../media/image23.png"/><Relationship Id="rId61" Type="http://schemas.openxmlformats.org/officeDocument/2006/relationships/image" Target="../media/image24.png"/><Relationship Id="rId62" Type="http://schemas.openxmlformats.org/officeDocument/2006/relationships/image" Target="../media/image25.png"/><Relationship Id="rId63" Type="http://schemas.openxmlformats.org/officeDocument/2006/relationships/image" Target="../media/image26.png"/><Relationship Id="rId64" Type="http://schemas.openxmlformats.org/officeDocument/2006/relationships/image" Target="../media/image27.png"/><Relationship Id="rId65" Type="http://schemas.openxmlformats.org/officeDocument/2006/relationships/image" Target="../media/image28.png"/><Relationship Id="rId66" Type="http://schemas.openxmlformats.org/officeDocument/2006/relationships/image" Target="../media/image29.png"/><Relationship Id="rId67" Type="http://schemas.openxmlformats.org/officeDocument/2006/relationships/image" Target="../media/image30.png"/><Relationship Id="rId68" Type="http://schemas.openxmlformats.org/officeDocument/2006/relationships/image" Target="../media/image31.png"/><Relationship Id="rId69" Type="http://schemas.openxmlformats.org/officeDocument/2006/relationships/image" Target="../media/image32.png"/><Relationship Id="rId70" Type="http://schemas.openxmlformats.org/officeDocument/2006/relationships/image" Target="../media/image33.png"/><Relationship Id="rId71" Type="http://schemas.openxmlformats.org/officeDocument/2006/relationships/image" Target="../media/image34.png"/><Relationship Id="rId72" Type="http://schemas.openxmlformats.org/officeDocument/2006/relationships/image" Target="../media/image35.png"/><Relationship Id="rId73" Type="http://schemas.openxmlformats.org/officeDocument/2006/relationships/image" Target="../media/image32.png"/><Relationship Id="rId74" Type="http://schemas.openxmlformats.org/officeDocument/2006/relationships/image" Target="../media/image36.png"/><Relationship Id="rId75" Type="http://schemas.openxmlformats.org/officeDocument/2006/relationships/image" Target="../media/image32.png"/><Relationship Id="rId76" Type="http://schemas.openxmlformats.org/officeDocument/2006/relationships/image" Target="../media/image33.png"/><Relationship Id="rId77" Type="http://schemas.openxmlformats.org/officeDocument/2006/relationships/image" Target="../media/image37.png"/><Relationship Id="rId78" Type="http://schemas.openxmlformats.org/officeDocument/2006/relationships/image" Target="../media/image37.png"/><Relationship Id="rId79" Type="http://schemas.openxmlformats.org/officeDocument/2006/relationships/image" Target="../media/image37.png"/><Relationship Id="rId80" Type="http://schemas.openxmlformats.org/officeDocument/2006/relationships/slideLayout" Target="../slideLayouts/slideLayout25.xml"/><Relationship Id="rId8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0840" y="2781360"/>
            <a:ext cx="82785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f82"/>
                </a:solidFill>
                <a:latin typeface="Calibri"/>
              </a:rPr>
              <a:t>TYNDP 2013-2022 concept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JWS #7 – conclusion on TYNDP conce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ous-titre 2"/>
          <p:cNvSpPr/>
          <p:nvPr/>
        </p:nvSpPr>
        <p:spPr>
          <a:xfrm>
            <a:off x="1360440" y="5948280"/>
            <a:ext cx="640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666666"/>
                </a:solidFill>
                <a:latin typeface="Calibri"/>
              </a:rPr>
              <a:t>TYNDP 2013-2022 Stakeholder Joint Working Session – 29 May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cenario vs.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2609-D89D-4BBB-B975-4538C780F16D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01520" y="4797360"/>
            <a:ext cx="418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 kind of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llow the evolution of one variable during the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thways: e.g. Roadm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cast: e.g. best est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1" name="Straight Arrow Connector 4"/>
          <p:cNvCxnSpPr/>
          <p:nvPr/>
        </p:nvCxnSpPr>
        <p:spPr>
          <a:xfrm flipV="1">
            <a:off x="539280" y="1267920"/>
            <a:ext cx="1080" cy="1874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Straight Arrow Connector 6"/>
          <p:cNvCxnSpPr/>
          <p:nvPr/>
        </p:nvCxnSpPr>
        <p:spPr>
          <a:xfrm>
            <a:off x="522360" y="3138120"/>
            <a:ext cx="5418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3" name="Freeform 8"/>
          <p:cNvSpPr/>
          <p:nvPr/>
        </p:nvSpPr>
        <p:spPr>
          <a:xfrm>
            <a:off x="525600" y="1959120"/>
            <a:ext cx="3468600" cy="698400"/>
          </a:xfrm>
          <a:custGeom>
            <a:avLst/>
            <a:gdLst/>
            <a:ahLst/>
            <a:rect l="l" t="t" r="r" b="b"/>
            <a:pathLst>
              <a:path w="3467819" h="698740">
                <a:moveTo>
                  <a:pt x="0" y="698740"/>
                </a:moveTo>
                <a:cubicBezTo>
                  <a:pt x="500332" y="506802"/>
                  <a:pt x="1000664" y="314865"/>
                  <a:pt x="1578634" y="198408"/>
                </a:cubicBezTo>
                <a:cubicBezTo>
                  <a:pt x="2156604" y="81951"/>
                  <a:pt x="2812211" y="40975"/>
                  <a:pt x="346781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9"/>
          <p:cNvSpPr/>
          <p:nvPr/>
        </p:nvSpPr>
        <p:spPr>
          <a:xfrm>
            <a:off x="552600" y="1700280"/>
            <a:ext cx="2506680" cy="869760"/>
          </a:xfrm>
          <a:custGeom>
            <a:avLst/>
            <a:gdLst/>
            <a:ahLst/>
            <a:rect l="l" t="t" r="r" b="b"/>
            <a:pathLst>
              <a:path w="3485071" h="810883">
                <a:moveTo>
                  <a:pt x="0" y="810883"/>
                </a:moveTo>
                <a:cubicBezTo>
                  <a:pt x="554966" y="593784"/>
                  <a:pt x="1109932" y="376686"/>
                  <a:pt x="1690777" y="241539"/>
                </a:cubicBezTo>
                <a:cubicBezTo>
                  <a:pt x="2271622" y="106392"/>
                  <a:pt x="3485071" y="0"/>
                  <a:pt x="3485071" y="0"/>
                </a:cubicBezTo>
                <a:lnTo>
                  <a:pt x="3485071" y="0"/>
                </a:lnTo>
              </a:path>
            </a:pathLst>
          </a:custGeom>
          <a:noFill/>
          <a:ln w="2844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12"/>
          <p:cNvSpPr/>
          <p:nvPr/>
        </p:nvSpPr>
        <p:spPr>
          <a:xfrm>
            <a:off x="542880" y="2751120"/>
            <a:ext cx="5159520" cy="293760"/>
          </a:xfrm>
          <a:custGeom>
            <a:avLst/>
            <a:gdLst/>
            <a:ahLst/>
            <a:rect l="l" t="t" r="r" b="b"/>
            <a:pathLst>
              <a:path w="5158596" h="293299">
                <a:moveTo>
                  <a:pt x="0" y="0"/>
                </a:moveTo>
                <a:lnTo>
                  <a:pt x="3260785" y="94891"/>
                </a:lnTo>
                <a:cubicBezTo>
                  <a:pt x="4120551" y="143774"/>
                  <a:pt x="4639573" y="218536"/>
                  <a:pt x="5158596" y="293299"/>
                </a:cubicBezTo>
              </a:path>
            </a:pathLst>
          </a:custGeom>
          <a:noFill/>
          <a:ln w="38160">
            <a:solidFill>
              <a:srgbClr val="00b050"/>
            </a:solidFill>
            <a:prstDash val="sysDash"/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3"/>
          <p:cNvSpPr/>
          <p:nvPr/>
        </p:nvSpPr>
        <p:spPr>
          <a:xfrm>
            <a:off x="534960" y="2328840"/>
            <a:ext cx="5114880" cy="422280"/>
          </a:xfrm>
          <a:custGeom>
            <a:avLst/>
            <a:gdLst/>
            <a:ahLst/>
            <a:rect l="l" t="t" r="r" b="b"/>
            <a:pathLst>
              <a:path w="5115464" h="422694">
                <a:moveTo>
                  <a:pt x="0" y="422694"/>
                </a:moveTo>
                <a:lnTo>
                  <a:pt x="5115464" y="0"/>
                </a:lnTo>
              </a:path>
            </a:pathLst>
          </a:custGeom>
          <a:noFill/>
          <a:ln w="38160">
            <a:solidFill>
              <a:srgbClr val="00b05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14"/>
          <p:cNvSpPr/>
          <p:nvPr/>
        </p:nvSpPr>
        <p:spPr>
          <a:xfrm>
            <a:off x="534960" y="1871640"/>
            <a:ext cx="5149800" cy="871560"/>
          </a:xfrm>
          <a:custGeom>
            <a:avLst/>
            <a:gdLst/>
            <a:ahLst/>
            <a:rect l="l" t="t" r="r" b="b"/>
            <a:pathLst>
              <a:path w="5149970" h="871268">
                <a:moveTo>
                  <a:pt x="0" y="871268"/>
                </a:moveTo>
                <a:cubicBezTo>
                  <a:pt x="920870" y="611756"/>
                  <a:pt x="1841740" y="352245"/>
                  <a:pt x="2700068" y="207034"/>
                </a:cubicBezTo>
                <a:cubicBezTo>
                  <a:pt x="3558396" y="61823"/>
                  <a:pt x="4354183" y="30911"/>
                  <a:pt x="5149970" y="0"/>
                </a:cubicBezTo>
              </a:path>
            </a:pathLst>
          </a:custGeom>
          <a:noFill/>
          <a:ln w="38160">
            <a:solidFill>
              <a:srgbClr val="00b050"/>
            </a:solidFill>
            <a:prstDash val="lgDash"/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15"/>
          <p:cNvSpPr/>
          <p:nvPr/>
        </p:nvSpPr>
        <p:spPr>
          <a:xfrm>
            <a:off x="542880" y="1181160"/>
            <a:ext cx="5106960" cy="1260360"/>
          </a:xfrm>
          <a:custGeom>
            <a:avLst/>
            <a:gdLst/>
            <a:ahLst/>
            <a:rect l="l" t="t" r="r" b="b"/>
            <a:pathLst>
              <a:path w="5106838" h="1259456">
                <a:moveTo>
                  <a:pt x="0" y="1259456"/>
                </a:moveTo>
                <a:lnTo>
                  <a:pt x="5106838" y="0"/>
                </a:lnTo>
              </a:path>
            </a:pathLst>
          </a:custGeom>
          <a:noFill/>
          <a:ln w="38160">
            <a:solidFill>
              <a:srgbClr val="c7373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6"/>
          <p:cNvSpPr/>
          <p:nvPr/>
        </p:nvSpPr>
        <p:spPr>
          <a:xfrm>
            <a:off x="488880" y="3162240"/>
            <a:ext cx="548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2022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20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8"/>
          <p:cNvSpPr/>
          <p:nvPr/>
        </p:nvSpPr>
        <p:spPr>
          <a:xfrm>
            <a:off x="-1440" y="99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7"/>
          <p:cNvSpPr/>
          <p:nvPr/>
        </p:nvSpPr>
        <p:spPr>
          <a:xfrm>
            <a:off x="2043000" y="1751040"/>
            <a:ext cx="216000" cy="216000"/>
          </a:xfrm>
          <a:prstGeom prst="ellipse">
            <a:avLst/>
          </a:prstGeom>
          <a:noFill/>
          <a:ln w="25560">
            <a:solidFill>
              <a:srgbClr val="f7964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Curved Right Arrow 19"/>
          <p:cNvSpPr/>
          <p:nvPr/>
        </p:nvSpPr>
        <p:spPr>
          <a:xfrm>
            <a:off x="1258920" y="1733400"/>
            <a:ext cx="720720" cy="2311560"/>
          </a:xfrm>
          <a:custGeom>
            <a:avLst/>
            <a:gdLst>
              <a:gd name="textAreaLeft" fmla="*/ 96480 w 720720"/>
              <a:gd name="textAreaRight" fmla="*/ 624240 w 720720"/>
              <a:gd name="textAreaTop" fmla="*/ 510120 h 2311560"/>
              <a:gd name="textAreaBottom" fmla="*/ 1711440 h 231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38" stAng="-5400000" swAng="-5400000"/>
                <a:lnTo>
                  <a:pt x="0" y="11221"/>
                </a:lnTo>
                <a:arcTo wR="21600" hR="9538" stAng="10800000" swAng="-3581049"/>
                <a:lnTo>
                  <a:pt x="16200" y="21297"/>
                </a:lnTo>
                <a:lnTo>
                  <a:pt x="21600" y="19918"/>
                </a:lnTo>
                <a:lnTo>
                  <a:pt x="16200" y="17932"/>
                </a:lnTo>
                <a:lnTo>
                  <a:pt x="16200" y="18773"/>
                </a:lnTo>
                <a:arcTo wR="21600" hR="9538" stAng="7218951" swAng="3446665"/>
                <a:lnTo>
                  <a:pt x="84" y="10380"/>
                </a:lnTo>
                <a:arcTo wR="21600" hR="9538" stAng="-10665615" swAng="5265615"/>
                <a:close/>
              </a:path>
              <a:path fill="darkenLess" w="21600" h="21600">
                <a:moveTo>
                  <a:pt x="21600" y="0"/>
                </a:moveTo>
                <a:arcTo wR="21600" hR="9538" stAng="-5400000" swAng="-5400000"/>
                <a:lnTo>
                  <a:pt x="0" y="9538"/>
                </a:lnTo>
                <a:arcTo wR="21600" hR="9538" stAng="10800000" swAng="-134385"/>
                <a:lnTo>
                  <a:pt x="84" y="10380"/>
                </a:lnTo>
                <a:arcTo wR="21600" hR="9538" stAng="-10665615" swAng="5265615"/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Straight Arrow Connector 25"/>
          <p:cNvCxnSpPr/>
          <p:nvPr/>
        </p:nvCxnSpPr>
        <p:spPr>
          <a:xfrm flipV="1">
            <a:off x="2260080" y="3437640"/>
            <a:ext cx="1080" cy="85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4" name="Rectangle 28"/>
          <p:cNvSpPr/>
          <p:nvPr/>
        </p:nvSpPr>
        <p:spPr>
          <a:xfrm>
            <a:off x="2406600" y="3627360"/>
            <a:ext cx="149400" cy="657360"/>
          </a:xfrm>
          <a:prstGeom prst="rect">
            <a:avLst/>
          </a:prstGeom>
          <a:solidFill>
            <a:srgbClr val="eb7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3895560" y="4000680"/>
            <a:ext cx="149400" cy="2743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31"/>
          <p:cNvSpPr/>
          <p:nvPr/>
        </p:nvSpPr>
        <p:spPr>
          <a:xfrm>
            <a:off x="2260440" y="4292640"/>
            <a:ext cx="23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eaks     2-week peak    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2"/>
          <p:cNvSpPr/>
          <p:nvPr/>
        </p:nvSpPr>
        <p:spPr>
          <a:xfrm>
            <a:off x="1724040" y="134136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2017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4"/>
          <p:cNvSpPr/>
          <p:nvPr/>
        </p:nvSpPr>
        <p:spPr>
          <a:xfrm>
            <a:off x="3132000" y="3716280"/>
            <a:ext cx="147600" cy="5684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21"/>
          <p:cNvCxnSpPr/>
          <p:nvPr/>
        </p:nvCxnSpPr>
        <p:spPr>
          <a:xfrm>
            <a:off x="2251080" y="4284360"/>
            <a:ext cx="1969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20" name="Content Placeholder 2"/>
          <p:cNvSpPr/>
          <p:nvPr/>
        </p:nvSpPr>
        <p:spPr>
          <a:xfrm>
            <a:off x="4643280" y="4724280"/>
            <a:ext cx="4392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ses are derived from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erag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-week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ily 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ight Brace 7172"/>
          <p:cNvSpPr/>
          <p:nvPr/>
        </p:nvSpPr>
        <p:spPr>
          <a:xfrm>
            <a:off x="5940360" y="1181160"/>
            <a:ext cx="432000" cy="1863720"/>
          </a:xfrm>
          <a:custGeom>
            <a:avLst/>
            <a:gdLst>
              <a:gd name="textAreaLeft" fmla="*/ 0 w 432000"/>
              <a:gd name="textAreaRight" fmla="*/ 155880 w 432000"/>
              <a:gd name="textAreaTop" fmla="*/ 40680 h 1863720"/>
              <a:gd name="textAreaBottom" fmla="*/ 1823040 h 18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9"/>
                  <a:pt x="10800" y="1517"/>
                </a:cubicBezTo>
                <a:lnTo>
                  <a:pt x="10800" y="9183"/>
                </a:lnTo>
                <a:cubicBezTo>
                  <a:pt x="10800" y="9942"/>
                  <a:pt x="16200" y="10700"/>
                  <a:pt x="21600" y="10700"/>
                </a:cubicBezTo>
                <a:cubicBezTo>
                  <a:pt x="16200" y="10700"/>
                  <a:pt x="10800" y="11459"/>
                  <a:pt x="10800" y="12217"/>
                </a:cubicBezTo>
                <a:lnTo>
                  <a:pt x="10800" y="20083"/>
                </a:lnTo>
                <a:cubicBezTo>
                  <a:pt x="10800" y="2084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ontent Placeholder 2"/>
          <p:cNvSpPr/>
          <p:nvPr/>
        </p:nvSpPr>
        <p:spPr>
          <a:xfrm>
            <a:off x="6659640" y="1700280"/>
            <a:ext cx="23050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Considered scenarios and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FFD1-C38A-4EDF-9D7F-B72A434855C8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39280" y="981000"/>
            <a:ext cx="8425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sidered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mand scenarios: TSO, Primes, Eurog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scenarios: Minimum, medium and maxim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rastructure scenarios: Existing infra. + FID &amp; Existing infra. + FID + non-F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fferent parameter setting when defining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50920" y="3141720"/>
          <a:ext cx="8642160" cy="2595600"/>
        </p:xfrm>
        <a:graphic>
          <a:graphicData uri="http://schemas.openxmlformats.org/drawingml/2006/table">
            <a:tbl>
              <a:tblPr/>
              <a:tblGrid>
                <a:gridCol w="2736720"/>
                <a:gridCol w="1513080"/>
                <a:gridCol w="43923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m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disru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ultaneous p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omin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A disru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week simultaneous p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isruption (specific infra. to be defin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ly 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1 (through Tunis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2 (through Morocc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 (update of GLE stud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Chart 8" descr=""/>
          <p:cNvPicPr/>
          <p:nvPr/>
        </p:nvPicPr>
        <p:blipFill>
          <a:blip r:embed="rId1"/>
          <a:stretch/>
        </p:blipFill>
        <p:spPr>
          <a:xfrm>
            <a:off x="103320" y="2346480"/>
            <a:ext cx="4322520" cy="3962160"/>
          </a:xfrm>
          <a:prstGeom prst="rect">
            <a:avLst/>
          </a:prstGeom>
          <a:ln w="0">
            <a:noFill/>
          </a:ln>
        </p:spPr>
      </p:pic>
      <p:sp>
        <p:nvSpPr>
          <p:cNvPr id="628" name="Slide Number Placeholder 10"/>
          <p:cNvSpPr/>
          <p:nvPr/>
        </p:nvSpPr>
        <p:spPr>
          <a:xfrm>
            <a:off x="8317080" y="6356520"/>
            <a:ext cx="358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60A3-B190-4FAA-B6F4-FB0FC08526A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Espace réservé du contenu 2"/>
          <p:cNvSpPr/>
          <p:nvPr/>
        </p:nvSpPr>
        <p:spPr>
          <a:xfrm>
            <a:off x="303120" y="1046160"/>
            <a:ext cx="863136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ition of a maximum, medium and minimum supply potential by sourc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based on publicly available data from governmental and other sourc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se levels are defined at yearly level. For the analysis they have been translated in the daily aver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58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Supply potenti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Chart 12" descr=""/>
          <p:cNvPicPr/>
          <p:nvPr/>
        </p:nvPicPr>
        <p:blipFill>
          <a:blip r:embed="rId2"/>
          <a:stretch/>
        </p:blipFill>
        <p:spPr>
          <a:xfrm>
            <a:off x="4498920" y="2346480"/>
            <a:ext cx="4645080" cy="3809880"/>
          </a:xfrm>
          <a:prstGeom prst="rect">
            <a:avLst/>
          </a:prstGeom>
          <a:ln w="0">
            <a:noFill/>
          </a:ln>
        </p:spPr>
      </p:pic>
      <p:cxnSp>
        <p:nvCxnSpPr>
          <p:cNvPr id="632" name="Straight Arrow Connector 5"/>
          <p:cNvCxnSpPr/>
          <p:nvPr/>
        </p:nvCxnSpPr>
        <p:spPr>
          <a:xfrm flipV="1">
            <a:off x="2556000" y="2133000"/>
            <a:ext cx="2304000" cy="13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3" name="TextBox 14"/>
          <p:cNvSpPr/>
          <p:nvPr/>
        </p:nvSpPr>
        <p:spPr>
          <a:xfrm>
            <a:off x="4865040" y="2011320"/>
            <a:ext cx="33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pper limit: Test of Market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Up-Down Arrow 1"/>
          <p:cNvSpPr/>
          <p:nvPr/>
        </p:nvSpPr>
        <p:spPr>
          <a:xfrm>
            <a:off x="3995640" y="3357720"/>
            <a:ext cx="144720" cy="215640"/>
          </a:xfrm>
          <a:prstGeom prst="upDownArrow">
            <a:avLst>
              <a:gd name="adj1" fmla="val 50000"/>
              <a:gd name="adj2" fmla="val 49847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2730240" y="3335400"/>
            <a:ext cx="129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Upper limit flexi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trix of cases - Re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70C6-D09A-47EE-BB15-480967B61707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29600" cy="4200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8000" y="-27000"/>
            <a:ext cx="89280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trix of cases - 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1C2A-F57B-40FE-B022-D29F22664BA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108000" y="565200"/>
            <a:ext cx="4325760" cy="63072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"/>
          <p:cNvPicPr/>
          <p:nvPr/>
        </p:nvPicPr>
        <p:blipFill>
          <a:blip r:embed="rId2"/>
          <a:stretch/>
        </p:blipFill>
        <p:spPr>
          <a:xfrm>
            <a:off x="4697280" y="565200"/>
            <a:ext cx="4314960" cy="6289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Matrix of cases – Market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983F-D6B8-4A3C-BD4D-85916E59CB5E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4527720" cy="50292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"/>
          <p:cNvPicPr/>
          <p:nvPr/>
        </p:nvPicPr>
        <p:blipFill>
          <a:blip r:embed="rId2"/>
          <a:stretch/>
        </p:blipFill>
        <p:spPr>
          <a:xfrm>
            <a:off x="4619520" y="836640"/>
            <a:ext cx="4527720" cy="5029200"/>
          </a:xfrm>
          <a:prstGeom prst="rect">
            <a:avLst/>
          </a:prstGeom>
          <a:ln w="0">
            <a:noFill/>
          </a:ln>
        </p:spPr>
      </p:pic>
      <p:sp>
        <p:nvSpPr>
          <p:cNvPr id="647" name="Rounded Rectangle 2"/>
          <p:cNvSpPr/>
          <p:nvPr/>
        </p:nvSpPr>
        <p:spPr>
          <a:xfrm>
            <a:off x="1763640" y="6093000"/>
            <a:ext cx="57610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4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98 cases to compare to the 67 of TYNDP 2011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3068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Infrastructure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B95B-0EA0-44AE-BC9D-2097AB15323F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Applied methodologies per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3CB1-D211-4C25-AF39-2F395C0CCB8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78920" y="98100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ference and disruption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culation of Remaining Flexibility per entry/exit 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vestment gap and remedy ident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nimum UGS deliverability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culation of Remaining Flexibility per entry/exit 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ntification of systems where withdraw rates should be hig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culation of required withdraw rates (stock levels) to face the ev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rket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maximization: even reach and multiple maximum re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328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ntification of infrastructure preventing to reach a given supply share in every country (if any limi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minimization: even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328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ntification of infrastructure preventing (if any limitation) to reach the lower lim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/Route diversification index defined by country for both maximum and even re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Remaining flexibility &amp; investment g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95040" y="836280"/>
            <a:ext cx="6251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maining flexibility ind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is defined at 2 level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328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rastruct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328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328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ystem leve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328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ults are provided as ranges: &lt;1% / 1-5% / 5-20% / &gt;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ap identification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nder Reference Case (no disruption), gaps are identified when a system has a Rem. Flex below </a:t>
            </a: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case of disruption, the criteria is decreased to </a:t>
            </a:r>
            <a:r>
              <a:rPr b="0" lang="en-US" sz="1800" spc="-1" strike="noStrike">
                <a:solidFill>
                  <a:srgbClr val="eb7a35"/>
                </a:solidFill>
                <a:latin typeface="Calibri"/>
                <a:ea typeface="Arial"/>
              </a:rPr>
              <a:t>1%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part of the Rem. Flex will have been used to face the 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n congested infrastructure (or supply) are identified based on their Rem. Fl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5360" indent="-3153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otential remedies will be identified using the non-FID projects provided by project promoters (without prior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6DC1-1214-40B2-A96A-A2F138D6526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rcRect l="11099" t="2893" r="5046" b="0"/>
          <a:stretch/>
        </p:blipFill>
        <p:spPr>
          <a:xfrm>
            <a:off x="6346800" y="3645000"/>
            <a:ext cx="2763720" cy="2862000"/>
          </a:xfrm>
          <a:prstGeom prst="rect">
            <a:avLst/>
          </a:prstGeom>
          <a:ln w="0">
            <a:noFill/>
          </a:ln>
        </p:spPr>
      </p:pic>
      <p:pic>
        <p:nvPicPr>
          <p:cNvPr id="657" name="TextBox 4" descr=""/>
          <p:cNvPicPr/>
          <p:nvPr/>
        </p:nvPicPr>
        <p:blipFill>
          <a:blip r:embed="rId2"/>
          <a:stretch/>
        </p:blipFill>
        <p:spPr>
          <a:xfrm>
            <a:off x="2560680" y="1579680"/>
            <a:ext cx="2919240" cy="371520"/>
          </a:xfrm>
          <a:prstGeom prst="rect">
            <a:avLst/>
          </a:prstGeom>
          <a:ln w="0">
            <a:noFill/>
          </a:ln>
        </p:spPr>
      </p:pic>
      <p:pic>
        <p:nvPicPr>
          <p:cNvPr id="658" name="TextBox 5" descr=""/>
          <p:cNvPicPr/>
          <p:nvPr/>
        </p:nvPicPr>
        <p:blipFill>
          <a:blip r:embed="rId3"/>
          <a:stretch/>
        </p:blipFill>
        <p:spPr>
          <a:xfrm>
            <a:off x="2560680" y="2133720"/>
            <a:ext cx="3565440" cy="67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9" name=""/>
          <p:cNvGraphicFramePr/>
          <p:nvPr/>
        </p:nvGraphicFramePr>
        <p:xfrm>
          <a:off x="6278400" y="1368360"/>
          <a:ext cx="2832120" cy="1754280"/>
        </p:xfrm>
        <a:graphic>
          <a:graphicData uri="http://schemas.openxmlformats.org/drawingml/2006/table">
            <a:tbl>
              <a:tblPr/>
              <a:tblGrid>
                <a:gridCol w="28321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pendence to flow patt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Gap and remedy iden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9924-B21C-4BF0-BE45-2ABDCDD5F80B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79280" y="836640"/>
          <a:ext cx="8856720" cy="5126040"/>
        </p:xfrm>
        <a:graphic>
          <a:graphicData uri="http://schemas.openxmlformats.org/drawingml/2006/table">
            <a:tbl>
              <a:tblPr/>
              <a:tblGrid>
                <a:gridCol w="936720"/>
                <a:gridCol w="863640"/>
                <a:gridCol w="1079640"/>
                <a:gridCol w="2376360"/>
                <a:gridCol w="1584360"/>
                <a:gridCol w="792000"/>
                <a:gridCol w="122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D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n-FID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m. F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rtailed dem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g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me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m. F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urtailed dem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4d13b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GWh/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GWh/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GWh/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GWh/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ece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.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7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3" name="TextBox 6"/>
          <p:cNvSpPr/>
          <p:nvPr/>
        </p:nvSpPr>
        <p:spPr>
          <a:xfrm>
            <a:off x="250920" y="6021360"/>
            <a:ext cx="799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Remedies will be identified if within the list of submitted infrastructure pro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pecific reference will be made to the project to ease the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3875040" y="1865160"/>
            <a:ext cx="1254240" cy="3867480"/>
            <a:chOff x="3875040" y="1865160"/>
            <a:chExt cx="1254240" cy="3867480"/>
          </a:xfrm>
        </p:grpSpPr>
        <p:pic>
          <p:nvPicPr>
            <p:cNvPr id="665" name="Rectangle 2" descr=""/>
            <p:cNvPicPr/>
            <p:nvPr/>
          </p:nvPicPr>
          <p:blipFill>
            <a:blip r:embed="rId1"/>
            <a:stretch/>
          </p:blipFill>
          <p:spPr>
            <a:xfrm>
              <a:off x="3875040" y="1865160"/>
              <a:ext cx="125424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Rectangle 7" descr=""/>
            <p:cNvPicPr/>
            <p:nvPr/>
          </p:nvPicPr>
          <p:blipFill>
            <a:blip r:embed="rId2"/>
            <a:stretch/>
          </p:blipFill>
          <p:spPr>
            <a:xfrm>
              <a:off x="3875040" y="2585160"/>
              <a:ext cx="1254240" cy="11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Rectangle 8" descr=""/>
            <p:cNvPicPr/>
            <p:nvPr/>
          </p:nvPicPr>
          <p:blipFill>
            <a:blip r:embed="rId3"/>
            <a:stretch/>
          </p:blipFill>
          <p:spPr>
            <a:xfrm>
              <a:off x="3875040" y="3310200"/>
              <a:ext cx="12542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Rectangle 9" descr=""/>
            <p:cNvPicPr/>
            <p:nvPr/>
          </p:nvPicPr>
          <p:blipFill>
            <a:blip r:embed="rId4"/>
            <a:stretch/>
          </p:blipFill>
          <p:spPr>
            <a:xfrm>
              <a:off x="3875040" y="4030200"/>
              <a:ext cx="1254240" cy="10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Rectangle 10" descr=""/>
            <p:cNvPicPr/>
            <p:nvPr/>
          </p:nvPicPr>
          <p:blipFill>
            <a:blip r:embed="rId5"/>
            <a:stretch/>
          </p:blipFill>
          <p:spPr>
            <a:xfrm>
              <a:off x="3875040" y="4637160"/>
              <a:ext cx="1254240" cy="10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Group 11"/>
          <p:cNvGrpSpPr/>
          <p:nvPr/>
        </p:nvGrpSpPr>
        <p:grpSpPr>
          <a:xfrm>
            <a:off x="5867280" y="1933560"/>
            <a:ext cx="1254240" cy="3865680"/>
            <a:chOff x="5867280" y="1933560"/>
            <a:chExt cx="1254240" cy="3865680"/>
          </a:xfrm>
        </p:grpSpPr>
        <p:pic>
          <p:nvPicPr>
            <p:cNvPr id="671" name="Rectangle 12" descr=""/>
            <p:cNvPicPr/>
            <p:nvPr/>
          </p:nvPicPr>
          <p:blipFill>
            <a:blip r:embed="rId6"/>
            <a:stretch/>
          </p:blipFill>
          <p:spPr>
            <a:xfrm>
              <a:off x="5867280" y="1933560"/>
              <a:ext cx="125424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Rectangle 13" descr=""/>
            <p:cNvPicPr/>
            <p:nvPr/>
          </p:nvPicPr>
          <p:blipFill>
            <a:blip r:embed="rId7"/>
            <a:stretch/>
          </p:blipFill>
          <p:spPr>
            <a:xfrm>
              <a:off x="5867280" y="2653200"/>
              <a:ext cx="125424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Rectangle 14" descr=""/>
            <p:cNvPicPr/>
            <p:nvPr/>
          </p:nvPicPr>
          <p:blipFill>
            <a:blip r:embed="rId8"/>
            <a:stretch/>
          </p:blipFill>
          <p:spPr>
            <a:xfrm>
              <a:off x="5867280" y="3377880"/>
              <a:ext cx="125424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Rectangle 15" descr=""/>
            <p:cNvPicPr/>
            <p:nvPr/>
          </p:nvPicPr>
          <p:blipFill>
            <a:blip r:embed="rId9"/>
            <a:stretch/>
          </p:blipFill>
          <p:spPr>
            <a:xfrm>
              <a:off x="5867280" y="4097880"/>
              <a:ext cx="125424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Rectangle 16" descr=""/>
            <p:cNvPicPr/>
            <p:nvPr/>
          </p:nvPicPr>
          <p:blipFill>
            <a:blip r:embed="rId10"/>
            <a:stretch/>
          </p:blipFill>
          <p:spPr>
            <a:xfrm>
              <a:off x="5867280" y="4704480"/>
              <a:ext cx="1254240" cy="109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TYNDP conc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F85D-F9DD-4C2A-8F76-A5A05B75E313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9280" y="1052280"/>
            <a:ext cx="8425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ssessment of the European gas infrastructur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ing a network development plan, TYNDP focuses on infrastru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adequacy outlook has to be checked at aggregated European level and at local one (balancing zone) as demand and supply levels and locations have a direct influence on the need of infrastru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sidered scenarios/cases have to be stressful but still real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p-down layer enabling the identification of trends and impacts that cannot be identified at national level because of a very meshed European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sults consist i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9084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dicators assessing SoS, Market Integration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9084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ntification of investment gaps hampering demand 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90840" indent="-31896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SOG TYNDP is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fore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 assessment of the good implementation of market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strategic study of producing/transit 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2924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Indicators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(still to be discussed with stakehold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3011-7FCA-425D-BE3F-33B8AD51BD72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Supply diver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3C46-9DC3-48B0-8A94-EDC19A559F6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24000" y="907920"/>
            <a:ext cx="820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mpacting supply 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share of a given supply source able to induce a significant impact on pr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hould it be calculated in comparison with the total supply or the total impor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YNDP 2011-2020 used mostly 5% (identifying also systems with more than 20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map, supply shares should be represented with figures or rang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rcRect l="5833" t="14800" r="62833" b="44800"/>
          <a:stretch/>
        </p:blipFill>
        <p:spPr>
          <a:xfrm>
            <a:off x="5022720" y="3645000"/>
            <a:ext cx="4021200" cy="2160360"/>
          </a:xfrm>
          <a:prstGeom prst="rect">
            <a:avLst/>
          </a:prstGeom>
          <a:ln w="0">
            <a:noFill/>
          </a:ln>
        </p:spPr>
      </p:pic>
      <p:sp>
        <p:nvSpPr>
          <p:cNvPr id="682" name="Content Placeholder 2"/>
          <p:cNvSpPr/>
          <p:nvPr/>
        </p:nvSpPr>
        <p:spPr>
          <a:xfrm>
            <a:off x="260280" y="3068640"/>
            <a:ext cx="4967280" cy="29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diversification from a market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uld be based on the uniform or maximum sp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ch is the minimum share of a given source to be conside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to deal with LNG embedded diversification (e.g. highlighting the presence of LNG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 a benchmark (e.g. 3 sources required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Route diver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5E86-2800-4D4F-92BD-1871AA71AA1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24000" y="824040"/>
            <a:ext cx="820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ry Capacity Concentration ind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sed on the same logic than HHI but calculated on the share of an entry capacity in the total ent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supply diversification index may be defined the same way using the flows coming from supply sources but index will then depend on flow pattern (which could be mitigated through a sensitivity stud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5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5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564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Content Placeholder 2"/>
          <p:cNvSpPr/>
          <p:nvPr/>
        </p:nvSpPr>
        <p:spPr>
          <a:xfrm>
            <a:off x="320760" y="4218120"/>
            <a:ext cx="85168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it Capacity Concentratio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ilar indicators may defined based on exit capacity in order to measure how a system may support supply/route diver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ult should be compared to the idealistic situation taking into account the number of cross-b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6"/>
          <p:cNvGrpSpPr/>
          <p:nvPr/>
        </p:nvGrpSpPr>
        <p:grpSpPr>
          <a:xfrm>
            <a:off x="179280" y="2963880"/>
            <a:ext cx="2106720" cy="1079640"/>
            <a:chOff x="179280" y="2963880"/>
            <a:chExt cx="2106720" cy="1079640"/>
          </a:xfrm>
        </p:grpSpPr>
        <p:grpSp>
          <p:nvGrpSpPr>
            <p:cNvPr id="688" name="Group 7"/>
            <p:cNvGrpSpPr/>
            <p:nvPr/>
          </p:nvGrpSpPr>
          <p:grpSpPr>
            <a:xfrm>
              <a:off x="629280" y="2963880"/>
              <a:ext cx="1656720" cy="1079640"/>
              <a:chOff x="629280" y="2963880"/>
              <a:chExt cx="1656720" cy="1079640"/>
            </a:xfrm>
          </p:grpSpPr>
          <p:sp>
            <p:nvSpPr>
              <p:cNvPr id="689" name="Rounded Rectangle 9"/>
              <p:cNvSpPr/>
              <p:nvPr/>
            </p:nvSpPr>
            <p:spPr>
              <a:xfrm>
                <a:off x="909360" y="2963880"/>
                <a:ext cx="1376640" cy="1079640"/>
              </a:xfrm>
              <a:prstGeom prst="roundRect">
                <a:avLst>
                  <a:gd name="adj" fmla="val 16667"/>
                </a:avLst>
              </a:prstGeom>
              <a:solidFill>
                <a:srgbClr val="b4d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0" name="Down Arrow 10"/>
              <p:cNvGrpSpPr/>
              <p:nvPr/>
            </p:nvGrpSpPr>
            <p:grpSpPr>
              <a:xfrm>
                <a:off x="629280" y="3255120"/>
                <a:ext cx="560160" cy="542160"/>
                <a:chOff x="629280" y="3255120"/>
                <a:chExt cx="560160" cy="542160"/>
              </a:xfrm>
            </p:grpSpPr>
            <p:pic>
              <p:nvPicPr>
                <p:cNvPr id="691" name="Down Arrow 1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9280" y="3255120"/>
                  <a:ext cx="560160" cy="54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2" name=""/>
                <p:cNvSpPr/>
                <p:nvPr/>
              </p:nvSpPr>
              <p:spPr>
                <a:xfrm rot="16200000">
                  <a:off x="749160" y="3330000"/>
                  <a:ext cx="216000" cy="34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3" name="TextBox 8"/>
            <p:cNvSpPr/>
            <p:nvPr/>
          </p:nvSpPr>
          <p:spPr>
            <a:xfrm>
              <a:off x="179280" y="3049200"/>
              <a:ext cx="9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1"/>
          <p:cNvGrpSpPr/>
          <p:nvPr/>
        </p:nvGrpSpPr>
        <p:grpSpPr>
          <a:xfrm>
            <a:off x="4365720" y="2679840"/>
            <a:ext cx="3338280" cy="1592280"/>
            <a:chOff x="4365720" y="2679840"/>
            <a:chExt cx="3338280" cy="1592280"/>
          </a:xfrm>
        </p:grpSpPr>
        <p:sp>
          <p:nvSpPr>
            <p:cNvPr id="695" name="Isosceles Triangle 12"/>
            <p:cNvSpPr/>
            <p:nvPr/>
          </p:nvSpPr>
          <p:spPr>
            <a:xfrm>
              <a:off x="6021720" y="3611880"/>
              <a:ext cx="327960" cy="216000"/>
            </a:xfrm>
            <a:prstGeom prst="triangle">
              <a:avLst>
                <a:gd name="adj" fmla="val 50000"/>
              </a:avLst>
            </a:prstGeom>
            <a:solidFill>
              <a:srgbClr val="b4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Group 13"/>
            <p:cNvGrpSpPr/>
            <p:nvPr/>
          </p:nvGrpSpPr>
          <p:grpSpPr>
            <a:xfrm>
              <a:off x="4927680" y="2729520"/>
              <a:ext cx="1876320" cy="1542600"/>
              <a:chOff x="4927680" y="2729520"/>
              <a:chExt cx="1876320" cy="1542600"/>
            </a:xfrm>
          </p:grpSpPr>
          <p:sp>
            <p:nvSpPr>
              <p:cNvPr id="697" name="Rounded Rectangle 18"/>
              <p:cNvSpPr/>
              <p:nvPr/>
            </p:nvSpPr>
            <p:spPr>
              <a:xfrm>
                <a:off x="5219280" y="2992320"/>
                <a:ext cx="1359720" cy="1008720"/>
              </a:xfrm>
              <a:prstGeom prst="roundRect">
                <a:avLst>
                  <a:gd name="adj" fmla="val 16667"/>
                </a:avLst>
              </a:prstGeom>
              <a:solidFill>
                <a:srgbClr val="b4d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8" name="Down Arrow 19"/>
              <p:cNvGrpSpPr/>
              <p:nvPr/>
            </p:nvGrpSpPr>
            <p:grpSpPr>
              <a:xfrm>
                <a:off x="4927680" y="3264480"/>
                <a:ext cx="581400" cy="506520"/>
                <a:chOff x="4927680" y="3264480"/>
                <a:chExt cx="581400" cy="506520"/>
              </a:xfrm>
            </p:grpSpPr>
            <p:pic>
              <p:nvPicPr>
                <p:cNvPr id="699" name="Down Arrow 1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927680" y="3264480"/>
                  <a:ext cx="58140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0" name=""/>
                <p:cNvSpPr/>
                <p:nvPr/>
              </p:nvSpPr>
              <p:spPr>
                <a:xfrm rot="16200000">
                  <a:off x="5067360" y="3309120"/>
                  <a:ext cx="201600" cy="37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Down Arrow 20"/>
              <p:cNvGrpSpPr/>
              <p:nvPr/>
            </p:nvGrpSpPr>
            <p:grpSpPr>
              <a:xfrm>
                <a:off x="5750640" y="2729520"/>
                <a:ext cx="512280" cy="574920"/>
                <a:chOff x="5750640" y="2729520"/>
                <a:chExt cx="512280" cy="574920"/>
              </a:xfrm>
            </p:grpSpPr>
            <p:pic>
              <p:nvPicPr>
                <p:cNvPr id="702" name="Down Arrow 2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750640" y="2729520"/>
                  <a:ext cx="512280" cy="57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3" name=""/>
                <p:cNvSpPr/>
                <p:nvPr/>
              </p:nvSpPr>
              <p:spPr>
                <a:xfrm>
                  <a:off x="5903280" y="2756880"/>
                  <a:ext cx="20376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Isosceles Triangle 21"/>
              <p:cNvGrpSpPr/>
              <p:nvPr/>
            </p:nvGrpSpPr>
            <p:grpSpPr>
              <a:xfrm>
                <a:off x="5802480" y="3264480"/>
                <a:ext cx="512280" cy="574920"/>
                <a:chOff x="5802480" y="3264480"/>
                <a:chExt cx="512280" cy="574920"/>
              </a:xfrm>
            </p:grpSpPr>
            <p:pic>
              <p:nvPicPr>
                <p:cNvPr id="705" name="Isosceles Triangle 2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802480" y="3264480"/>
                  <a:ext cx="512280" cy="57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6" name=""/>
                <p:cNvSpPr/>
                <p:nvPr/>
              </p:nvSpPr>
              <p:spPr>
                <a:xfrm>
                  <a:off x="5957280" y="3530160"/>
                  <a:ext cx="2037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Flowchart: Delay 22"/>
              <p:cNvGrpSpPr/>
              <p:nvPr/>
            </p:nvGrpSpPr>
            <p:grpSpPr>
              <a:xfrm>
                <a:off x="6159600" y="3765600"/>
                <a:ext cx="644400" cy="506520"/>
                <a:chOff x="6159600" y="3765600"/>
                <a:chExt cx="644400" cy="506520"/>
              </a:xfrm>
            </p:grpSpPr>
            <p:pic>
              <p:nvPicPr>
                <p:cNvPr id="708" name="Flowchart: Delay 2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159600" y="3765600"/>
                  <a:ext cx="644400" cy="50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9" name=""/>
                <p:cNvSpPr/>
                <p:nvPr/>
              </p:nvSpPr>
              <p:spPr>
                <a:xfrm rot="16200000">
                  <a:off x="6308640" y="3832200"/>
                  <a:ext cx="344520" cy="38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0" name="TextBox 14"/>
            <p:cNvSpPr/>
            <p:nvPr/>
          </p:nvSpPr>
          <p:spPr>
            <a:xfrm>
              <a:off x="4365720" y="30578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4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Box 15"/>
            <p:cNvSpPr/>
            <p:nvPr/>
          </p:nvSpPr>
          <p:spPr>
            <a:xfrm>
              <a:off x="5285880" y="26798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Box 16"/>
            <p:cNvSpPr/>
            <p:nvPr/>
          </p:nvSpPr>
          <p:spPr>
            <a:xfrm>
              <a:off x="6228000" y="328788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Box 17"/>
            <p:cNvSpPr/>
            <p:nvPr/>
          </p:nvSpPr>
          <p:spPr>
            <a:xfrm>
              <a:off x="6804000" y="385920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Box 2"/>
          <p:cNvSpPr/>
          <p:nvPr/>
        </p:nvSpPr>
        <p:spPr>
          <a:xfrm>
            <a:off x="2298600" y="32083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C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²= 1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24"/>
          <p:cNvSpPr/>
          <p:nvPr/>
        </p:nvSpPr>
        <p:spPr>
          <a:xfrm>
            <a:off x="7254720" y="2940120"/>
            <a:ext cx="15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C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²+30²+20²+10²= 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ounded Rectangle 25"/>
          <p:cNvSpPr/>
          <p:nvPr/>
        </p:nvSpPr>
        <p:spPr>
          <a:xfrm>
            <a:off x="1111320" y="5989680"/>
            <a:ext cx="662472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4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s for all indicators, analysis is more robust when comparing situation of one country between 2 c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Range of infrastructure use in the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99680" y="1197000"/>
            <a:ext cx="82486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ynthetic indicator can be derived from all sim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dicator can be defined for every syst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cross-border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GS aggreg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NG aggreg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ge would be defined base on the highest and lowest load factor of the 198 simulations (not considering Reference Ca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E0F1-3B58-4BBB-A76A-950B5654147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Chart 5" descr=""/>
          <p:cNvPicPr/>
          <p:nvPr/>
        </p:nvPicPr>
        <p:blipFill>
          <a:blip r:embed="rId1"/>
          <a:stretch/>
        </p:blipFill>
        <p:spPr>
          <a:xfrm>
            <a:off x="4286160" y="357192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721" name="TextBox 4"/>
          <p:cNvSpPr/>
          <p:nvPr/>
        </p:nvSpPr>
        <p:spPr>
          <a:xfrm>
            <a:off x="468360" y="3716280"/>
            <a:ext cx="359892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use may be outside these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bustness could be improved with a sensitivity study around each simulation modifying slightly the supply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itle 4"/>
          <p:cNvSpPr/>
          <p:nvPr/>
        </p:nvSpPr>
        <p:spPr>
          <a:xfrm>
            <a:off x="611280" y="2530440"/>
            <a:ext cx="79293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ＭＳ Ｐゴシック"/>
              </a:rPr>
              <a:t>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ＭＳ Ｐゴシック"/>
              </a:rPr>
              <a:t>Definition of the referenc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0"/>
          <p:cNvSpPr/>
          <p:nvPr/>
        </p:nvSpPr>
        <p:spPr>
          <a:xfrm>
            <a:off x="8317080" y="6356520"/>
            <a:ext cx="358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917A-6A4D-4601-8FB1-8BD8EFB42F52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3B20-8EEA-4C6F-BE88-85E96BD000C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New approach: a more realistic reference ca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Espace réservé du contenu 2"/>
          <p:cNvSpPr/>
          <p:nvPr/>
        </p:nvSpPr>
        <p:spPr>
          <a:xfrm>
            <a:off x="303120" y="1235160"/>
            <a:ext cx="863136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ition of Potential levels of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ily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shares by sour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erage 2009-2010-2011 on the ENTSOG historical data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shares by ro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import flows by route are proportional to the historical utilization of the routes – average 2009-2010-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ak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certain share of LNG is treated as pipeline gas -&gt; Daily minimum LNG import. The remaining LNG import capacity, as well as the UGS are used as last resource sources, with common load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ipeline imports are defined by the historical daily maximums by source (or by rou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itle 4"/>
          <p:cNvSpPr/>
          <p:nvPr/>
        </p:nvSpPr>
        <p:spPr>
          <a:xfrm>
            <a:off x="611280" y="2530440"/>
            <a:ext cx="79293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ＭＳ Ｐゴシック"/>
              </a:rPr>
              <a:t>Definition of the referenc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ＭＳ Ｐゴシック"/>
              </a:rPr>
              <a:t>AVERAG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10"/>
          <p:cNvSpPr/>
          <p:nvPr/>
        </p:nvSpPr>
        <p:spPr>
          <a:xfrm>
            <a:off x="8317080" y="6356520"/>
            <a:ext cx="358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8591-C099-4EBE-AE8C-AC59ADFE7A24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Average daily supply share – Reference Ca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0931-DB5E-4E65-88C0-426FAC1A3687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08000" y="1557360"/>
          <a:ext cx="8826480" cy="3701880"/>
        </p:xfrm>
        <a:graphic>
          <a:graphicData uri="http://schemas.openxmlformats.org/drawingml/2006/table">
            <a:tbl>
              <a:tblPr/>
              <a:tblGrid>
                <a:gridCol w="2227320"/>
                <a:gridCol w="1346040"/>
                <a:gridCol w="1252440"/>
                <a:gridCol w="1192320"/>
                <a:gridCol w="1224000"/>
                <a:gridCol w="1584360"/>
              </a:tblGrid>
              <a:tr h="26352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ration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ra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Wh/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596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596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 Dem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 (5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3   (5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7   (5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   (5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 (4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7   (4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13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 (4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5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ba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ADB0-21D5-4C74-8661-6BEE62674267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New approach: a more realistic reference ca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Espace réservé du contenu 2"/>
          <p:cNvSpPr/>
          <p:nvPr/>
        </p:nvSpPr>
        <p:spPr>
          <a:xfrm>
            <a:off x="303120" y="1235160"/>
            <a:ext cx="863136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Definition of Potential levels of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ily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shares by sour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erage 2009-2010-2011 on the ENTSOG historical data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shares by ro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import flows by route are proportional to the historical utilization of the routes – average 2009-2010-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Peak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A certain share of LNG is treated as pipeline gas -&gt; Daily minimum LNG import. The remaining LNG import capacity, as well as the UGS are used as last resource sources, with common load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The pipeline imports are defined by the historical daily maximums by source (or by rou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CF0D-2DF7-4B86-8A62-80ACCCAFC53A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58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aily Average: Supply shares by Sour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Espace réservé du contenu 2"/>
          <p:cNvSpPr/>
          <p:nvPr/>
        </p:nvSpPr>
        <p:spPr>
          <a:xfrm>
            <a:off x="303120" y="1046160"/>
            <a:ext cx="863136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rting point: Average 2009-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yan exception: Avoid the effect of Libyan disruption, it’s contribution to the supply share measured by the average 2009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mall changes in the supply shares by sou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contenu 2"/>
          <p:cNvSpPr/>
          <p:nvPr/>
        </p:nvSpPr>
        <p:spPr>
          <a:xfrm>
            <a:off x="1547640" y="2492280"/>
            <a:ext cx="266400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er sh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28584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28584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space réservé du contenu 2"/>
          <p:cNvSpPr/>
          <p:nvPr/>
        </p:nvSpPr>
        <p:spPr>
          <a:xfrm>
            <a:off x="4427640" y="2492280"/>
            <a:ext cx="259236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gher sh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285840">
              <a:lnSpc>
                <a:spcPct val="100000"/>
              </a:lnSpc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Chart 9" descr=""/>
          <p:cNvPicPr/>
          <p:nvPr/>
        </p:nvPicPr>
        <p:blipFill>
          <a:blip r:embed="rId1"/>
          <a:stretch/>
        </p:blipFill>
        <p:spPr>
          <a:xfrm>
            <a:off x="1212840" y="3432240"/>
            <a:ext cx="6126120" cy="33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8000" y="18108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Process tim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DD9B-71E3-4F1B-B9B8-61508807812F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36160" y="4797000"/>
            <a:ext cx="8712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rom concept to re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cept derived from previous TYNDP consultation, ACER’s opinion and SJW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 will be presented and explained during June WS to facilitate future underst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ata collection and report drafting can then start based on a mature 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01680" indent="-3016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42840" y="946080"/>
            <a:ext cx="902664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17"/>
          <p:cNvGrpSpPr/>
          <p:nvPr/>
        </p:nvGrpSpPr>
        <p:grpSpPr>
          <a:xfrm>
            <a:off x="1332000" y="1809720"/>
            <a:ext cx="6480000" cy="3960720"/>
            <a:chOff x="1332000" y="1809720"/>
            <a:chExt cx="6480000" cy="3960720"/>
          </a:xfrm>
        </p:grpSpPr>
        <p:pic>
          <p:nvPicPr>
            <p:cNvPr id="742" name="Chart 14" descr=""/>
            <p:cNvPicPr/>
            <p:nvPr/>
          </p:nvPicPr>
          <p:blipFill>
            <a:blip r:embed="rId1"/>
            <a:stretch/>
          </p:blipFill>
          <p:spPr>
            <a:xfrm>
              <a:off x="1332000" y="1809720"/>
              <a:ext cx="6480000" cy="39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Chart 13" descr=""/>
            <p:cNvPicPr/>
            <p:nvPr/>
          </p:nvPicPr>
          <p:blipFill>
            <a:blip r:embed="rId2"/>
            <a:stretch/>
          </p:blipFill>
          <p:spPr>
            <a:xfrm>
              <a:off x="1940760" y="1809720"/>
              <a:ext cx="5706720" cy="365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6FEB-1DA4-4BA1-9070-4AAF18178F9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358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aily Average: Supply shares by Sour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Espace réservé du contenu 2"/>
          <p:cNvSpPr/>
          <p:nvPr/>
        </p:nvSpPr>
        <p:spPr>
          <a:xfrm>
            <a:off x="303120" y="1162080"/>
            <a:ext cx="8631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ly potential level by source: Medium supply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1"/>
          <p:cNvSpPr/>
          <p:nvPr/>
        </p:nvSpPr>
        <p:spPr>
          <a:xfrm>
            <a:off x="825120" y="5805360"/>
            <a:ext cx="34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rk colours: Average shares 2008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10"/>
          <p:cNvSpPr/>
          <p:nvPr/>
        </p:nvSpPr>
        <p:spPr>
          <a:xfrm>
            <a:off x="4492080" y="5805360"/>
            <a:ext cx="39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ght colours: Average shares 2009-2010-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4C82-35EF-4258-8AFF-9E963DF18FC7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"/>
          <p:cNvSpPr/>
          <p:nvPr/>
        </p:nvSpPr>
        <p:spPr>
          <a:xfrm>
            <a:off x="179280" y="2384280"/>
            <a:ext cx="1297080" cy="936720"/>
          </a:xfrm>
          <a:prstGeom prst="rect">
            <a:avLst/>
          </a:prstGeom>
          <a:solidFill>
            <a:srgbClr val="b4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Straight Arrow Connector 8"/>
          <p:cNvCxnSpPr/>
          <p:nvPr/>
        </p:nvCxnSpPr>
        <p:spPr>
          <a:xfrm>
            <a:off x="869760" y="1665000"/>
            <a:ext cx="1080" cy="719640"/>
          </a:xfrm>
          <a:prstGeom prst="straightConnector1">
            <a:avLst/>
          </a:prstGeom>
          <a:ln w="9360">
            <a:solidFill>
              <a:srgbClr val="fedd35"/>
            </a:solidFill>
            <a:miter/>
            <a:tailEnd len="med" type="triangle" w="med"/>
          </a:ln>
        </p:spPr>
      </p:cxnSp>
      <p:cxnSp>
        <p:nvCxnSpPr>
          <p:cNvPr id="752" name="Straight Arrow Connector 10"/>
          <p:cNvCxnSpPr/>
          <p:nvPr/>
        </p:nvCxnSpPr>
        <p:spPr>
          <a:xfrm>
            <a:off x="406080" y="1665000"/>
            <a:ext cx="1080" cy="719640"/>
          </a:xfrm>
          <a:prstGeom prst="straightConnector1">
            <a:avLst/>
          </a:prstGeom>
          <a:ln w="9360">
            <a:solidFill>
              <a:srgbClr val="fedd35"/>
            </a:solidFill>
            <a:miter/>
            <a:tailEnd len="med" type="triangle" w="med"/>
          </a:ln>
        </p:spPr>
      </p:cxnSp>
      <p:sp>
        <p:nvSpPr>
          <p:cNvPr id="753" name="Rectangle 12"/>
          <p:cNvSpPr/>
          <p:nvPr/>
        </p:nvSpPr>
        <p:spPr>
          <a:xfrm>
            <a:off x="179280" y="1268280"/>
            <a:ext cx="1297080" cy="4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f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9"/>
          <p:cNvSpPr/>
          <p:nvPr/>
        </p:nvSpPr>
        <p:spPr>
          <a:xfrm>
            <a:off x="49320" y="18813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14"/>
          <p:cNvSpPr/>
          <p:nvPr/>
        </p:nvSpPr>
        <p:spPr>
          <a:xfrm>
            <a:off x="517680" y="18986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16"/>
          <p:cNvSpPr/>
          <p:nvPr/>
        </p:nvSpPr>
        <p:spPr>
          <a:xfrm>
            <a:off x="1619280" y="1150920"/>
            <a:ext cx="7345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YNDP 2011-2020 – Common route sh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 1 – Balance: 6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1 – Technical capacity: 3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2 – Technical capacity: 3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3 – Technical capacity: 4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technical capacity: 1000 Units: Load-factor: 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1 – 18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2 – 18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3 -  24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9"/>
          <p:cNvSpPr/>
          <p:nvPr/>
        </p:nvSpPr>
        <p:spPr>
          <a:xfrm>
            <a:off x="254160" y="3600360"/>
            <a:ext cx="83912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f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istorical load-factor of the routes (last 3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ute  1 – 50% - 150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ute 2 – 70% - 210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ute 3 – 40% - 160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tal:  520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route share according to the historical 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ute 1 = 600 * (150/520) = 173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ute 2 = 600 * (210/520) = 242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ute 3 = 600 * (160/520) = 184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8" name="Straight Arrow Connector 22"/>
          <p:cNvCxnSpPr/>
          <p:nvPr/>
        </p:nvCxnSpPr>
        <p:spPr>
          <a:xfrm>
            <a:off x="1331640" y="1700280"/>
            <a:ext cx="1080" cy="721440"/>
          </a:xfrm>
          <a:prstGeom prst="straightConnector1">
            <a:avLst/>
          </a:prstGeom>
          <a:ln w="9360">
            <a:solidFill>
              <a:srgbClr val="fedd35"/>
            </a:solidFill>
            <a:miter/>
            <a:tailEnd len="med" type="triangle" w="med"/>
          </a:ln>
        </p:spPr>
      </p:cxnSp>
      <p:sp>
        <p:nvSpPr>
          <p:cNvPr id="759" name="TextBox 23"/>
          <p:cNvSpPr/>
          <p:nvPr/>
        </p:nvSpPr>
        <p:spPr>
          <a:xfrm>
            <a:off x="992160" y="1897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a3f82"/>
                </a:solidFill>
                <a:latin typeface="Calibri"/>
                <a:ea typeface="Arial"/>
              </a:rPr>
              <a:t>Supply shares by ro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5FFA-83B9-476A-86AE-26C325FAB0C6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Espace réservé du contenu 2"/>
          <p:cNvSpPr/>
          <p:nvPr/>
        </p:nvSpPr>
        <p:spPr>
          <a:xfrm>
            <a:off x="303120" y="1046160"/>
            <a:ext cx="8631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ssian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a3f82"/>
                </a:solidFill>
                <a:latin typeface="Calibri"/>
                <a:ea typeface="Arial"/>
              </a:rPr>
              <a:t>Supply shares by route. Results’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Espace réservé du contenu 2"/>
          <p:cNvSpPr/>
          <p:nvPr/>
        </p:nvSpPr>
        <p:spPr>
          <a:xfrm>
            <a:off x="303120" y="1557360"/>
            <a:ext cx="8631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big differences between the historical load factors of the different routes lead to a significant change in the import shares by route when substituting the average load factor by a historical-based route sh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e to the lack of historical data, an average load factor is used for Nordstre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Chart 12" descr=""/>
          <p:cNvPicPr/>
          <p:nvPr/>
        </p:nvPicPr>
        <p:blipFill>
          <a:blip r:embed="rId1"/>
          <a:stretch/>
        </p:blipFill>
        <p:spPr>
          <a:xfrm>
            <a:off x="298440" y="3236760"/>
            <a:ext cx="86374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6B84-6EC4-4B55-BBD3-7BE14E6172C0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ifferent approaches: Results tes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Chart 6" descr=""/>
          <p:cNvPicPr/>
          <p:nvPr/>
        </p:nvPicPr>
        <p:blipFill>
          <a:blip r:embed="rId1"/>
          <a:stretch/>
        </p:blipFill>
        <p:spPr>
          <a:xfrm>
            <a:off x="165240" y="1298520"/>
            <a:ext cx="4333680" cy="3359160"/>
          </a:xfrm>
          <a:prstGeom prst="rect">
            <a:avLst/>
          </a:prstGeom>
          <a:ln w="0">
            <a:noFill/>
          </a:ln>
        </p:spPr>
      </p:pic>
      <p:pic>
        <p:nvPicPr>
          <p:cNvPr id="769" name="Chart 7" descr=""/>
          <p:cNvPicPr/>
          <p:nvPr/>
        </p:nvPicPr>
        <p:blipFill>
          <a:blip r:embed="rId2"/>
          <a:stretch/>
        </p:blipFill>
        <p:spPr>
          <a:xfrm>
            <a:off x="4541760" y="1268280"/>
            <a:ext cx="4541760" cy="3407040"/>
          </a:xfrm>
          <a:prstGeom prst="rect">
            <a:avLst/>
          </a:prstGeom>
          <a:ln w="0">
            <a:noFill/>
          </a:ln>
        </p:spPr>
      </p:pic>
      <p:sp>
        <p:nvSpPr>
          <p:cNvPr id="770" name="Espace réservé du contenu 2"/>
          <p:cNvSpPr/>
          <p:nvPr/>
        </p:nvSpPr>
        <p:spPr>
          <a:xfrm>
            <a:off x="303120" y="4797360"/>
            <a:ext cx="863136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average historical load factor of the Ukraine to Slovakia route (62%) is significantly over the Russian average (50%), therefore the utilization of this route would be significantly lower when considering an homogeneous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ame is happening for the Belarus to Poland route (including Yamal), where the average historical load factor is 6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087C-CE1A-480B-A926-447424D1D67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ifferent approaches: Results tes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Espace réservé du contenu 2"/>
          <p:cNvSpPr/>
          <p:nvPr/>
        </p:nvSpPr>
        <p:spPr>
          <a:xfrm>
            <a:off x="303120" y="4797360"/>
            <a:ext cx="863136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e to the low average historical load factor of the route from Ukraine to Romania (7%) the utilization of an homogeneous load factor values would lead to  too high import flows through this rout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ething similar is found for the route from Ukraine to Hungary where the average historical load factor is 33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Chart 9" descr=""/>
          <p:cNvPicPr/>
          <p:nvPr/>
        </p:nvPicPr>
        <p:blipFill>
          <a:blip r:embed="rId1"/>
          <a:stretch/>
        </p:blipFill>
        <p:spPr>
          <a:xfrm>
            <a:off x="176040" y="1195560"/>
            <a:ext cx="4322880" cy="3108240"/>
          </a:xfrm>
          <a:prstGeom prst="rect">
            <a:avLst/>
          </a:prstGeom>
          <a:ln w="0">
            <a:noFill/>
          </a:ln>
        </p:spPr>
      </p:pic>
      <p:pic>
        <p:nvPicPr>
          <p:cNvPr id="775" name="Chart 10" descr=""/>
          <p:cNvPicPr/>
          <p:nvPr/>
        </p:nvPicPr>
        <p:blipFill>
          <a:blip r:embed="rId2"/>
          <a:stretch/>
        </p:blipFill>
        <p:spPr>
          <a:xfrm>
            <a:off x="4614840" y="1238400"/>
            <a:ext cx="4353120" cy="30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itle 4"/>
          <p:cNvSpPr/>
          <p:nvPr/>
        </p:nvSpPr>
        <p:spPr>
          <a:xfrm>
            <a:off x="611280" y="2530440"/>
            <a:ext cx="79293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ＭＳ Ｐゴシック"/>
              </a:rPr>
              <a:t>Definition of the referenc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ＭＳ Ｐゴシック"/>
              </a:rPr>
              <a:t>PEAK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10"/>
          <p:cNvSpPr/>
          <p:nvPr/>
        </p:nvSpPr>
        <p:spPr>
          <a:xfrm>
            <a:off x="8317080" y="6356520"/>
            <a:ext cx="358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C9A6-6542-4D75-B24C-C6BF663191D6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High daily supply share – Reference Ca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134E-E302-4B13-BE29-06F210175EC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250920" y="2060640"/>
          <a:ext cx="8424720" cy="3946320"/>
        </p:xfrm>
        <a:graphic>
          <a:graphicData uri="http://schemas.openxmlformats.org/drawingml/2006/table">
            <a:tbl>
              <a:tblPr/>
              <a:tblGrid>
                <a:gridCol w="1728720"/>
                <a:gridCol w="2232000"/>
                <a:gridCol w="1511280"/>
                <a:gridCol w="1513080"/>
                <a:gridCol w="1439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Wh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</a:tr>
              <a:tr h="3661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 Dem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</a:tr>
              <a:tr h="3661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Daily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</a:tr>
              <a:tr h="3661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Daily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</a:tr>
              <a:tr h="6404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covered by UGS and LNG at same load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1" name=""/>
          <p:cNvGraphicFramePr/>
          <p:nvPr/>
        </p:nvGraphicFramePr>
        <p:xfrm>
          <a:off x="250920" y="765000"/>
          <a:ext cx="8353440" cy="11844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39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Wh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 2008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erage daily 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igh Daily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3b"/>
                    </a:solidFill>
                  </a:tcPr>
                </a:tc>
              </a:tr>
              <a:tr h="39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ce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ly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e8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069A-0246-4828-9092-CDD2816EEBC6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Proposed changes/impro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1"/>
          <p:cNvSpPr/>
          <p:nvPr/>
        </p:nvSpPr>
        <p:spPr>
          <a:xfrm>
            <a:off x="179280" y="2384280"/>
            <a:ext cx="1297080" cy="936720"/>
          </a:xfrm>
          <a:prstGeom prst="rect">
            <a:avLst/>
          </a:prstGeom>
          <a:solidFill>
            <a:srgbClr val="b4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Straight Arrow Connector 8"/>
          <p:cNvCxnSpPr/>
          <p:nvPr/>
        </p:nvCxnSpPr>
        <p:spPr>
          <a:xfrm>
            <a:off x="1128240" y="1665000"/>
            <a:ext cx="1080" cy="719640"/>
          </a:xfrm>
          <a:prstGeom prst="straightConnector1">
            <a:avLst/>
          </a:prstGeom>
          <a:ln w="9360">
            <a:solidFill>
              <a:srgbClr val="fedd35"/>
            </a:solidFill>
            <a:miter/>
            <a:tailEnd len="med" type="triangle" w="med"/>
          </a:ln>
        </p:spPr>
      </p:cxnSp>
      <p:cxnSp>
        <p:nvCxnSpPr>
          <p:cNvPr id="786" name="Straight Arrow Connector 10"/>
          <p:cNvCxnSpPr/>
          <p:nvPr/>
        </p:nvCxnSpPr>
        <p:spPr>
          <a:xfrm>
            <a:off x="624960" y="1665000"/>
            <a:ext cx="1080" cy="719640"/>
          </a:xfrm>
          <a:prstGeom prst="straightConnector1">
            <a:avLst/>
          </a:prstGeom>
          <a:ln w="9360">
            <a:solidFill>
              <a:srgbClr val="fedd35"/>
            </a:solidFill>
            <a:miter/>
            <a:tailEnd len="med" type="triangle" w="med"/>
          </a:ln>
        </p:spPr>
      </p:cxnSp>
      <p:sp>
        <p:nvSpPr>
          <p:cNvPr id="787" name="Rectangle 12"/>
          <p:cNvSpPr/>
          <p:nvPr/>
        </p:nvSpPr>
        <p:spPr>
          <a:xfrm>
            <a:off x="179280" y="1268280"/>
            <a:ext cx="1297080" cy="4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f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9"/>
          <p:cNvSpPr/>
          <p:nvPr/>
        </p:nvSpPr>
        <p:spPr>
          <a:xfrm>
            <a:off x="268200" y="18813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4"/>
          <p:cNvSpPr/>
          <p:nvPr/>
        </p:nvSpPr>
        <p:spPr>
          <a:xfrm>
            <a:off x="776160" y="18986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6"/>
          <p:cNvSpPr/>
          <p:nvPr/>
        </p:nvSpPr>
        <p:spPr>
          <a:xfrm>
            <a:off x="1619280" y="1150920"/>
            <a:ext cx="734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ximum Historical supply from Source1: 13,000 Units – specific d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1: 7,5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2: 5,5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ximum non-simultaneous supply from Source 1: 14,0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1: 8,0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ute 2: 6,0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storical yearly supply from Source 1: 3,650,000 Units – Average 10,000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7"/>
          <p:cNvSpPr/>
          <p:nvPr/>
        </p:nvSpPr>
        <p:spPr>
          <a:xfrm>
            <a:off x="179280" y="364500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ak supply from source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8"/>
          <p:cNvSpPr/>
          <p:nvPr/>
        </p:nvSpPr>
        <p:spPr>
          <a:xfrm>
            <a:off x="111240" y="3954600"/>
            <a:ext cx="3539880" cy="22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YNDP 2011-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ximum non-simultaneous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ak factor: Maximum/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14,000/10,000 ~ 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pply the historical peak factor to the “estimated” volumes in the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is approach has been said to be to optimistic as the maximum flexibility may have been rea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9"/>
          <p:cNvSpPr/>
          <p:nvPr/>
        </p:nvSpPr>
        <p:spPr>
          <a:xfrm>
            <a:off x="3719520" y="3959280"/>
            <a:ext cx="5245200" cy="204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f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LTERN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aximum historical daily values without yearly volumes consider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aximum simultaneous supply (13,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aximum non-simultaneous supply (14,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Volume consideration - Peak fact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From the maximum simultaneous supply ~ 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From the maximum non simultaneous supply ~ 1,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647920" y="5675400"/>
            <a:ext cx="3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21"/>
          <p:cNvSpPr/>
          <p:nvPr/>
        </p:nvSpPr>
        <p:spPr>
          <a:xfrm>
            <a:off x="4932360" y="612144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*) Follow the TYNDP 2011-2020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440C-F4F6-44DC-8CAA-57FFE70C402E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New approach: a more realistic reference ca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Espace réservé du contenu 2"/>
          <p:cNvSpPr/>
          <p:nvPr/>
        </p:nvSpPr>
        <p:spPr>
          <a:xfrm>
            <a:off x="303120" y="1235160"/>
            <a:ext cx="863136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Definition of Potential levels of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Daily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Supply shares by sour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Average 2009-2010-2011 on the ENTSOG historical data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Supply shares by rou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9d9d9"/>
                </a:solidFill>
                <a:latin typeface="Calibri"/>
                <a:ea typeface="ＭＳ Ｐゴシック"/>
              </a:rPr>
              <a:t>The import flows by route are proportional to the historical utilization of the routes – average 2009-2010-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ak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certain share of LNG is treated as pipeline gas -&gt; Daily minimum LNG import. The remaining LNG import capacity, as well as the UGS are used as last resource sources, with common load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ipeline imports are defined by the historical daily maximums by source (or by rou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4CDE-57DE-4278-8D04-0B57379C381D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ifferent approaches: Results tes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Espace réservé du contenu 2"/>
          <p:cNvSpPr/>
          <p:nvPr/>
        </p:nvSpPr>
        <p:spPr>
          <a:xfrm>
            <a:off x="303120" y="1046160"/>
            <a:ext cx="8631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ily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7"/>
          <p:cNvSpPr/>
          <p:nvPr/>
        </p:nvSpPr>
        <p:spPr>
          <a:xfrm>
            <a:off x="318960" y="1557360"/>
            <a:ext cx="86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ximum historical daily values without yearly volumes consid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aximum simultaneous supply -&gt; OP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aximum non-simultaneous supply -&gt; OP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olume consideration - Peak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From the maximum simultaneous supply  -&gt; OP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From the maximum non simultaneous supply -&gt; OPTION D   (TYNDP 2011-20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7" descr=""/>
          <p:cNvPicPr/>
          <p:nvPr/>
        </p:nvPicPr>
        <p:blipFill>
          <a:blip r:embed="rId1"/>
          <a:stretch/>
        </p:blipFill>
        <p:spPr>
          <a:xfrm>
            <a:off x="982800" y="3529080"/>
            <a:ext cx="701496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Report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8D76-3F4F-4929-98DC-79DE9A7F5AA4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9280" y="981000"/>
            <a:ext cx="8425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ggregated supply adequacy outl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mand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y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uropean gas infra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verview of current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rastructure scenarios translated into mixed network-market top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frastructure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finition of cases and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vestment gap ident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dicators assessing level of SoS and Market Inte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n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tailed country and project profi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put and output data from the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E54F-A095-4F74-83FD-CCB6FA4C4B21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ifferent approaches: Results tes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6" name="Chart 7" descr=""/>
          <p:cNvPicPr/>
          <p:nvPr/>
        </p:nvPicPr>
        <p:blipFill>
          <a:blip r:embed="rId1"/>
          <a:stretch/>
        </p:blipFill>
        <p:spPr>
          <a:xfrm>
            <a:off x="92160" y="1047600"/>
            <a:ext cx="4535280" cy="3043440"/>
          </a:xfrm>
          <a:prstGeom prst="rect">
            <a:avLst/>
          </a:prstGeom>
          <a:ln w="0">
            <a:noFill/>
          </a:ln>
        </p:spPr>
      </p:pic>
      <p:pic>
        <p:nvPicPr>
          <p:cNvPr id="807" name="Chart 9" descr=""/>
          <p:cNvPicPr/>
          <p:nvPr/>
        </p:nvPicPr>
        <p:blipFill>
          <a:blip r:embed="rId2"/>
          <a:stretch/>
        </p:blipFill>
        <p:spPr>
          <a:xfrm>
            <a:off x="4730760" y="1047600"/>
            <a:ext cx="4327560" cy="3043440"/>
          </a:xfrm>
          <a:prstGeom prst="rect">
            <a:avLst/>
          </a:prstGeom>
          <a:ln w="0">
            <a:noFill/>
          </a:ln>
        </p:spPr>
      </p:pic>
      <p:pic>
        <p:nvPicPr>
          <p:cNvPr id="808" name="Chart 11" descr=""/>
          <p:cNvPicPr/>
          <p:nvPr/>
        </p:nvPicPr>
        <p:blipFill>
          <a:blip r:embed="rId3"/>
          <a:stretch/>
        </p:blipFill>
        <p:spPr>
          <a:xfrm>
            <a:off x="4827600" y="4017960"/>
            <a:ext cx="4206960" cy="2438280"/>
          </a:xfrm>
          <a:prstGeom prst="rect">
            <a:avLst/>
          </a:prstGeom>
          <a:ln w="0">
            <a:noFill/>
          </a:ln>
        </p:spPr>
      </p:pic>
      <p:pic>
        <p:nvPicPr>
          <p:cNvPr id="809" name="Chart 12" descr=""/>
          <p:cNvPicPr/>
          <p:nvPr/>
        </p:nvPicPr>
        <p:blipFill>
          <a:blip r:embed="rId4"/>
          <a:stretch/>
        </p:blipFill>
        <p:spPr>
          <a:xfrm>
            <a:off x="158760" y="3962520"/>
            <a:ext cx="446868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A8E4-AE1E-4FF0-8F3B-6BAF309C8003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Different approaches: Results tes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Chart 8" descr=""/>
          <p:cNvPicPr/>
          <p:nvPr/>
        </p:nvPicPr>
        <p:blipFill>
          <a:blip r:embed="rId1"/>
          <a:stretch/>
        </p:blipFill>
        <p:spPr>
          <a:xfrm>
            <a:off x="609480" y="974880"/>
            <a:ext cx="6035760" cy="2749320"/>
          </a:xfrm>
          <a:prstGeom prst="rect">
            <a:avLst/>
          </a:prstGeom>
          <a:ln w="0">
            <a:noFill/>
          </a:ln>
        </p:spPr>
      </p:pic>
      <p:pic>
        <p:nvPicPr>
          <p:cNvPr id="813" name="Chart 10" descr=""/>
          <p:cNvPicPr/>
          <p:nvPr/>
        </p:nvPicPr>
        <p:blipFill>
          <a:blip r:embed="rId2"/>
          <a:stretch/>
        </p:blipFill>
        <p:spPr>
          <a:xfrm>
            <a:off x="749160" y="3786120"/>
            <a:ext cx="6012000" cy="27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B30A-57F9-4BCB-95D2-681738E3B4AE}" type="slidenum">
              <a:rPr b="0" lang="fr-B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989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5"/>
          <p:cNvSpPr/>
          <p:nvPr/>
        </p:nvSpPr>
        <p:spPr>
          <a:xfrm>
            <a:off x="2419560" y="3867120"/>
            <a:ext cx="42984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Olivier Lebois &amp; Carmen Rodriguez, Advisers, System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NTSOG -- European Network of Transmission System Operators for 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Avenue de Cortenbergh 100, B-1000 Bruss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ML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livier.Lebois@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rmen.Rodriguez@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: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+ 32 2 894 5105 / 51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WWW:   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ntsog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European gas infra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4D30-C9E4-48EA-8F60-6833AFF3CB59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Overview of current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268280"/>
            <a:ext cx="8143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asis for better understanding of future investment use/n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se the comparison for the feeling of missing infrastructure under current market conditions and under an optimized use of infrastru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vide background to infrastructur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20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imilar information than the ones provided by Syst. Dev. m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ference 2009, 2010 &amp;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rmation at aggregated cross-border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formation provided on seasonal or yearly basi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verage f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ximum fl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2A47-43E6-4277-B510-5E02D6DA3775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Single Corner Rectangle 244"/>
          <p:cNvSpPr/>
          <p:nvPr/>
        </p:nvSpPr>
        <p:spPr>
          <a:xfrm>
            <a:off x="3708360" y="6140520"/>
            <a:ext cx="1295280" cy="601560"/>
          </a:xfrm>
          <a:custGeom>
            <a:avLst/>
            <a:gdLst/>
            <a:ahLst/>
            <a:rect l="l" t="t" r="r" b="b"/>
            <a:pathLst>
              <a:path w="1296144" h="600998">
                <a:moveTo>
                  <a:pt x="0" y="0"/>
                </a:moveTo>
                <a:lnTo>
                  <a:pt x="1195976" y="0"/>
                </a:lnTo>
                <a:cubicBezTo>
                  <a:pt x="1251297" y="0"/>
                  <a:pt x="1296144" y="44847"/>
                  <a:pt x="1296144" y="100168"/>
                </a:cubicBezTo>
                <a:lnTo>
                  <a:pt x="1296144" y="600998"/>
                </a:lnTo>
                <a:lnTo>
                  <a:pt x="0" y="60099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117360" y="579600"/>
            <a:ext cx="9069480" cy="6254640"/>
            <a:chOff x="117360" y="579600"/>
            <a:chExt cx="9069480" cy="6254640"/>
          </a:xfrm>
        </p:grpSpPr>
        <p:grpSp>
          <p:nvGrpSpPr>
            <p:cNvPr id="263" name="Group 18"/>
            <p:cNvGrpSpPr/>
            <p:nvPr/>
          </p:nvGrpSpPr>
          <p:grpSpPr>
            <a:xfrm>
              <a:off x="3723480" y="3075840"/>
              <a:ext cx="576000" cy="1246320"/>
              <a:chOff x="3723480" y="3075840"/>
              <a:chExt cx="576000" cy="1246320"/>
            </a:xfrm>
          </p:grpSpPr>
          <p:grpSp>
            <p:nvGrpSpPr>
              <p:cNvPr id="264" name="Rounded Rectangle 171"/>
              <p:cNvGrpSpPr/>
              <p:nvPr/>
            </p:nvGrpSpPr>
            <p:grpSpPr>
              <a:xfrm>
                <a:off x="3723480" y="3075840"/>
                <a:ext cx="576000" cy="1246320"/>
                <a:chOff x="3723480" y="3075840"/>
                <a:chExt cx="576000" cy="1246320"/>
              </a:xfrm>
            </p:grpSpPr>
            <p:pic>
              <p:nvPicPr>
                <p:cNvPr id="265" name="Rounded Rectangle 17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23480" y="3075840"/>
                  <a:ext cx="576000" cy="124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" name=""/>
                <p:cNvSpPr/>
                <p:nvPr/>
              </p:nvSpPr>
              <p:spPr>
                <a:xfrm>
                  <a:off x="3775680" y="3128760"/>
                  <a:ext cx="472320" cy="11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Oval 169"/>
              <p:cNvGrpSpPr/>
              <p:nvPr/>
            </p:nvGrpSpPr>
            <p:grpSpPr>
              <a:xfrm>
                <a:off x="3767760" y="3739680"/>
                <a:ext cx="504000" cy="535680"/>
                <a:chOff x="3767760" y="3739680"/>
                <a:chExt cx="504000" cy="535680"/>
              </a:xfrm>
            </p:grpSpPr>
            <p:pic>
              <p:nvPicPr>
                <p:cNvPr id="268" name="Oval 16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67760" y="3739680"/>
                  <a:ext cx="504000" cy="53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9" name=""/>
                <p:cNvSpPr/>
                <p:nvPr/>
              </p:nvSpPr>
              <p:spPr>
                <a:xfrm>
                  <a:off x="3857760" y="3835080"/>
                  <a:ext cx="32400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2a3f82"/>
                      </a:solidFill>
                      <a:latin typeface="Calibri"/>
                    </a:rPr>
                    <a:t>D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Group 271"/>
            <p:cNvGrpSpPr/>
            <p:nvPr/>
          </p:nvGrpSpPr>
          <p:grpSpPr>
            <a:xfrm>
              <a:off x="117360" y="579600"/>
              <a:ext cx="9069480" cy="6254640"/>
              <a:chOff x="117360" y="579600"/>
              <a:chExt cx="9069480" cy="6254640"/>
            </a:xfrm>
          </p:grpSpPr>
          <p:sp>
            <p:nvSpPr>
              <p:cNvPr id="271" name="Straight Connector 190"/>
              <p:cNvSpPr/>
              <p:nvPr/>
            </p:nvSpPr>
            <p:spPr>
              <a:xfrm>
                <a:off x="663120" y="3247560"/>
                <a:ext cx="215280" cy="0"/>
              </a:xfrm>
              <a:prstGeom prst="line">
                <a:avLst/>
              </a:prstGeom>
              <a:ln w="19080">
                <a:solidFill>
                  <a:srgbClr val="2a3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Straight Connector 191"/>
              <p:cNvSpPr/>
              <p:nvPr/>
            </p:nvSpPr>
            <p:spPr>
              <a:xfrm>
                <a:off x="654480" y="4092840"/>
                <a:ext cx="388080" cy="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Straight Connector 188"/>
              <p:cNvSpPr/>
              <p:nvPr/>
            </p:nvSpPr>
            <p:spPr>
              <a:xfrm flipV="1">
                <a:off x="1039320" y="2091600"/>
                <a:ext cx="0" cy="374832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Straight Connector 174"/>
              <p:cNvSpPr/>
              <p:nvPr/>
            </p:nvSpPr>
            <p:spPr>
              <a:xfrm>
                <a:off x="878760" y="1840320"/>
                <a:ext cx="455760" cy="0"/>
              </a:xfrm>
              <a:prstGeom prst="line">
                <a:avLst/>
              </a:prstGeom>
              <a:ln w="19080">
                <a:solidFill>
                  <a:srgbClr val="2a3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Straight Connector 165"/>
              <p:cNvSpPr/>
              <p:nvPr/>
            </p:nvSpPr>
            <p:spPr>
              <a:xfrm flipH="1" flipV="1">
                <a:off x="878400" y="1827000"/>
                <a:ext cx="3240" cy="3684600"/>
              </a:xfrm>
              <a:prstGeom prst="line">
                <a:avLst/>
              </a:prstGeom>
              <a:ln w="19080">
                <a:solidFill>
                  <a:srgbClr val="2a3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Oval 3"/>
              <p:cNvGrpSpPr/>
              <p:nvPr/>
            </p:nvGrpSpPr>
            <p:grpSpPr>
              <a:xfrm>
                <a:off x="117360" y="3809880"/>
                <a:ext cx="559080" cy="560520"/>
                <a:chOff x="117360" y="3809880"/>
                <a:chExt cx="559080" cy="560520"/>
              </a:xfrm>
            </p:grpSpPr>
            <p:pic>
              <p:nvPicPr>
                <p:cNvPr id="277" name="Oval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7360" y="3809880"/>
                  <a:ext cx="559080" cy="56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"/>
                <p:cNvSpPr/>
                <p:nvPr/>
              </p:nvSpPr>
              <p:spPr>
                <a:xfrm>
                  <a:off x="216720" y="3911760"/>
                  <a:ext cx="35532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Calibri"/>
                    </a:rPr>
                    <a:t>NP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Oval 4"/>
              <p:cNvGrpSpPr/>
              <p:nvPr/>
            </p:nvGrpSpPr>
            <p:grpSpPr>
              <a:xfrm>
                <a:off x="123120" y="1944720"/>
                <a:ext cx="559080" cy="560520"/>
                <a:chOff x="123120" y="1944720"/>
                <a:chExt cx="559080" cy="560520"/>
              </a:xfrm>
            </p:grpSpPr>
            <p:pic>
              <p:nvPicPr>
                <p:cNvPr id="280" name="Oval 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3120" y="1944720"/>
                  <a:ext cx="559080" cy="56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225000" y="2047680"/>
                  <a:ext cx="35532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Calibri"/>
                    </a:rPr>
                    <a:t>UG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Oval 6"/>
              <p:cNvGrpSpPr/>
              <p:nvPr/>
            </p:nvGrpSpPr>
            <p:grpSpPr>
              <a:xfrm>
                <a:off x="117360" y="2962800"/>
                <a:ext cx="559080" cy="554400"/>
                <a:chOff x="117360" y="2962800"/>
                <a:chExt cx="559080" cy="554400"/>
              </a:xfrm>
            </p:grpSpPr>
            <p:pic>
              <p:nvPicPr>
                <p:cNvPr id="283" name="Oval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7360" y="2962800"/>
                  <a:ext cx="559080" cy="55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16720" y="3061800"/>
                  <a:ext cx="35532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ffffff"/>
                      </a:solidFill>
                      <a:latin typeface="Calibri"/>
                    </a:rPr>
                    <a:t>LN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245"/>
              <p:cNvGrpSpPr/>
              <p:nvPr/>
            </p:nvGrpSpPr>
            <p:grpSpPr>
              <a:xfrm>
                <a:off x="1443960" y="579600"/>
                <a:ext cx="7742880" cy="6254640"/>
                <a:chOff x="1443960" y="579600"/>
                <a:chExt cx="7742880" cy="6254640"/>
              </a:xfrm>
            </p:grpSpPr>
            <p:grpSp>
              <p:nvGrpSpPr>
                <p:cNvPr id="286" name="Rounded Rectangle 258"/>
                <p:cNvGrpSpPr/>
                <p:nvPr/>
              </p:nvGrpSpPr>
              <p:grpSpPr>
                <a:xfrm>
                  <a:off x="7147080" y="4190040"/>
                  <a:ext cx="1538640" cy="621720"/>
                  <a:chOff x="7147080" y="4190040"/>
                  <a:chExt cx="1538640" cy="621720"/>
                </a:xfrm>
              </p:grpSpPr>
              <p:pic>
                <p:nvPicPr>
                  <p:cNvPr id="287" name="Rounded Rectangle 2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7080" y="4190040"/>
                    <a:ext cx="1538640" cy="62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8" name=""/>
                  <p:cNvSpPr/>
                  <p:nvPr/>
                </p:nvSpPr>
                <p:spPr>
                  <a:xfrm rot="16200000">
                    <a:off x="7658640" y="3786480"/>
                    <a:ext cx="514800" cy="142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Rounded Rectangle 257"/>
                <p:cNvGrpSpPr/>
                <p:nvPr/>
              </p:nvGrpSpPr>
              <p:grpSpPr>
                <a:xfrm>
                  <a:off x="5740920" y="1937880"/>
                  <a:ext cx="627480" cy="1352160"/>
                  <a:chOff x="5740920" y="1937880"/>
                  <a:chExt cx="627480" cy="1352160"/>
                </a:xfrm>
              </p:grpSpPr>
              <p:pic>
                <p:nvPicPr>
                  <p:cNvPr id="290" name="Rounded Rectangle 25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40920" y="1937880"/>
                    <a:ext cx="627480" cy="13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1" name=""/>
                  <p:cNvSpPr/>
                  <p:nvPr/>
                </p:nvSpPr>
                <p:spPr>
                  <a:xfrm>
                    <a:off x="5798520" y="1992960"/>
                    <a:ext cx="514800" cy="123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Rounded Rectangle 239"/>
                <p:cNvGrpSpPr/>
                <p:nvPr/>
              </p:nvGrpSpPr>
              <p:grpSpPr>
                <a:xfrm>
                  <a:off x="2367000" y="2994480"/>
                  <a:ext cx="621360" cy="2040480"/>
                  <a:chOff x="2367000" y="2994480"/>
                  <a:chExt cx="621360" cy="2040480"/>
                </a:xfrm>
              </p:grpSpPr>
              <p:pic>
                <p:nvPicPr>
                  <p:cNvPr id="293" name="Rounded Rectangle 2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7000" y="2994480"/>
                    <a:ext cx="621360" cy="20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4" name=""/>
                  <p:cNvSpPr/>
                  <p:nvPr/>
                </p:nvSpPr>
                <p:spPr>
                  <a:xfrm>
                    <a:off x="2420280" y="3052800"/>
                    <a:ext cx="514440" cy="192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5" name="Straight Connector 42"/>
                <p:cNvSpPr/>
                <p:nvPr/>
              </p:nvSpPr>
              <p:spPr>
                <a:xfrm>
                  <a:off x="2939400" y="1873800"/>
                  <a:ext cx="799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" name="Oval 7"/>
                <p:cNvGrpSpPr/>
                <p:nvPr/>
              </p:nvGrpSpPr>
              <p:grpSpPr>
                <a:xfrm>
                  <a:off x="3055320" y="857160"/>
                  <a:ext cx="555120" cy="555120"/>
                  <a:chOff x="3055320" y="857160"/>
                  <a:chExt cx="555120" cy="555120"/>
                </a:xfrm>
              </p:grpSpPr>
              <p:pic>
                <p:nvPicPr>
                  <p:cNvPr id="297" name="Oval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55320" y="85716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" name=""/>
                  <p:cNvSpPr/>
                  <p:nvPr/>
                </p:nvSpPr>
                <p:spPr>
                  <a:xfrm>
                    <a:off x="3156840" y="9590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N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Oval 8"/>
                <p:cNvGrpSpPr/>
                <p:nvPr/>
              </p:nvGrpSpPr>
              <p:grpSpPr>
                <a:xfrm>
                  <a:off x="3055320" y="2058480"/>
                  <a:ext cx="555120" cy="555120"/>
                  <a:chOff x="3055320" y="2058480"/>
                  <a:chExt cx="555120" cy="555120"/>
                </a:xfrm>
              </p:grpSpPr>
              <p:pic>
                <p:nvPicPr>
                  <p:cNvPr id="300" name="Oval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5320" y="20584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1" name=""/>
                  <p:cNvSpPr/>
                  <p:nvPr/>
                </p:nvSpPr>
                <p:spPr>
                  <a:xfrm>
                    <a:off x="3156840" y="21596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BE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Oval 9"/>
                <p:cNvGrpSpPr/>
                <p:nvPr/>
              </p:nvGrpSpPr>
              <p:grpSpPr>
                <a:xfrm>
                  <a:off x="2403360" y="1569600"/>
                  <a:ext cx="555120" cy="555120"/>
                  <a:chOff x="2403360" y="1569600"/>
                  <a:chExt cx="555120" cy="555120"/>
                </a:xfrm>
              </p:grpSpPr>
              <p:pic>
                <p:nvPicPr>
                  <p:cNvPr id="303" name="Oval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03360" y="156960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4" name=""/>
                  <p:cNvSpPr/>
                  <p:nvPr/>
                </p:nvSpPr>
                <p:spPr>
                  <a:xfrm>
                    <a:off x="2504520" y="16722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UK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Oval 10"/>
                <p:cNvGrpSpPr/>
                <p:nvPr/>
              </p:nvGrpSpPr>
              <p:grpSpPr>
                <a:xfrm>
                  <a:off x="1715400" y="1569600"/>
                  <a:ext cx="555120" cy="555120"/>
                  <a:chOff x="1715400" y="1569600"/>
                  <a:chExt cx="555120" cy="555120"/>
                </a:xfrm>
              </p:grpSpPr>
              <p:pic>
                <p:nvPicPr>
                  <p:cNvPr id="306" name="Oval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15400" y="156960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7" name=""/>
                  <p:cNvSpPr/>
                  <p:nvPr/>
                </p:nvSpPr>
                <p:spPr>
                  <a:xfrm>
                    <a:off x="1816200" y="16722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IE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Oval 11"/>
                <p:cNvGrpSpPr/>
                <p:nvPr/>
              </p:nvGrpSpPr>
              <p:grpSpPr>
                <a:xfrm>
                  <a:off x="3713040" y="1569600"/>
                  <a:ext cx="555120" cy="555120"/>
                  <a:chOff x="3713040" y="1569600"/>
                  <a:chExt cx="555120" cy="555120"/>
                </a:xfrm>
              </p:grpSpPr>
              <p:pic>
                <p:nvPicPr>
                  <p:cNvPr id="309" name="Oval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13040" y="156960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0" name=""/>
                  <p:cNvSpPr/>
                  <p:nvPr/>
                </p:nvSpPr>
                <p:spPr>
                  <a:xfrm>
                    <a:off x="3812040" y="16722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NL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Oval 12"/>
                <p:cNvGrpSpPr/>
                <p:nvPr/>
              </p:nvGrpSpPr>
              <p:grpSpPr>
                <a:xfrm>
                  <a:off x="3055320" y="2741040"/>
                  <a:ext cx="555120" cy="549360"/>
                  <a:chOff x="3055320" y="2741040"/>
                  <a:chExt cx="555120" cy="549360"/>
                </a:xfrm>
              </p:grpSpPr>
              <p:pic>
                <p:nvPicPr>
                  <p:cNvPr id="312" name="Oval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55320" y="2741040"/>
                    <a:ext cx="5551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3" name=""/>
                  <p:cNvSpPr/>
                  <p:nvPr/>
                </p:nvSpPr>
                <p:spPr>
                  <a:xfrm>
                    <a:off x="3156840" y="2838960"/>
                    <a:ext cx="352800" cy="35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LU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Straight Connector 14"/>
                <p:cNvSpPr/>
                <p:nvPr/>
              </p:nvSpPr>
              <p:spPr>
                <a:xfrm>
                  <a:off x="3525480" y="1312200"/>
                  <a:ext cx="463320" cy="286920"/>
                </a:xfrm>
                <a:prstGeom prst="line">
                  <a:avLst/>
                </a:prstGeom>
                <a:ln w="19080">
                  <a:solidFill>
                    <a:srgbClr val="f2ca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Straight Connector 17"/>
                <p:cNvSpPr/>
                <p:nvPr/>
              </p:nvSpPr>
              <p:spPr>
                <a:xfrm>
                  <a:off x="3333600" y="1385280"/>
                  <a:ext cx="0" cy="701640"/>
                </a:xfrm>
                <a:prstGeom prst="line">
                  <a:avLst/>
                </a:prstGeom>
                <a:ln w="19080">
                  <a:solidFill>
                    <a:srgbClr val="f2ca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Straight Connector 20"/>
                <p:cNvSpPr/>
                <p:nvPr/>
              </p:nvSpPr>
              <p:spPr>
                <a:xfrm flipH="1">
                  <a:off x="2680920" y="1385280"/>
                  <a:ext cx="652320" cy="1668600"/>
                </a:xfrm>
                <a:prstGeom prst="line">
                  <a:avLst/>
                </a:prstGeom>
                <a:ln w="19080">
                  <a:solidFill>
                    <a:srgbClr val="f2ca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Oval 21"/>
                <p:cNvGrpSpPr/>
                <p:nvPr/>
              </p:nvGrpSpPr>
              <p:grpSpPr>
                <a:xfrm>
                  <a:off x="3755160" y="3151440"/>
                  <a:ext cx="555120" cy="555120"/>
                  <a:chOff x="3755160" y="3151440"/>
                  <a:chExt cx="555120" cy="555120"/>
                </a:xfrm>
              </p:grpSpPr>
              <p:pic>
                <p:nvPicPr>
                  <p:cNvPr id="318" name="Oval 2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55160" y="315144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9" name=""/>
                  <p:cNvSpPr/>
                  <p:nvPr/>
                </p:nvSpPr>
                <p:spPr>
                  <a:xfrm>
                    <a:off x="3856680" y="325296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D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Oval 22"/>
                <p:cNvGrpSpPr/>
                <p:nvPr/>
              </p:nvGrpSpPr>
              <p:grpSpPr>
                <a:xfrm>
                  <a:off x="2403360" y="3024720"/>
                  <a:ext cx="555120" cy="555120"/>
                  <a:chOff x="2403360" y="3024720"/>
                  <a:chExt cx="555120" cy="555120"/>
                </a:xfrm>
              </p:grpSpPr>
              <p:pic>
                <p:nvPicPr>
                  <p:cNvPr id="321" name="Oval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03360" y="302472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2" name=""/>
                  <p:cNvSpPr/>
                  <p:nvPr/>
                </p:nvSpPr>
                <p:spPr>
                  <a:xfrm>
                    <a:off x="2504520" y="312696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FR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Oval 23"/>
                <p:cNvGrpSpPr/>
                <p:nvPr/>
              </p:nvGrpSpPr>
              <p:grpSpPr>
                <a:xfrm>
                  <a:off x="2403360" y="3713040"/>
                  <a:ext cx="555120" cy="555120"/>
                  <a:chOff x="2403360" y="3713040"/>
                  <a:chExt cx="555120" cy="555120"/>
                </a:xfrm>
              </p:grpSpPr>
              <p:pic>
                <p:nvPicPr>
                  <p:cNvPr id="324" name="Oval 2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03360" y="371304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5" name=""/>
                  <p:cNvSpPr/>
                  <p:nvPr/>
                </p:nvSpPr>
                <p:spPr>
                  <a:xfrm>
                    <a:off x="2504520" y="381168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FR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Oval 24"/>
                <p:cNvGrpSpPr/>
                <p:nvPr/>
              </p:nvGrpSpPr>
              <p:grpSpPr>
                <a:xfrm>
                  <a:off x="2403360" y="4425480"/>
                  <a:ext cx="555120" cy="555120"/>
                  <a:chOff x="2403360" y="4425480"/>
                  <a:chExt cx="555120" cy="555120"/>
                </a:xfrm>
              </p:grpSpPr>
              <p:pic>
                <p:nvPicPr>
                  <p:cNvPr id="327" name="Oval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03360" y="44254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8" name=""/>
                  <p:cNvSpPr/>
                  <p:nvPr/>
                </p:nvSpPr>
                <p:spPr>
                  <a:xfrm>
                    <a:off x="2504520" y="45248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FR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Straight Connector 28"/>
                <p:cNvSpPr/>
                <p:nvPr/>
              </p:nvSpPr>
              <p:spPr>
                <a:xfrm>
                  <a:off x="3378240" y="1254600"/>
                  <a:ext cx="655200" cy="1925280"/>
                </a:xfrm>
                <a:prstGeom prst="line">
                  <a:avLst/>
                </a:prstGeom>
                <a:ln w="19080">
                  <a:solidFill>
                    <a:srgbClr val="f2ca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Straight Connector 31"/>
                <p:cNvSpPr/>
                <p:nvPr/>
              </p:nvSpPr>
              <p:spPr>
                <a:xfrm>
                  <a:off x="2242080" y="1869120"/>
                  <a:ext cx="189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Straight Connector 2"/>
                <p:cNvSpPr/>
                <p:nvPr/>
              </p:nvSpPr>
              <p:spPr>
                <a:xfrm flipH="1">
                  <a:off x="2680920" y="1312200"/>
                  <a:ext cx="475920" cy="286920"/>
                </a:xfrm>
                <a:prstGeom prst="line">
                  <a:avLst/>
                </a:prstGeom>
                <a:ln w="19080">
                  <a:solidFill>
                    <a:srgbClr val="f2ca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Straight Connector 44"/>
                <p:cNvSpPr/>
                <p:nvPr/>
              </p:nvSpPr>
              <p:spPr>
                <a:xfrm>
                  <a:off x="2844720" y="2054880"/>
                  <a:ext cx="240840" cy="16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Straight Connector 46"/>
                <p:cNvSpPr/>
                <p:nvPr/>
              </p:nvSpPr>
              <p:spPr>
                <a:xfrm flipV="1">
                  <a:off x="3565440" y="2058840"/>
                  <a:ext cx="277920" cy="151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Straight Connector 50"/>
                <p:cNvSpPr/>
                <p:nvPr/>
              </p:nvSpPr>
              <p:spPr>
                <a:xfrm flipV="1">
                  <a:off x="2680920" y="2526480"/>
                  <a:ext cx="473400" cy="527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Straight Connector 52"/>
                <p:cNvSpPr/>
                <p:nvPr/>
              </p:nvSpPr>
              <p:spPr>
                <a:xfrm>
                  <a:off x="3342240" y="2599200"/>
                  <a:ext cx="0" cy="158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Straight Connector 54"/>
                <p:cNvSpPr/>
                <p:nvPr/>
              </p:nvSpPr>
              <p:spPr>
                <a:xfrm>
                  <a:off x="3570120" y="2400120"/>
                  <a:ext cx="463320" cy="77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Straight Connector 56"/>
                <p:cNvSpPr/>
                <p:nvPr/>
              </p:nvSpPr>
              <p:spPr>
                <a:xfrm>
                  <a:off x="2680920" y="3555360"/>
                  <a:ext cx="0" cy="18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Straight Connector 59"/>
                <p:cNvSpPr/>
                <p:nvPr/>
              </p:nvSpPr>
              <p:spPr>
                <a:xfrm flipV="1">
                  <a:off x="2680920" y="4237920"/>
                  <a:ext cx="0" cy="21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Oval 62"/>
                <p:cNvGrpSpPr/>
                <p:nvPr/>
              </p:nvGrpSpPr>
              <p:grpSpPr>
                <a:xfrm>
                  <a:off x="2065320" y="5210280"/>
                  <a:ext cx="555120" cy="555120"/>
                  <a:chOff x="2065320" y="5210280"/>
                  <a:chExt cx="555120" cy="555120"/>
                </a:xfrm>
              </p:grpSpPr>
              <p:pic>
                <p:nvPicPr>
                  <p:cNvPr id="340" name="Oval 6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65320" y="52102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1" name=""/>
                  <p:cNvSpPr/>
                  <p:nvPr/>
                </p:nvSpPr>
                <p:spPr>
                  <a:xfrm>
                    <a:off x="2168280" y="530928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ES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Oval 63"/>
                <p:cNvGrpSpPr/>
                <p:nvPr/>
              </p:nvGrpSpPr>
              <p:grpSpPr>
                <a:xfrm>
                  <a:off x="1443960" y="5210280"/>
                  <a:ext cx="555120" cy="555120"/>
                  <a:chOff x="1443960" y="5210280"/>
                  <a:chExt cx="555120" cy="555120"/>
                </a:xfrm>
              </p:grpSpPr>
              <p:pic>
                <p:nvPicPr>
                  <p:cNvPr id="343" name="Oval 6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43960" y="52102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"/>
                  <p:cNvSpPr/>
                  <p:nvPr/>
                </p:nvSpPr>
                <p:spPr>
                  <a:xfrm>
                    <a:off x="1542600" y="530928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PT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Oval 65"/>
                <p:cNvGrpSpPr/>
                <p:nvPr/>
              </p:nvGrpSpPr>
              <p:grpSpPr>
                <a:xfrm>
                  <a:off x="3055320" y="3924360"/>
                  <a:ext cx="555120" cy="555120"/>
                  <a:chOff x="3055320" y="3924360"/>
                  <a:chExt cx="555120" cy="555120"/>
                </a:xfrm>
              </p:grpSpPr>
              <p:pic>
                <p:nvPicPr>
                  <p:cNvPr id="346" name="Oval 6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055320" y="392436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7" name=""/>
                  <p:cNvSpPr/>
                  <p:nvPr/>
                </p:nvSpPr>
                <p:spPr>
                  <a:xfrm>
                    <a:off x="3156840" y="402588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CH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Oval 66"/>
                <p:cNvGrpSpPr/>
                <p:nvPr/>
              </p:nvGrpSpPr>
              <p:grpSpPr>
                <a:xfrm>
                  <a:off x="3713040" y="4920480"/>
                  <a:ext cx="555120" cy="555120"/>
                  <a:chOff x="3713040" y="4920480"/>
                  <a:chExt cx="555120" cy="555120"/>
                </a:xfrm>
              </p:grpSpPr>
              <p:pic>
                <p:nvPicPr>
                  <p:cNvPr id="349" name="Oval 6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13040" y="49204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0" name=""/>
                  <p:cNvSpPr/>
                  <p:nvPr/>
                </p:nvSpPr>
                <p:spPr>
                  <a:xfrm>
                    <a:off x="3812040" y="502416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IT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Oval 67"/>
                <p:cNvGrpSpPr/>
                <p:nvPr/>
              </p:nvGrpSpPr>
              <p:grpSpPr>
                <a:xfrm>
                  <a:off x="4497480" y="1503000"/>
                  <a:ext cx="555120" cy="549360"/>
                  <a:chOff x="4497480" y="1503000"/>
                  <a:chExt cx="555120" cy="549360"/>
                </a:xfrm>
              </p:grpSpPr>
              <p:pic>
                <p:nvPicPr>
                  <p:cNvPr id="352" name="Oval 6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497480" y="1503000"/>
                    <a:ext cx="5551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3" name=""/>
                  <p:cNvSpPr/>
                  <p:nvPr/>
                </p:nvSpPr>
                <p:spPr>
                  <a:xfrm>
                    <a:off x="4596120" y="1600560"/>
                    <a:ext cx="352800" cy="35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DK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Oval 68"/>
                <p:cNvGrpSpPr/>
                <p:nvPr/>
              </p:nvGrpSpPr>
              <p:grpSpPr>
                <a:xfrm>
                  <a:off x="5137200" y="1001880"/>
                  <a:ext cx="555120" cy="555120"/>
                  <a:chOff x="5137200" y="1001880"/>
                  <a:chExt cx="555120" cy="555120"/>
                </a:xfrm>
              </p:grpSpPr>
              <p:pic>
                <p:nvPicPr>
                  <p:cNvPr id="355" name="Oval 6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37200" y="10018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6" name=""/>
                  <p:cNvSpPr/>
                  <p:nvPr/>
                </p:nvSpPr>
                <p:spPr>
                  <a:xfrm>
                    <a:off x="5238000" y="11012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SE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Oval 69"/>
                <p:cNvGrpSpPr/>
                <p:nvPr/>
              </p:nvGrpSpPr>
              <p:grpSpPr>
                <a:xfrm>
                  <a:off x="4497480" y="3852000"/>
                  <a:ext cx="555120" cy="555120"/>
                  <a:chOff x="4497480" y="3852000"/>
                  <a:chExt cx="555120" cy="555120"/>
                </a:xfrm>
              </p:grpSpPr>
              <p:pic>
                <p:nvPicPr>
                  <p:cNvPr id="358" name="Oval 69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497480" y="385200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9" name=""/>
                  <p:cNvSpPr/>
                  <p:nvPr/>
                </p:nvSpPr>
                <p:spPr>
                  <a:xfrm>
                    <a:off x="4596120" y="39546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AT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Oval 70"/>
                <p:cNvGrpSpPr/>
                <p:nvPr/>
              </p:nvGrpSpPr>
              <p:grpSpPr>
                <a:xfrm>
                  <a:off x="4497480" y="4636800"/>
                  <a:ext cx="555120" cy="555120"/>
                  <a:chOff x="4497480" y="4636800"/>
                  <a:chExt cx="555120" cy="555120"/>
                </a:xfrm>
              </p:grpSpPr>
              <p:pic>
                <p:nvPicPr>
                  <p:cNvPr id="361" name="Oval 7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7480" y="463680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2" name=""/>
                  <p:cNvSpPr/>
                  <p:nvPr/>
                </p:nvSpPr>
                <p:spPr>
                  <a:xfrm>
                    <a:off x="4596120" y="47390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SI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Oval 71"/>
                <p:cNvGrpSpPr/>
                <p:nvPr/>
              </p:nvGrpSpPr>
              <p:grpSpPr>
                <a:xfrm>
                  <a:off x="5137200" y="3284280"/>
                  <a:ext cx="555120" cy="555120"/>
                  <a:chOff x="5137200" y="3284280"/>
                  <a:chExt cx="555120" cy="555120"/>
                </a:xfrm>
              </p:grpSpPr>
              <p:pic>
                <p:nvPicPr>
                  <p:cNvPr id="364" name="Oval 71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137200" y="32842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5" name=""/>
                  <p:cNvSpPr/>
                  <p:nvPr/>
                </p:nvSpPr>
                <p:spPr>
                  <a:xfrm>
                    <a:off x="5238000" y="33836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CZ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Straight Connector 72"/>
                <p:cNvSpPr/>
                <p:nvPr/>
              </p:nvSpPr>
              <p:spPr>
                <a:xfrm flipH="1" flipV="1">
                  <a:off x="2930760" y="3409920"/>
                  <a:ext cx="331200" cy="527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Straight Connector 75"/>
                <p:cNvSpPr/>
                <p:nvPr/>
              </p:nvSpPr>
              <p:spPr>
                <a:xfrm flipH="1" flipV="1">
                  <a:off x="2984040" y="3278880"/>
                  <a:ext cx="799920" cy="15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Straight Connector 77"/>
                <p:cNvSpPr/>
                <p:nvPr/>
              </p:nvSpPr>
              <p:spPr>
                <a:xfrm flipH="1" flipV="1">
                  <a:off x="3592440" y="3021480"/>
                  <a:ext cx="263880" cy="23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Straight Connector 81"/>
                <p:cNvSpPr/>
                <p:nvPr/>
              </p:nvSpPr>
              <p:spPr>
                <a:xfrm flipV="1">
                  <a:off x="2431440" y="4915080"/>
                  <a:ext cx="162720" cy="32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Straight Connector 83"/>
                <p:cNvSpPr/>
                <p:nvPr/>
              </p:nvSpPr>
              <p:spPr>
                <a:xfrm>
                  <a:off x="1987200" y="5486040"/>
                  <a:ext cx="101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Straight Connector 85"/>
                <p:cNvSpPr/>
                <p:nvPr/>
              </p:nvSpPr>
              <p:spPr>
                <a:xfrm flipH="1" flipV="1">
                  <a:off x="3483360" y="4419360"/>
                  <a:ext cx="329040" cy="604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Straight Connector 87"/>
                <p:cNvSpPr/>
                <p:nvPr/>
              </p:nvSpPr>
              <p:spPr>
                <a:xfrm flipH="1">
                  <a:off x="3510000" y="4018680"/>
                  <a:ext cx="282240" cy="7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Straight Connector 89"/>
                <p:cNvSpPr/>
                <p:nvPr/>
              </p:nvSpPr>
              <p:spPr>
                <a:xfrm flipV="1">
                  <a:off x="4154400" y="4307400"/>
                  <a:ext cx="441720" cy="70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Straight Connector 91"/>
                <p:cNvSpPr/>
                <p:nvPr/>
              </p:nvSpPr>
              <p:spPr>
                <a:xfrm flipV="1">
                  <a:off x="4291560" y="3954240"/>
                  <a:ext cx="30492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Straight Connector 94"/>
                <p:cNvSpPr/>
                <p:nvPr/>
              </p:nvSpPr>
              <p:spPr>
                <a:xfrm flipH="1">
                  <a:off x="4218120" y="3560400"/>
                  <a:ext cx="946440" cy="281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Straight Connector 98"/>
                <p:cNvSpPr/>
                <p:nvPr/>
              </p:nvSpPr>
              <p:spPr>
                <a:xfrm flipH="1">
                  <a:off x="4240440" y="5091840"/>
                  <a:ext cx="35532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Straight Connector 100"/>
                <p:cNvSpPr/>
                <p:nvPr/>
              </p:nvSpPr>
              <p:spPr>
                <a:xfrm>
                  <a:off x="4790880" y="438048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Straight Connector 104"/>
                <p:cNvSpPr/>
                <p:nvPr/>
              </p:nvSpPr>
              <p:spPr>
                <a:xfrm flipH="1">
                  <a:off x="4965480" y="1454760"/>
                  <a:ext cx="27216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Straight Connector 106"/>
                <p:cNvSpPr/>
                <p:nvPr/>
              </p:nvSpPr>
              <p:spPr>
                <a:xfrm flipH="1" flipV="1">
                  <a:off x="3988800" y="2098080"/>
                  <a:ext cx="44640" cy="108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Straight Connector 109"/>
                <p:cNvSpPr/>
                <p:nvPr/>
              </p:nvSpPr>
              <p:spPr>
                <a:xfrm flipH="1">
                  <a:off x="4209480" y="1954080"/>
                  <a:ext cx="386280" cy="129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1" name="Oval 114"/>
                <p:cNvGrpSpPr/>
                <p:nvPr/>
              </p:nvGrpSpPr>
              <p:grpSpPr>
                <a:xfrm>
                  <a:off x="5776920" y="2644200"/>
                  <a:ext cx="555120" cy="549360"/>
                  <a:chOff x="5776920" y="2644200"/>
                  <a:chExt cx="555120" cy="549360"/>
                </a:xfrm>
              </p:grpSpPr>
              <p:pic>
                <p:nvPicPr>
                  <p:cNvPr id="382" name="Oval 11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776920" y="2644200"/>
                    <a:ext cx="5551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" name=""/>
                  <p:cNvSpPr/>
                  <p:nvPr/>
                </p:nvSpPr>
                <p:spPr>
                  <a:xfrm>
                    <a:off x="5879520" y="2741760"/>
                    <a:ext cx="352800" cy="35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PL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Oval 115"/>
                <p:cNvGrpSpPr/>
                <p:nvPr/>
              </p:nvGrpSpPr>
              <p:grpSpPr>
                <a:xfrm>
                  <a:off x="5776920" y="4920480"/>
                  <a:ext cx="555120" cy="555120"/>
                  <a:chOff x="5776920" y="4920480"/>
                  <a:chExt cx="555120" cy="555120"/>
                </a:xfrm>
              </p:grpSpPr>
              <p:pic>
                <p:nvPicPr>
                  <p:cNvPr id="385" name="Oval 115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776920" y="49204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" name=""/>
                  <p:cNvSpPr/>
                  <p:nvPr/>
                </p:nvSpPr>
                <p:spPr>
                  <a:xfrm>
                    <a:off x="5879520" y="502416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HR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Oval 116"/>
                <p:cNvGrpSpPr/>
                <p:nvPr/>
              </p:nvGrpSpPr>
              <p:grpSpPr>
                <a:xfrm>
                  <a:off x="6133320" y="4220280"/>
                  <a:ext cx="555120" cy="555120"/>
                  <a:chOff x="6133320" y="4220280"/>
                  <a:chExt cx="555120" cy="555120"/>
                </a:xfrm>
              </p:grpSpPr>
              <p:pic>
                <p:nvPicPr>
                  <p:cNvPr id="388" name="Oval 1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133320" y="42202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9" name=""/>
                  <p:cNvSpPr/>
                  <p:nvPr/>
                </p:nvSpPr>
                <p:spPr>
                  <a:xfrm>
                    <a:off x="6236280" y="43200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HU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Oval 117"/>
                <p:cNvGrpSpPr/>
                <p:nvPr/>
              </p:nvGrpSpPr>
              <p:grpSpPr>
                <a:xfrm>
                  <a:off x="6561720" y="5065560"/>
                  <a:ext cx="555120" cy="555120"/>
                  <a:chOff x="6561720" y="5065560"/>
                  <a:chExt cx="555120" cy="555120"/>
                </a:xfrm>
              </p:grpSpPr>
              <p:pic>
                <p:nvPicPr>
                  <p:cNvPr id="391" name="Oval 117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561720" y="506556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2" name=""/>
                  <p:cNvSpPr/>
                  <p:nvPr/>
                </p:nvSpPr>
                <p:spPr>
                  <a:xfrm>
                    <a:off x="6663960" y="516672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RS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Oval 118"/>
                <p:cNvGrpSpPr/>
                <p:nvPr/>
              </p:nvGrpSpPr>
              <p:grpSpPr>
                <a:xfrm>
                  <a:off x="6561720" y="3284280"/>
                  <a:ext cx="555120" cy="555120"/>
                  <a:chOff x="6561720" y="3284280"/>
                  <a:chExt cx="555120" cy="555120"/>
                </a:xfrm>
              </p:grpSpPr>
              <p:pic>
                <p:nvPicPr>
                  <p:cNvPr id="394" name="Oval 1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61720" y="32842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5" name=""/>
                  <p:cNvSpPr/>
                  <p:nvPr/>
                </p:nvSpPr>
                <p:spPr>
                  <a:xfrm>
                    <a:off x="6663960" y="33836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SK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6" name="Straight Connector 119"/>
                <p:cNvSpPr/>
                <p:nvPr/>
              </p:nvSpPr>
              <p:spPr>
                <a:xfrm flipH="1" flipV="1">
                  <a:off x="5001480" y="5055840"/>
                  <a:ext cx="80460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Straight Connector 121"/>
                <p:cNvSpPr/>
                <p:nvPr/>
              </p:nvSpPr>
              <p:spPr>
                <a:xfrm flipH="1">
                  <a:off x="6127560" y="4721760"/>
                  <a:ext cx="177480" cy="22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Straight Connector 123"/>
                <p:cNvSpPr/>
                <p:nvPr/>
              </p:nvSpPr>
              <p:spPr>
                <a:xfrm flipH="1" flipV="1">
                  <a:off x="5010480" y="4252320"/>
                  <a:ext cx="1152360" cy="244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Straight Connector 125"/>
                <p:cNvSpPr/>
                <p:nvPr/>
              </p:nvSpPr>
              <p:spPr>
                <a:xfrm flipH="1">
                  <a:off x="5022000" y="3736800"/>
                  <a:ext cx="1641240" cy="337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Straight Connector 127"/>
                <p:cNvSpPr/>
                <p:nvPr/>
              </p:nvSpPr>
              <p:spPr>
                <a:xfrm flipH="1">
                  <a:off x="5664240" y="3585240"/>
                  <a:ext cx="926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Straight Connector 129"/>
                <p:cNvSpPr/>
                <p:nvPr/>
              </p:nvSpPr>
              <p:spPr>
                <a:xfrm flipH="1">
                  <a:off x="4282560" y="2988000"/>
                  <a:ext cx="1577160" cy="44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Straight Connector 131"/>
                <p:cNvSpPr/>
                <p:nvPr/>
              </p:nvSpPr>
              <p:spPr>
                <a:xfrm flipH="1">
                  <a:off x="4209840" y="2249280"/>
                  <a:ext cx="1650240" cy="100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8210"/>
                <p:cNvSpPr/>
                <p:nvPr/>
              </p:nvSpPr>
              <p:spPr>
                <a:xfrm>
                  <a:off x="5832000" y="2040840"/>
                  <a:ext cx="473400" cy="4716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2a3f82"/>
                      </a:solidFill>
                      <a:latin typeface="Calibri"/>
                    </a:rPr>
                    <a:t>PL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Straight Connector 134"/>
                <p:cNvSpPr/>
                <p:nvPr/>
              </p:nvSpPr>
              <p:spPr>
                <a:xfrm flipH="1">
                  <a:off x="5586480" y="3116880"/>
                  <a:ext cx="302760" cy="238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Straight Connector 136"/>
                <p:cNvSpPr/>
                <p:nvPr/>
              </p:nvSpPr>
              <p:spPr>
                <a:xfrm>
                  <a:off x="6490800" y="4731120"/>
                  <a:ext cx="349560" cy="36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6" name="Oval 138"/>
                <p:cNvGrpSpPr/>
                <p:nvPr/>
              </p:nvGrpSpPr>
              <p:grpSpPr>
                <a:xfrm>
                  <a:off x="7207560" y="4220280"/>
                  <a:ext cx="549000" cy="555120"/>
                  <a:chOff x="7207560" y="4220280"/>
                  <a:chExt cx="549000" cy="555120"/>
                </a:xfrm>
              </p:grpSpPr>
              <p:pic>
                <p:nvPicPr>
                  <p:cNvPr id="407" name="Oval 138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207560" y="4220280"/>
                    <a:ext cx="54900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8" name=""/>
                  <p:cNvSpPr/>
                  <p:nvPr/>
                </p:nvSpPr>
                <p:spPr>
                  <a:xfrm>
                    <a:off x="7305480" y="43200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RO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9" name="Oval 139"/>
                <p:cNvSpPr/>
                <p:nvPr/>
              </p:nvSpPr>
              <p:spPr>
                <a:xfrm>
                  <a:off x="8088120" y="4246920"/>
                  <a:ext cx="498960" cy="4989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7f7f7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2a3f82"/>
                      </a:solidFill>
                      <a:latin typeface="Calibri"/>
                    </a:rPr>
                    <a:t>RO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0" name="Oval 140"/>
                <p:cNvGrpSpPr/>
                <p:nvPr/>
              </p:nvGrpSpPr>
              <p:grpSpPr>
                <a:xfrm>
                  <a:off x="7629840" y="5210280"/>
                  <a:ext cx="555120" cy="555120"/>
                  <a:chOff x="7629840" y="5210280"/>
                  <a:chExt cx="555120" cy="555120"/>
                </a:xfrm>
              </p:grpSpPr>
              <p:pic>
                <p:nvPicPr>
                  <p:cNvPr id="411" name="Oval 14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629840" y="521028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2" name=""/>
                  <p:cNvSpPr/>
                  <p:nvPr/>
                </p:nvSpPr>
                <p:spPr>
                  <a:xfrm>
                    <a:off x="7733160" y="530928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BG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Oval 141"/>
                <p:cNvGrpSpPr/>
                <p:nvPr/>
              </p:nvGrpSpPr>
              <p:grpSpPr>
                <a:xfrm>
                  <a:off x="6990120" y="5639040"/>
                  <a:ext cx="555120" cy="549360"/>
                  <a:chOff x="6990120" y="5639040"/>
                  <a:chExt cx="555120" cy="549360"/>
                </a:xfrm>
              </p:grpSpPr>
              <p:pic>
                <p:nvPicPr>
                  <p:cNvPr id="414" name="Oval 141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990120" y="5639040"/>
                    <a:ext cx="5551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5" name=""/>
                  <p:cNvSpPr/>
                  <p:nvPr/>
                </p:nvSpPr>
                <p:spPr>
                  <a:xfrm>
                    <a:off x="7091640" y="5737320"/>
                    <a:ext cx="352800" cy="35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FY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Oval 142"/>
                <p:cNvGrpSpPr/>
                <p:nvPr/>
              </p:nvGrpSpPr>
              <p:grpSpPr>
                <a:xfrm>
                  <a:off x="7207560" y="6279120"/>
                  <a:ext cx="549000" cy="555120"/>
                  <a:chOff x="7207560" y="6279120"/>
                  <a:chExt cx="549000" cy="555120"/>
                </a:xfrm>
              </p:grpSpPr>
              <p:pic>
                <p:nvPicPr>
                  <p:cNvPr id="417" name="Oval 14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207560" y="6279120"/>
                    <a:ext cx="54900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8" name=""/>
                  <p:cNvSpPr/>
                  <p:nvPr/>
                </p:nvSpPr>
                <p:spPr>
                  <a:xfrm>
                    <a:off x="7305480" y="637920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GR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Straight Connector 143"/>
                <p:cNvSpPr/>
                <p:nvPr/>
              </p:nvSpPr>
              <p:spPr>
                <a:xfrm>
                  <a:off x="6669000" y="4496400"/>
                  <a:ext cx="563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Straight Connector 147"/>
                <p:cNvSpPr/>
                <p:nvPr/>
              </p:nvSpPr>
              <p:spPr>
                <a:xfrm flipH="1">
                  <a:off x="7444080" y="5600160"/>
                  <a:ext cx="215640" cy="137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Straight Connector 149"/>
                <p:cNvSpPr/>
                <p:nvPr/>
              </p:nvSpPr>
              <p:spPr>
                <a:xfrm flipH="1">
                  <a:off x="7658280" y="5734080"/>
                  <a:ext cx="251280" cy="645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Straight Connector 152"/>
                <p:cNvSpPr/>
                <p:nvPr/>
              </p:nvSpPr>
              <p:spPr>
                <a:xfrm flipH="1">
                  <a:off x="8051040" y="4746240"/>
                  <a:ext cx="215640" cy="525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154"/>
                <p:cNvSpPr/>
                <p:nvPr/>
              </p:nvSpPr>
              <p:spPr>
                <a:xfrm>
                  <a:off x="7660080" y="3310920"/>
                  <a:ext cx="498960" cy="498960"/>
                </a:xfrm>
                <a:prstGeom prst="ellipse">
                  <a:avLst/>
                </a:prstGeom>
                <a:noFill/>
                <a:ln w="19080">
                  <a:solidFill>
                    <a:srgbClr val="c7373b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2a3f82"/>
                      </a:solidFill>
                      <a:latin typeface="Calibri"/>
                    </a:rPr>
                    <a:t>U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155"/>
                <p:cNvSpPr/>
                <p:nvPr/>
              </p:nvSpPr>
              <p:spPr>
                <a:xfrm>
                  <a:off x="7660080" y="2507760"/>
                  <a:ext cx="498960" cy="498960"/>
                </a:xfrm>
                <a:prstGeom prst="ellipse">
                  <a:avLst/>
                </a:prstGeom>
                <a:noFill/>
                <a:ln w="19080">
                  <a:solidFill>
                    <a:srgbClr val="c7373b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000" spc="-1" strike="noStrike">
                      <a:solidFill>
                        <a:srgbClr val="2a3f82"/>
                      </a:solidFill>
                      <a:latin typeface="Calibri"/>
                    </a:rPr>
                    <a:t>B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Oval 156"/>
                <p:cNvGrpSpPr/>
                <p:nvPr/>
              </p:nvGrpSpPr>
              <p:grpSpPr>
                <a:xfrm>
                  <a:off x="7177320" y="1865520"/>
                  <a:ext cx="555120" cy="555120"/>
                  <a:chOff x="7177320" y="1865520"/>
                  <a:chExt cx="555120" cy="555120"/>
                </a:xfrm>
              </p:grpSpPr>
              <p:pic>
                <p:nvPicPr>
                  <p:cNvPr id="426" name="Oval 156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7177320" y="186552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7" name=""/>
                  <p:cNvSpPr/>
                  <p:nvPr/>
                </p:nvSpPr>
                <p:spPr>
                  <a:xfrm>
                    <a:off x="7279200" y="19652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LT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Oval 158"/>
                <p:cNvGrpSpPr/>
                <p:nvPr/>
              </p:nvGrpSpPr>
              <p:grpSpPr>
                <a:xfrm>
                  <a:off x="8058600" y="929520"/>
                  <a:ext cx="555120" cy="555120"/>
                  <a:chOff x="8058600" y="929520"/>
                  <a:chExt cx="555120" cy="555120"/>
                </a:xfrm>
              </p:grpSpPr>
              <p:pic>
                <p:nvPicPr>
                  <p:cNvPr id="429" name="Oval 158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8058600" y="92952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0" name=""/>
                  <p:cNvSpPr/>
                  <p:nvPr/>
                </p:nvSpPr>
                <p:spPr>
                  <a:xfrm>
                    <a:off x="8161200" y="103032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EE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Oval 159"/>
                <p:cNvGrpSpPr/>
                <p:nvPr/>
              </p:nvGrpSpPr>
              <p:grpSpPr>
                <a:xfrm>
                  <a:off x="8631720" y="579600"/>
                  <a:ext cx="555120" cy="555120"/>
                  <a:chOff x="8631720" y="579600"/>
                  <a:chExt cx="555120" cy="555120"/>
                </a:xfrm>
              </p:grpSpPr>
              <p:pic>
                <p:nvPicPr>
                  <p:cNvPr id="432" name="Oval 159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8631720" y="57960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3" name=""/>
                  <p:cNvSpPr/>
                  <p:nvPr/>
                </p:nvSpPr>
                <p:spPr>
                  <a:xfrm>
                    <a:off x="8731080" y="68256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FI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4" name="Straight Connector 160"/>
                <p:cNvSpPr/>
                <p:nvPr/>
              </p:nvSpPr>
              <p:spPr>
                <a:xfrm flipH="1">
                  <a:off x="7631640" y="1882800"/>
                  <a:ext cx="101160" cy="82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Straight Connector 162"/>
                <p:cNvSpPr/>
                <p:nvPr/>
              </p:nvSpPr>
              <p:spPr>
                <a:xfrm flipH="1">
                  <a:off x="8082360" y="1383480"/>
                  <a:ext cx="78480" cy="10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6" name="Oval 166"/>
                <p:cNvGrpSpPr/>
                <p:nvPr/>
              </p:nvGrpSpPr>
              <p:grpSpPr>
                <a:xfrm>
                  <a:off x="6561720" y="1497240"/>
                  <a:ext cx="555120" cy="555120"/>
                  <a:chOff x="6561720" y="1497240"/>
                  <a:chExt cx="555120" cy="555120"/>
                </a:xfrm>
              </p:grpSpPr>
              <p:pic>
                <p:nvPicPr>
                  <p:cNvPr id="437" name="Oval 16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561720" y="149724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8" name=""/>
                  <p:cNvSpPr/>
                  <p:nvPr/>
                </p:nvSpPr>
                <p:spPr>
                  <a:xfrm>
                    <a:off x="6663960" y="159876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ffffff"/>
                        </a:solidFill>
                        <a:latin typeface="Calibri"/>
                      </a:rPr>
                      <a:t>K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Oval 167"/>
                <p:cNvGrpSpPr/>
                <p:nvPr/>
              </p:nvGrpSpPr>
              <p:grpSpPr>
                <a:xfrm>
                  <a:off x="8583480" y="1986120"/>
                  <a:ext cx="555120" cy="555120"/>
                  <a:chOff x="8583480" y="1986120"/>
                  <a:chExt cx="555120" cy="555120"/>
                </a:xfrm>
              </p:grpSpPr>
              <p:pic>
                <p:nvPicPr>
                  <p:cNvPr id="440" name="Oval 167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8583480" y="198612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1" name=""/>
                  <p:cNvSpPr/>
                  <p:nvPr/>
                </p:nvSpPr>
                <p:spPr>
                  <a:xfrm>
                    <a:off x="8683200" y="20876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ffffff"/>
                        </a:solidFill>
                        <a:latin typeface="Calibri"/>
                      </a:rPr>
                      <a:t>R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Straight Connector 175"/>
                <p:cNvSpPr/>
                <p:nvPr/>
              </p:nvSpPr>
              <p:spPr>
                <a:xfrm flipH="1" flipV="1">
                  <a:off x="7089480" y="1775160"/>
                  <a:ext cx="189000" cy="18972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Straight Connector 178"/>
                <p:cNvSpPr/>
                <p:nvPr/>
              </p:nvSpPr>
              <p:spPr>
                <a:xfrm flipH="1" flipV="1">
                  <a:off x="7617960" y="2347920"/>
                  <a:ext cx="114840" cy="23256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4" name="Oval 180"/>
                <p:cNvGrpSpPr/>
                <p:nvPr/>
              </p:nvGrpSpPr>
              <p:grpSpPr>
                <a:xfrm>
                  <a:off x="7581600" y="2360520"/>
                  <a:ext cx="180720" cy="174960"/>
                  <a:chOff x="7581600" y="2360520"/>
                  <a:chExt cx="180720" cy="174960"/>
                </a:xfrm>
              </p:grpSpPr>
              <p:pic>
                <p:nvPicPr>
                  <p:cNvPr id="445" name="Oval 180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581600" y="2360520"/>
                    <a:ext cx="18072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6" name=""/>
                  <p:cNvSpPr/>
                  <p:nvPr/>
                </p:nvSpPr>
                <p:spPr>
                  <a:xfrm>
                    <a:off x="7626240" y="240372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Oval 182"/>
                <p:cNvGrpSpPr/>
                <p:nvPr/>
              </p:nvGrpSpPr>
              <p:grpSpPr>
                <a:xfrm>
                  <a:off x="3598200" y="1340280"/>
                  <a:ext cx="186840" cy="181080"/>
                  <a:chOff x="3598200" y="1340280"/>
                  <a:chExt cx="186840" cy="181080"/>
                </a:xfrm>
              </p:grpSpPr>
              <p:pic>
                <p:nvPicPr>
                  <p:cNvPr id="448" name="Oval 182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3598200" y="134028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9" name=""/>
                  <p:cNvSpPr/>
                  <p:nvPr/>
                </p:nvSpPr>
                <p:spPr>
                  <a:xfrm>
                    <a:off x="3646080" y="138780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Oval 183"/>
                <p:cNvGrpSpPr/>
                <p:nvPr/>
              </p:nvGrpSpPr>
              <p:grpSpPr>
                <a:xfrm>
                  <a:off x="3405240" y="1793160"/>
                  <a:ext cx="186840" cy="181080"/>
                  <a:chOff x="3405240" y="1793160"/>
                  <a:chExt cx="186840" cy="181080"/>
                </a:xfrm>
              </p:grpSpPr>
              <p:pic>
                <p:nvPicPr>
                  <p:cNvPr id="451" name="Oval 183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05240" y="179316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2" name=""/>
                  <p:cNvSpPr/>
                  <p:nvPr/>
                </p:nvSpPr>
                <p:spPr>
                  <a:xfrm>
                    <a:off x="3454560" y="183960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Oval 184"/>
                <p:cNvGrpSpPr/>
                <p:nvPr/>
              </p:nvGrpSpPr>
              <p:grpSpPr>
                <a:xfrm>
                  <a:off x="3230280" y="1672200"/>
                  <a:ext cx="186840" cy="174960"/>
                  <a:chOff x="3230280" y="1672200"/>
                  <a:chExt cx="186840" cy="174960"/>
                </a:xfrm>
              </p:grpSpPr>
              <p:pic>
                <p:nvPicPr>
                  <p:cNvPr id="454" name="Oval 184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3230280" y="167220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5" name=""/>
                  <p:cNvSpPr/>
                  <p:nvPr/>
                </p:nvSpPr>
                <p:spPr>
                  <a:xfrm>
                    <a:off x="3278520" y="171792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Oval 185"/>
                <p:cNvGrpSpPr/>
                <p:nvPr/>
              </p:nvGrpSpPr>
              <p:grpSpPr>
                <a:xfrm>
                  <a:off x="3007080" y="1774800"/>
                  <a:ext cx="180720" cy="174960"/>
                  <a:chOff x="3007080" y="1774800"/>
                  <a:chExt cx="180720" cy="174960"/>
                </a:xfrm>
              </p:grpSpPr>
              <p:pic>
                <p:nvPicPr>
                  <p:cNvPr id="457" name="Oval 185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007080" y="1774800"/>
                    <a:ext cx="18072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8" name=""/>
                  <p:cNvSpPr/>
                  <p:nvPr/>
                </p:nvSpPr>
                <p:spPr>
                  <a:xfrm>
                    <a:off x="3050640" y="181944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Oval 186"/>
                <p:cNvGrpSpPr/>
                <p:nvPr/>
              </p:nvGrpSpPr>
              <p:grpSpPr>
                <a:xfrm>
                  <a:off x="2844000" y="1370520"/>
                  <a:ext cx="186840" cy="174960"/>
                  <a:chOff x="2844000" y="1370520"/>
                  <a:chExt cx="186840" cy="174960"/>
                </a:xfrm>
              </p:grpSpPr>
              <p:pic>
                <p:nvPicPr>
                  <p:cNvPr id="460" name="Oval 186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2844000" y="137052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1" name=""/>
                  <p:cNvSpPr/>
                  <p:nvPr/>
                </p:nvSpPr>
                <p:spPr>
                  <a:xfrm>
                    <a:off x="2893320" y="141336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Straight Connector 187"/>
                <p:cNvSpPr/>
                <p:nvPr/>
              </p:nvSpPr>
              <p:spPr>
                <a:xfrm flipH="1" flipV="1">
                  <a:off x="6305400" y="2276280"/>
                  <a:ext cx="1349640" cy="49572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Straight Connector 189"/>
                <p:cNvSpPr/>
                <p:nvPr/>
              </p:nvSpPr>
              <p:spPr>
                <a:xfrm flipH="1">
                  <a:off x="6305760" y="2757240"/>
                  <a:ext cx="1354320" cy="16092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Straight Connector 192"/>
                <p:cNvSpPr/>
                <p:nvPr/>
              </p:nvSpPr>
              <p:spPr>
                <a:xfrm flipH="1" flipV="1">
                  <a:off x="6305400" y="2920680"/>
                  <a:ext cx="1427400" cy="46296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Straight Connector 195"/>
                <p:cNvSpPr/>
                <p:nvPr/>
              </p:nvSpPr>
              <p:spPr>
                <a:xfrm flipH="1">
                  <a:off x="7089840" y="3560400"/>
                  <a:ext cx="570240" cy="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Oval 198"/>
                <p:cNvGrpSpPr/>
                <p:nvPr/>
              </p:nvGrpSpPr>
              <p:grpSpPr>
                <a:xfrm>
                  <a:off x="6791040" y="2384640"/>
                  <a:ext cx="186840" cy="181080"/>
                  <a:chOff x="6791040" y="2384640"/>
                  <a:chExt cx="186840" cy="181080"/>
                </a:xfrm>
              </p:grpSpPr>
              <p:pic>
                <p:nvPicPr>
                  <p:cNvPr id="467" name="Oval 198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791040" y="238464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8" name=""/>
                  <p:cNvSpPr/>
                  <p:nvPr/>
                </p:nvSpPr>
                <p:spPr>
                  <a:xfrm>
                    <a:off x="6840000" y="243252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Oval 199"/>
                <p:cNvGrpSpPr/>
                <p:nvPr/>
              </p:nvGrpSpPr>
              <p:grpSpPr>
                <a:xfrm>
                  <a:off x="6948000" y="2741040"/>
                  <a:ext cx="186840" cy="174960"/>
                  <a:chOff x="6948000" y="2741040"/>
                  <a:chExt cx="186840" cy="174960"/>
                </a:xfrm>
              </p:grpSpPr>
              <p:pic>
                <p:nvPicPr>
                  <p:cNvPr id="470" name="Oval 199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6948000" y="274104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1" name=""/>
                  <p:cNvSpPr/>
                  <p:nvPr/>
                </p:nvSpPr>
                <p:spPr>
                  <a:xfrm>
                    <a:off x="6997320" y="27838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Oval 200"/>
                <p:cNvGrpSpPr/>
                <p:nvPr/>
              </p:nvGrpSpPr>
              <p:grpSpPr>
                <a:xfrm>
                  <a:off x="7080840" y="3109320"/>
                  <a:ext cx="186840" cy="174960"/>
                  <a:chOff x="7080840" y="3109320"/>
                  <a:chExt cx="186840" cy="174960"/>
                </a:xfrm>
              </p:grpSpPr>
              <p:pic>
                <p:nvPicPr>
                  <p:cNvPr id="473" name="Oval 200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080840" y="310932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4" name=""/>
                  <p:cNvSpPr/>
                  <p:nvPr/>
                </p:nvSpPr>
                <p:spPr>
                  <a:xfrm>
                    <a:off x="7127280" y="315504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Oval 201"/>
                <p:cNvGrpSpPr/>
                <p:nvPr/>
              </p:nvGrpSpPr>
              <p:grpSpPr>
                <a:xfrm>
                  <a:off x="7346160" y="3459240"/>
                  <a:ext cx="186840" cy="174960"/>
                  <a:chOff x="7346160" y="3459240"/>
                  <a:chExt cx="186840" cy="174960"/>
                </a:xfrm>
              </p:grpSpPr>
              <p:pic>
                <p:nvPicPr>
                  <p:cNvPr id="476" name="Oval 201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7346160" y="345924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7" name=""/>
                  <p:cNvSpPr/>
                  <p:nvPr/>
                </p:nvSpPr>
                <p:spPr>
                  <a:xfrm>
                    <a:off x="7393680" y="350280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" name="Straight Connector 202"/>
                <p:cNvSpPr/>
                <p:nvPr/>
              </p:nvSpPr>
              <p:spPr>
                <a:xfrm flipH="1">
                  <a:off x="8108280" y="2514240"/>
                  <a:ext cx="751680" cy="91116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Straight Connector 203"/>
                <p:cNvSpPr/>
                <p:nvPr/>
              </p:nvSpPr>
              <p:spPr>
                <a:xfrm flipV="1">
                  <a:off x="6590880" y="3736800"/>
                  <a:ext cx="1114200" cy="57024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Straight Connector 205"/>
                <p:cNvSpPr/>
                <p:nvPr/>
              </p:nvSpPr>
              <p:spPr>
                <a:xfrm flipV="1">
                  <a:off x="7481880" y="3779280"/>
                  <a:ext cx="299880" cy="46728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Straight Connector 207"/>
                <p:cNvSpPr/>
                <p:nvPr/>
              </p:nvSpPr>
              <p:spPr>
                <a:xfrm flipH="1" flipV="1">
                  <a:off x="7944120" y="3813840"/>
                  <a:ext cx="392760" cy="43236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2" name="Oval 209"/>
                <p:cNvGrpSpPr/>
                <p:nvPr/>
              </p:nvGrpSpPr>
              <p:grpSpPr>
                <a:xfrm>
                  <a:off x="6990120" y="3966480"/>
                  <a:ext cx="186840" cy="181080"/>
                  <a:chOff x="6990120" y="3966480"/>
                  <a:chExt cx="186840" cy="181080"/>
                </a:xfrm>
              </p:grpSpPr>
              <p:pic>
                <p:nvPicPr>
                  <p:cNvPr id="483" name="Oval 209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6990120" y="396648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4" name=""/>
                  <p:cNvSpPr/>
                  <p:nvPr/>
                </p:nvSpPr>
                <p:spPr>
                  <a:xfrm>
                    <a:off x="7037280" y="40150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Oval 210"/>
                <p:cNvGrpSpPr/>
                <p:nvPr/>
              </p:nvGrpSpPr>
              <p:grpSpPr>
                <a:xfrm>
                  <a:off x="7497000" y="3984480"/>
                  <a:ext cx="186840" cy="181080"/>
                  <a:chOff x="7497000" y="3984480"/>
                  <a:chExt cx="186840" cy="181080"/>
                </a:xfrm>
              </p:grpSpPr>
              <p:pic>
                <p:nvPicPr>
                  <p:cNvPr id="486" name="Oval 210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7497000" y="398448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7" name=""/>
                  <p:cNvSpPr/>
                  <p:nvPr/>
                </p:nvSpPr>
                <p:spPr>
                  <a:xfrm>
                    <a:off x="7544520" y="40312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Oval 211"/>
                <p:cNvGrpSpPr/>
                <p:nvPr/>
              </p:nvGrpSpPr>
              <p:grpSpPr>
                <a:xfrm>
                  <a:off x="8052480" y="3936240"/>
                  <a:ext cx="186840" cy="174960"/>
                  <a:chOff x="8052480" y="3936240"/>
                  <a:chExt cx="186840" cy="174960"/>
                </a:xfrm>
              </p:grpSpPr>
              <p:pic>
                <p:nvPicPr>
                  <p:cNvPr id="489" name="Oval 211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052480" y="393624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0" name=""/>
                  <p:cNvSpPr/>
                  <p:nvPr/>
                </p:nvSpPr>
                <p:spPr>
                  <a:xfrm>
                    <a:off x="8101440" y="397872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" name="Straight Connector 213"/>
                <p:cNvSpPr/>
                <p:nvPr/>
              </p:nvSpPr>
              <p:spPr>
                <a:xfrm flipH="1">
                  <a:off x="8135280" y="2475720"/>
                  <a:ext cx="522360" cy="21312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Straight Connector 215"/>
                <p:cNvSpPr/>
                <p:nvPr/>
              </p:nvSpPr>
              <p:spPr>
                <a:xfrm flipH="1" flipV="1">
                  <a:off x="8160840" y="1822320"/>
                  <a:ext cx="549720" cy="25056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Straight Connector 217"/>
                <p:cNvSpPr/>
                <p:nvPr/>
              </p:nvSpPr>
              <p:spPr>
                <a:xfrm flipH="1" flipV="1">
                  <a:off x="8514000" y="1383480"/>
                  <a:ext cx="390960" cy="62496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Straight Connector 219"/>
                <p:cNvSpPr/>
                <p:nvPr/>
              </p:nvSpPr>
              <p:spPr>
                <a:xfrm flipH="1" flipV="1">
                  <a:off x="8907480" y="1108800"/>
                  <a:ext cx="128520" cy="979200"/>
                </a:xfrm>
                <a:prstGeom prst="line">
                  <a:avLst/>
                </a:prstGeom>
                <a:ln w="19080">
                  <a:solidFill>
                    <a:srgbClr val="c737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Oval 223"/>
                <p:cNvGrpSpPr/>
                <p:nvPr/>
              </p:nvGrpSpPr>
              <p:grpSpPr>
                <a:xfrm>
                  <a:off x="8275680" y="1835280"/>
                  <a:ext cx="186840" cy="174960"/>
                  <a:chOff x="8275680" y="1835280"/>
                  <a:chExt cx="186840" cy="174960"/>
                </a:xfrm>
              </p:grpSpPr>
              <p:pic>
                <p:nvPicPr>
                  <p:cNvPr id="496" name="Oval 223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8275680" y="183528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>
                    <a:off x="8325000" y="187920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Oval 224"/>
                <p:cNvGrpSpPr/>
                <p:nvPr/>
              </p:nvGrpSpPr>
              <p:grpSpPr>
                <a:xfrm>
                  <a:off x="8553240" y="1485000"/>
                  <a:ext cx="180720" cy="174960"/>
                  <a:chOff x="8553240" y="1485000"/>
                  <a:chExt cx="180720" cy="174960"/>
                </a:xfrm>
              </p:grpSpPr>
              <p:pic>
                <p:nvPicPr>
                  <p:cNvPr id="499" name="Oval 224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553240" y="1485000"/>
                    <a:ext cx="18072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0" name=""/>
                  <p:cNvSpPr/>
                  <p:nvPr/>
                </p:nvSpPr>
                <p:spPr>
                  <a:xfrm>
                    <a:off x="8598600" y="15292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Oval 225"/>
                <p:cNvGrpSpPr/>
                <p:nvPr/>
              </p:nvGrpSpPr>
              <p:grpSpPr>
                <a:xfrm>
                  <a:off x="8879400" y="1569600"/>
                  <a:ext cx="186840" cy="181080"/>
                  <a:chOff x="8879400" y="1569600"/>
                  <a:chExt cx="186840" cy="181080"/>
                </a:xfrm>
              </p:grpSpPr>
              <p:pic>
                <p:nvPicPr>
                  <p:cNvPr id="502" name="Oval 225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8879400" y="156960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3" name=""/>
                  <p:cNvSpPr/>
                  <p:nvPr/>
                </p:nvSpPr>
                <p:spPr>
                  <a:xfrm>
                    <a:off x="8927640" y="161604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504" name="Curved Connector 145"/>
                <p:cNvCxnSpPr>
                  <a:stCxn id="440" idx="0"/>
                </p:cNvCxnSpPr>
                <p:nvPr/>
              </p:nvCxnSpPr>
              <p:spPr>
                <a:xfrm rot="5400000">
                  <a:off x="5915160" y="308160"/>
                  <a:ext cx="1238760" cy="4650480"/>
                </a:xfrm>
                <a:prstGeom prst="curvedConnector5">
                  <a:avLst>
                    <a:gd name="adj1" fmla="val -18255"/>
                    <a:gd name="adj2" fmla="val 49996"/>
                    <a:gd name="adj3" fmla="val -18255"/>
                  </a:avLst>
                </a:prstGeom>
                <a:ln w="19080">
                  <a:solidFill>
                    <a:srgbClr val="c7373b"/>
                  </a:solidFill>
                  <a:miter/>
                </a:ln>
              </p:spPr>
            </p:cxnSp>
            <p:grpSp>
              <p:nvGrpSpPr>
                <p:cNvPr id="505" name="Oval 157"/>
                <p:cNvGrpSpPr/>
                <p:nvPr/>
              </p:nvGrpSpPr>
              <p:grpSpPr>
                <a:xfrm>
                  <a:off x="7629840" y="1430640"/>
                  <a:ext cx="555120" cy="555120"/>
                  <a:chOff x="7629840" y="1430640"/>
                  <a:chExt cx="555120" cy="555120"/>
                </a:xfrm>
              </p:grpSpPr>
              <p:pic>
                <p:nvPicPr>
                  <p:cNvPr id="506" name="Oval 157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629840" y="143064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7" name=""/>
                  <p:cNvSpPr/>
                  <p:nvPr/>
                </p:nvSpPr>
                <p:spPr>
                  <a:xfrm>
                    <a:off x="7733160" y="152928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LVx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Oval 232"/>
                <p:cNvGrpSpPr/>
                <p:nvPr/>
              </p:nvGrpSpPr>
              <p:grpSpPr>
                <a:xfrm>
                  <a:off x="7249680" y="1424520"/>
                  <a:ext cx="186840" cy="181080"/>
                  <a:chOff x="7249680" y="1424520"/>
                  <a:chExt cx="186840" cy="181080"/>
                </a:xfrm>
              </p:grpSpPr>
              <p:pic>
                <p:nvPicPr>
                  <p:cNvPr id="509" name="Oval 232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7249680" y="142452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0" name=""/>
                  <p:cNvSpPr/>
                  <p:nvPr/>
                </p:nvSpPr>
                <p:spPr>
                  <a:xfrm>
                    <a:off x="7297920" y="147204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Oval 233"/>
                <p:cNvGrpSpPr/>
                <p:nvPr/>
              </p:nvGrpSpPr>
              <p:grpSpPr>
                <a:xfrm>
                  <a:off x="8559360" y="6134040"/>
                  <a:ext cx="555120" cy="555120"/>
                  <a:chOff x="8559360" y="6134040"/>
                  <a:chExt cx="555120" cy="555120"/>
                </a:xfrm>
              </p:grpSpPr>
              <p:pic>
                <p:nvPicPr>
                  <p:cNvPr id="512" name="Oval 233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8559360" y="613404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3" name=""/>
                  <p:cNvSpPr/>
                  <p:nvPr/>
                </p:nvSpPr>
                <p:spPr>
                  <a:xfrm>
                    <a:off x="8659800" y="62366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ffffff"/>
                        </a:solidFill>
                        <a:latin typeface="Calibri"/>
                      </a:rPr>
                      <a:t>TK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Straight Connector 234"/>
                <p:cNvSpPr/>
                <p:nvPr/>
              </p:nvSpPr>
              <p:spPr>
                <a:xfrm flipH="1" flipV="1">
                  <a:off x="8082000" y="5668920"/>
                  <a:ext cx="667080" cy="501120"/>
                </a:xfrm>
                <a:prstGeom prst="line">
                  <a:avLst/>
                </a:prstGeom>
                <a:ln w="19080">
                  <a:solidFill>
                    <a:srgbClr val="eb7a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Straight Connector 237"/>
                <p:cNvSpPr/>
                <p:nvPr/>
              </p:nvSpPr>
              <p:spPr>
                <a:xfrm flipH="1">
                  <a:off x="7731360" y="6413040"/>
                  <a:ext cx="855360" cy="142560"/>
                </a:xfrm>
                <a:prstGeom prst="line">
                  <a:avLst/>
                </a:prstGeom>
                <a:ln w="19080">
                  <a:solidFill>
                    <a:srgbClr val="eb7a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6" name="Oval 240"/>
                <p:cNvGrpSpPr/>
                <p:nvPr/>
              </p:nvGrpSpPr>
              <p:grpSpPr>
                <a:xfrm>
                  <a:off x="8305920" y="5826240"/>
                  <a:ext cx="180720" cy="174960"/>
                  <a:chOff x="8305920" y="5826240"/>
                  <a:chExt cx="180720" cy="174960"/>
                </a:xfrm>
              </p:grpSpPr>
              <p:pic>
                <p:nvPicPr>
                  <p:cNvPr id="517" name="Oval 240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8305920" y="5826240"/>
                    <a:ext cx="18072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"/>
                  <p:cNvSpPr/>
                  <p:nvPr/>
                </p:nvSpPr>
                <p:spPr>
                  <a:xfrm>
                    <a:off x="8350920" y="58708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Oval 241"/>
                <p:cNvGrpSpPr/>
                <p:nvPr/>
              </p:nvGrpSpPr>
              <p:grpSpPr>
                <a:xfrm>
                  <a:off x="7949880" y="6405840"/>
                  <a:ext cx="186840" cy="181080"/>
                  <a:chOff x="7949880" y="6405840"/>
                  <a:chExt cx="186840" cy="181080"/>
                </a:xfrm>
              </p:grpSpPr>
              <p:pic>
                <p:nvPicPr>
                  <p:cNvPr id="520" name="Oval 241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949880" y="640584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1" name=""/>
                  <p:cNvSpPr/>
                  <p:nvPr/>
                </p:nvSpPr>
                <p:spPr>
                  <a:xfrm>
                    <a:off x="7997400" y="64522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Oval 242"/>
                <p:cNvGrpSpPr/>
                <p:nvPr/>
              </p:nvGrpSpPr>
              <p:grpSpPr>
                <a:xfrm>
                  <a:off x="2741400" y="5699520"/>
                  <a:ext cx="555120" cy="555120"/>
                  <a:chOff x="2741400" y="5699520"/>
                  <a:chExt cx="555120" cy="555120"/>
                </a:xfrm>
              </p:grpSpPr>
              <p:pic>
                <p:nvPicPr>
                  <p:cNvPr id="523" name="Oval 242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2741400" y="5699520"/>
                    <a:ext cx="55512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2842920" y="579852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2a3f82"/>
                        </a:solidFill>
                        <a:latin typeface="Calibri"/>
                      </a:rPr>
                      <a:t>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5" name="Straight Connector 243"/>
                <p:cNvSpPr/>
                <p:nvPr/>
              </p:nvSpPr>
              <p:spPr>
                <a:xfrm>
                  <a:off x="2579400" y="5611680"/>
                  <a:ext cx="248400" cy="178920"/>
                </a:xfrm>
                <a:prstGeom prst="line">
                  <a:avLst/>
                </a:prstGeom>
                <a:ln w="19080">
                  <a:solidFill>
                    <a:srgbClr val="b4d1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Straight Connector 247"/>
                <p:cNvSpPr/>
                <p:nvPr/>
              </p:nvSpPr>
              <p:spPr>
                <a:xfrm flipV="1">
                  <a:off x="3261240" y="5377320"/>
                  <a:ext cx="551160" cy="483840"/>
                </a:xfrm>
                <a:prstGeom prst="line">
                  <a:avLst/>
                </a:prstGeom>
                <a:ln w="19080">
                  <a:solidFill>
                    <a:srgbClr val="b4d1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Oval 249"/>
                <p:cNvGrpSpPr/>
                <p:nvPr/>
              </p:nvGrpSpPr>
              <p:grpSpPr>
                <a:xfrm>
                  <a:off x="3453480" y="5506200"/>
                  <a:ext cx="186840" cy="174960"/>
                  <a:chOff x="3453480" y="5506200"/>
                  <a:chExt cx="186840" cy="174960"/>
                </a:xfrm>
              </p:grpSpPr>
              <p:pic>
                <p:nvPicPr>
                  <p:cNvPr id="528" name="Oval 249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453480" y="550620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9" name=""/>
                  <p:cNvSpPr/>
                  <p:nvPr/>
                </p:nvSpPr>
                <p:spPr>
                  <a:xfrm>
                    <a:off x="3502080" y="554976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Oval 250"/>
                <p:cNvGrpSpPr/>
                <p:nvPr/>
              </p:nvGrpSpPr>
              <p:grpSpPr>
                <a:xfrm>
                  <a:off x="2620800" y="5614920"/>
                  <a:ext cx="186840" cy="181080"/>
                  <a:chOff x="2620800" y="5614920"/>
                  <a:chExt cx="186840" cy="181080"/>
                </a:xfrm>
              </p:grpSpPr>
              <p:pic>
                <p:nvPicPr>
                  <p:cNvPr id="531" name="Oval 250" descr=""/>
                  <p:cNvPicPr/>
                  <p:nvPr/>
                </p:nvPicPr>
                <p:blipFill>
                  <a:blip r:embed="rId65"/>
                  <a:stretch/>
                </p:blipFill>
                <p:spPr>
                  <a:xfrm>
                    <a:off x="2620800" y="5614920"/>
                    <a:ext cx="186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2" name=""/>
                  <p:cNvSpPr/>
                  <p:nvPr/>
                </p:nvSpPr>
                <p:spPr>
                  <a:xfrm>
                    <a:off x="2670120" y="566316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Oval 251"/>
                <p:cNvGrpSpPr/>
                <p:nvPr/>
              </p:nvGrpSpPr>
              <p:grpSpPr>
                <a:xfrm>
                  <a:off x="3731040" y="5922720"/>
                  <a:ext cx="549000" cy="555120"/>
                  <a:chOff x="3731040" y="5922720"/>
                  <a:chExt cx="549000" cy="555120"/>
                </a:xfrm>
              </p:grpSpPr>
              <p:pic>
                <p:nvPicPr>
                  <p:cNvPr id="534" name="Oval 251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731040" y="5922720"/>
                    <a:ext cx="54900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5" name=""/>
                  <p:cNvSpPr/>
                  <p:nvPr/>
                </p:nvSpPr>
                <p:spPr>
                  <a:xfrm>
                    <a:off x="3828960" y="6022440"/>
                    <a:ext cx="352800" cy="35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000" spc="-1" strike="noStrike">
                        <a:solidFill>
                          <a:srgbClr val="ffffff"/>
                        </a:solidFill>
                        <a:latin typeface="Calibri"/>
                      </a:rPr>
                      <a:t>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Straight Connector 252"/>
                <p:cNvSpPr/>
                <p:nvPr/>
              </p:nvSpPr>
              <p:spPr>
                <a:xfrm flipH="1" flipV="1">
                  <a:off x="3988440" y="5450400"/>
                  <a:ext cx="16920" cy="498960"/>
                </a:xfrm>
                <a:prstGeom prst="line">
                  <a:avLst/>
                </a:prstGeom>
                <a:ln w="19080">
                  <a:solidFill>
                    <a:srgbClr val="82982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Oval 255"/>
                <p:cNvGrpSpPr/>
                <p:nvPr/>
              </p:nvGrpSpPr>
              <p:grpSpPr>
                <a:xfrm>
                  <a:off x="3912120" y="5663160"/>
                  <a:ext cx="186840" cy="174960"/>
                  <a:chOff x="3912120" y="5663160"/>
                  <a:chExt cx="186840" cy="174960"/>
                </a:xfrm>
              </p:grpSpPr>
              <p:pic>
                <p:nvPicPr>
                  <p:cNvPr id="538" name="Oval 255" descr="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3912120" y="5663160"/>
                    <a:ext cx="18684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9" name=""/>
                  <p:cNvSpPr/>
                  <p:nvPr/>
                </p:nvSpPr>
                <p:spPr>
                  <a:xfrm>
                    <a:off x="3959640" y="5708880"/>
                    <a:ext cx="91440" cy="8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9600" bIns="39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Straight Connector 261"/>
              <p:cNvSpPr/>
              <p:nvPr/>
            </p:nvSpPr>
            <p:spPr>
              <a:xfrm>
                <a:off x="670320" y="2217240"/>
                <a:ext cx="91080" cy="0"/>
              </a:xfrm>
              <a:prstGeom prst="line">
                <a:avLst/>
              </a:prstGeom>
              <a:ln w="19080">
                <a:solidFill>
                  <a:srgbClr val="8d7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Straight Connector 144"/>
              <p:cNvSpPr/>
              <p:nvPr/>
            </p:nvSpPr>
            <p:spPr>
              <a:xfrm>
                <a:off x="765360" y="1569960"/>
                <a:ext cx="455760" cy="0"/>
              </a:xfrm>
              <a:prstGeom prst="line">
                <a:avLst/>
              </a:prstGeom>
              <a:ln w="19080">
                <a:solidFill>
                  <a:srgbClr val="8d7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" name="Oval 146"/>
              <p:cNvGrpSpPr/>
              <p:nvPr/>
            </p:nvGrpSpPr>
            <p:grpSpPr>
              <a:xfrm>
                <a:off x="913320" y="1487880"/>
                <a:ext cx="188280" cy="176760"/>
                <a:chOff x="913320" y="1487880"/>
                <a:chExt cx="188280" cy="176760"/>
              </a:xfrm>
            </p:grpSpPr>
            <p:pic>
              <p:nvPicPr>
                <p:cNvPr id="543" name="Oval 146" descr="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913320" y="1487880"/>
                  <a:ext cx="18828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4" name=""/>
                <p:cNvSpPr/>
                <p:nvPr/>
              </p:nvSpPr>
              <p:spPr>
                <a:xfrm>
                  <a:off x="959400" y="153360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Straight Connector 168"/>
              <p:cNvSpPr/>
              <p:nvPr/>
            </p:nvSpPr>
            <p:spPr>
              <a:xfrm flipV="1">
                <a:off x="761400" y="1564200"/>
                <a:ext cx="0" cy="3654720"/>
              </a:xfrm>
              <a:prstGeom prst="line">
                <a:avLst/>
              </a:prstGeom>
              <a:ln w="19080">
                <a:solidFill>
                  <a:srgbClr val="8d7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Oval 170"/>
              <p:cNvGrpSpPr/>
              <p:nvPr/>
            </p:nvGrpSpPr>
            <p:grpSpPr>
              <a:xfrm>
                <a:off x="1053360" y="1756080"/>
                <a:ext cx="188280" cy="176760"/>
                <a:chOff x="1053360" y="1756080"/>
                <a:chExt cx="188280" cy="176760"/>
              </a:xfrm>
            </p:grpSpPr>
            <p:pic>
              <p:nvPicPr>
                <p:cNvPr id="547" name="Oval 170" descr="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1053360" y="1756080"/>
                  <a:ext cx="18828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8" name=""/>
                <p:cNvSpPr/>
                <p:nvPr/>
              </p:nvSpPr>
              <p:spPr>
                <a:xfrm>
                  <a:off x="1101240" y="180000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" name="Straight Connector 177"/>
              <p:cNvSpPr/>
              <p:nvPr/>
            </p:nvSpPr>
            <p:spPr>
              <a:xfrm>
                <a:off x="883440" y="3135600"/>
                <a:ext cx="455760" cy="0"/>
              </a:xfrm>
              <a:prstGeom prst="line">
                <a:avLst/>
              </a:prstGeom>
              <a:ln w="19080">
                <a:solidFill>
                  <a:srgbClr val="2a3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Straight Connector 193"/>
              <p:cNvSpPr/>
              <p:nvPr/>
            </p:nvSpPr>
            <p:spPr>
              <a:xfrm>
                <a:off x="1038240" y="2097720"/>
                <a:ext cx="455760" cy="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Oval 194"/>
              <p:cNvGrpSpPr/>
              <p:nvPr/>
            </p:nvGrpSpPr>
            <p:grpSpPr>
              <a:xfrm>
                <a:off x="1199160" y="2012040"/>
                <a:ext cx="188280" cy="176760"/>
                <a:chOff x="1199160" y="2012040"/>
                <a:chExt cx="188280" cy="176760"/>
              </a:xfrm>
            </p:grpSpPr>
            <p:pic>
              <p:nvPicPr>
                <p:cNvPr id="552" name="Oval 194" descr="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1199160" y="2012040"/>
                  <a:ext cx="18828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"/>
                <p:cNvSpPr/>
                <p:nvPr/>
              </p:nvSpPr>
              <p:spPr>
                <a:xfrm>
                  <a:off x="1247400" y="205740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Oval 196"/>
              <p:cNvGrpSpPr/>
              <p:nvPr/>
            </p:nvGrpSpPr>
            <p:grpSpPr>
              <a:xfrm>
                <a:off x="1053360" y="3048120"/>
                <a:ext cx="188280" cy="182520"/>
                <a:chOff x="1053360" y="3048120"/>
                <a:chExt cx="188280" cy="182520"/>
              </a:xfrm>
            </p:grpSpPr>
            <p:pic>
              <p:nvPicPr>
                <p:cNvPr id="555" name="Oval 196" descr="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1053360" y="3048120"/>
                  <a:ext cx="18828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6" name=""/>
                <p:cNvSpPr/>
                <p:nvPr/>
              </p:nvSpPr>
              <p:spPr>
                <a:xfrm>
                  <a:off x="1101240" y="309492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Straight Connector 206"/>
              <p:cNvSpPr/>
              <p:nvPr/>
            </p:nvSpPr>
            <p:spPr>
              <a:xfrm>
                <a:off x="1041840" y="3426480"/>
                <a:ext cx="455760" cy="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" name="Oval 208"/>
              <p:cNvGrpSpPr/>
              <p:nvPr/>
            </p:nvGrpSpPr>
            <p:grpSpPr>
              <a:xfrm>
                <a:off x="1205280" y="3340800"/>
                <a:ext cx="182160" cy="176760"/>
                <a:chOff x="1205280" y="3340800"/>
                <a:chExt cx="182160" cy="176760"/>
              </a:xfrm>
            </p:grpSpPr>
            <p:pic>
              <p:nvPicPr>
                <p:cNvPr id="559" name="Oval 208" descr="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1205280" y="3340800"/>
                  <a:ext cx="182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"/>
                <p:cNvSpPr/>
                <p:nvPr/>
              </p:nvSpPr>
              <p:spPr>
                <a:xfrm>
                  <a:off x="1251000" y="338616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Straight Connector 212"/>
              <p:cNvSpPr/>
              <p:nvPr/>
            </p:nvSpPr>
            <p:spPr>
              <a:xfrm>
                <a:off x="883440" y="4219560"/>
                <a:ext cx="455760" cy="0"/>
              </a:xfrm>
              <a:prstGeom prst="line">
                <a:avLst/>
              </a:prstGeom>
              <a:ln w="19080">
                <a:solidFill>
                  <a:srgbClr val="2a3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" name="Oval 214"/>
              <p:cNvGrpSpPr/>
              <p:nvPr/>
            </p:nvGrpSpPr>
            <p:grpSpPr>
              <a:xfrm>
                <a:off x="1053360" y="4133160"/>
                <a:ext cx="188280" cy="176760"/>
                <a:chOff x="1053360" y="4133160"/>
                <a:chExt cx="188280" cy="176760"/>
              </a:xfrm>
            </p:grpSpPr>
            <p:pic>
              <p:nvPicPr>
                <p:cNvPr id="563" name="Oval 214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1053360" y="4133160"/>
                  <a:ext cx="18828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4" name=""/>
                <p:cNvSpPr/>
                <p:nvPr/>
              </p:nvSpPr>
              <p:spPr>
                <a:xfrm>
                  <a:off x="1101240" y="417924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Straight Connector 216"/>
              <p:cNvSpPr/>
              <p:nvPr/>
            </p:nvSpPr>
            <p:spPr>
              <a:xfrm>
                <a:off x="1042920" y="4483440"/>
                <a:ext cx="455760" cy="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Oval 218"/>
              <p:cNvGrpSpPr/>
              <p:nvPr/>
            </p:nvGrpSpPr>
            <p:grpSpPr>
              <a:xfrm>
                <a:off x="1205280" y="4395240"/>
                <a:ext cx="188280" cy="182520"/>
                <a:chOff x="1205280" y="4395240"/>
                <a:chExt cx="188280" cy="182520"/>
              </a:xfrm>
            </p:grpSpPr>
            <p:pic>
              <p:nvPicPr>
                <p:cNvPr id="567" name="Oval 218" descr="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1205280" y="4395240"/>
                  <a:ext cx="18828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8" name=""/>
                <p:cNvSpPr/>
                <p:nvPr/>
              </p:nvSpPr>
              <p:spPr>
                <a:xfrm>
                  <a:off x="1252080" y="444276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Straight Connector 220"/>
              <p:cNvSpPr/>
              <p:nvPr/>
            </p:nvSpPr>
            <p:spPr>
              <a:xfrm>
                <a:off x="882360" y="5512320"/>
                <a:ext cx="455760" cy="0"/>
              </a:xfrm>
              <a:prstGeom prst="line">
                <a:avLst/>
              </a:prstGeom>
              <a:ln w="19080">
                <a:solidFill>
                  <a:srgbClr val="2a3f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0" name="Oval 221"/>
              <p:cNvGrpSpPr/>
              <p:nvPr/>
            </p:nvGrpSpPr>
            <p:grpSpPr>
              <a:xfrm>
                <a:off x="1053360" y="5425200"/>
                <a:ext cx="188280" cy="176760"/>
                <a:chOff x="1053360" y="5425200"/>
                <a:chExt cx="188280" cy="176760"/>
              </a:xfrm>
            </p:grpSpPr>
            <p:pic>
              <p:nvPicPr>
                <p:cNvPr id="571" name="Oval 221" descr="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1053360" y="5425200"/>
                  <a:ext cx="18828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" name=""/>
                <p:cNvSpPr/>
                <p:nvPr/>
              </p:nvSpPr>
              <p:spPr>
                <a:xfrm>
                  <a:off x="1101240" y="547164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Straight Connector 222"/>
              <p:cNvSpPr/>
              <p:nvPr/>
            </p:nvSpPr>
            <p:spPr>
              <a:xfrm>
                <a:off x="1038240" y="5832720"/>
                <a:ext cx="455760" cy="0"/>
              </a:xfrm>
              <a:prstGeom prst="line">
                <a:avLst/>
              </a:prstGeom>
              <a:ln w="190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4" name="Oval 236"/>
              <p:cNvGrpSpPr/>
              <p:nvPr/>
            </p:nvGrpSpPr>
            <p:grpSpPr>
              <a:xfrm>
                <a:off x="1199160" y="5748120"/>
                <a:ext cx="188280" cy="176760"/>
                <a:chOff x="1199160" y="5748120"/>
                <a:chExt cx="188280" cy="176760"/>
              </a:xfrm>
            </p:grpSpPr>
            <p:pic>
              <p:nvPicPr>
                <p:cNvPr id="575" name="Oval 236" descr="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1199160" y="5748120"/>
                  <a:ext cx="18828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6" name=""/>
                <p:cNvSpPr/>
                <p:nvPr/>
              </p:nvSpPr>
              <p:spPr>
                <a:xfrm>
                  <a:off x="1247400" y="579168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Straight Connector 238"/>
              <p:cNvSpPr/>
              <p:nvPr/>
            </p:nvSpPr>
            <p:spPr>
              <a:xfrm>
                <a:off x="756720" y="2876400"/>
                <a:ext cx="455760" cy="0"/>
              </a:xfrm>
              <a:prstGeom prst="line">
                <a:avLst/>
              </a:prstGeom>
              <a:ln w="19080">
                <a:solidFill>
                  <a:srgbClr val="8d7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8" name="Oval 246"/>
              <p:cNvGrpSpPr/>
              <p:nvPr/>
            </p:nvGrpSpPr>
            <p:grpSpPr>
              <a:xfrm>
                <a:off x="913320" y="2786040"/>
                <a:ext cx="188280" cy="182520"/>
                <a:chOff x="913320" y="2786040"/>
                <a:chExt cx="188280" cy="182520"/>
              </a:xfrm>
            </p:grpSpPr>
            <p:pic>
              <p:nvPicPr>
                <p:cNvPr id="579" name="Oval 246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913320" y="2786040"/>
                  <a:ext cx="18828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0" name=""/>
                <p:cNvSpPr/>
                <p:nvPr/>
              </p:nvSpPr>
              <p:spPr>
                <a:xfrm>
                  <a:off x="959400" y="283284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Straight Connector 248"/>
              <p:cNvSpPr/>
              <p:nvPr/>
            </p:nvSpPr>
            <p:spPr>
              <a:xfrm>
                <a:off x="764640" y="3934800"/>
                <a:ext cx="455760" cy="0"/>
              </a:xfrm>
              <a:prstGeom prst="line">
                <a:avLst/>
              </a:prstGeom>
              <a:ln w="19080">
                <a:solidFill>
                  <a:srgbClr val="8d7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" name="Oval 253"/>
              <p:cNvGrpSpPr/>
              <p:nvPr/>
            </p:nvGrpSpPr>
            <p:grpSpPr>
              <a:xfrm>
                <a:off x="913320" y="3840480"/>
                <a:ext cx="188280" cy="182520"/>
                <a:chOff x="913320" y="3840480"/>
                <a:chExt cx="188280" cy="182520"/>
              </a:xfrm>
            </p:grpSpPr>
            <p:pic>
              <p:nvPicPr>
                <p:cNvPr id="583" name="Oval 253" descr="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913320" y="3840480"/>
                  <a:ext cx="18828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4" name=""/>
                <p:cNvSpPr/>
                <p:nvPr/>
              </p:nvSpPr>
              <p:spPr>
                <a:xfrm>
                  <a:off x="959400" y="388836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Straight Connector 254"/>
              <p:cNvSpPr/>
              <p:nvPr/>
            </p:nvSpPr>
            <p:spPr>
              <a:xfrm>
                <a:off x="756720" y="5211720"/>
                <a:ext cx="455760" cy="0"/>
              </a:xfrm>
              <a:prstGeom prst="line">
                <a:avLst/>
              </a:prstGeom>
              <a:ln w="19080">
                <a:solidFill>
                  <a:srgbClr val="8d75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" name="Oval 256"/>
              <p:cNvGrpSpPr/>
              <p:nvPr/>
            </p:nvGrpSpPr>
            <p:grpSpPr>
              <a:xfrm>
                <a:off x="913320" y="5120280"/>
                <a:ext cx="188280" cy="182520"/>
                <a:chOff x="913320" y="5120280"/>
                <a:chExt cx="188280" cy="182520"/>
              </a:xfrm>
            </p:grpSpPr>
            <p:pic>
              <p:nvPicPr>
                <p:cNvPr id="587" name="Oval 256" descr="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913320" y="5120280"/>
                  <a:ext cx="188280" cy="18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8" name=""/>
                <p:cNvSpPr/>
                <p:nvPr/>
              </p:nvSpPr>
              <p:spPr>
                <a:xfrm>
                  <a:off x="959400" y="5167800"/>
                  <a:ext cx="92160" cy="8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TextBox 259"/>
              <p:cNvSpPr/>
              <p:nvPr/>
            </p:nvSpPr>
            <p:spPr>
              <a:xfrm>
                <a:off x="353880" y="1030680"/>
                <a:ext cx="194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Calibri"/>
                  </a:rPr>
                  <a:t>UGS, LNG &amp; NP nodes, control nodes and arcs to all E/E system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Straight Connector 5"/>
          <p:cNvSpPr/>
          <p:nvPr/>
        </p:nvSpPr>
        <p:spPr>
          <a:xfrm>
            <a:off x="4011480" y="3678120"/>
            <a:ext cx="792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f82"/>
                </a:solidFill>
                <a:latin typeface="Calibri"/>
                <a:ea typeface="Arial"/>
              </a:rPr>
              <a:t>Network-market top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418"/>
          <p:cNvSpPr/>
          <p:nvPr/>
        </p:nvSpPr>
        <p:spPr>
          <a:xfrm>
            <a:off x="193680" y="6330960"/>
            <a:ext cx="194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Actual topology depends on the year and infrastructure scen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UGS and LNG terminal mode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8000" y="1239840"/>
            <a:ext cx="86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NG dual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NG terminal send-out should consider the dual role of the facilit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impor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stor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NG tank management (including stock level prior to the event) has to be defined for the 2-week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se elements are to be discussed with 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GS cur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ast Summer and Winter Supply Outlooks use a single and conservative deliverability curve (linked to stock level) for every cou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b4d13b"/>
              </a:buClr>
              <a:buSzPct val="13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tential improvement has to be considered with G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5F3E-FD2D-4032-8EC9-8496FD5C1888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f82"/>
                </a:solidFill>
                <a:latin typeface="Calibri"/>
                <a:ea typeface="Arial"/>
              </a:rPr>
              <a:t>Scenarios &amp;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832A-469D-4275-BE2F-7BCDDA3729FB}" type="slidenum">
              <a:rPr b="0" lang="fr-BE" sz="1200" spc="-1" strike="noStrike">
                <a:solidFill>
                  <a:srgbClr val="6666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21:19Z</dcterms:created>
  <dc:creator>Andrea Cirlicova</dc:creator>
  <dc:description/>
  <cp:keywords>TYNDP SJWS WS</cp:keywords>
  <dc:language>en-US</dc:language>
  <cp:lastModifiedBy>olivier.lebois</cp:lastModifiedBy>
  <cp:lastPrinted>2011-01-20T11:35:48Z</cp:lastPrinted>
  <dcterms:modified xsi:type="dcterms:W3CDTF">2012-05-30T15:02:43Z</dcterms:modified>
  <cp:revision>940</cp:revision>
  <dc:subject/>
  <dc:title>Concluding presentation for SJWS#7 and TYNDP W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4454750B1B940428917959955031DCB01030084216F8C70556344A4038134B94F5950</vt:lpwstr>
  </property>
  <property fmtid="{D5CDD505-2E9C-101B-9397-08002B2CF9AE}" pid="3" name="DocumentOrigin">
    <vt:lpwstr>18</vt:lpwstr>
  </property>
  <property fmtid="{D5CDD505-2E9C-101B-9397-08002B2CF9AE}" pid="4" name="DocumentType">
    <vt:lpwstr>11</vt:lpwstr>
  </property>
  <property fmtid="{D5CDD505-2E9C-101B-9397-08002B2CF9AE}" pid="5" name="EntsogDocumentCategory">
    <vt:lpwstr>2</vt:lpwstr>
  </property>
  <property fmtid="{D5CDD505-2E9C-101B-9397-08002B2CF9AE}" pid="6" name="EntsogDocumentCode">
    <vt:lpwstr/>
  </property>
  <property fmtid="{D5CDD505-2E9C-101B-9397-08002B2CF9AE}" pid="7" name="EntsogDocumentStatus">
    <vt:lpwstr>8</vt:lpwstr>
  </property>
  <property fmtid="{D5CDD505-2E9C-101B-9397-08002B2CF9AE}" pid="8" name="PlannedDateApproval BOA">
    <vt:lpwstr/>
  </property>
  <property fmtid="{D5CDD505-2E9C-101B-9397-08002B2CF9AE}" pid="9" name="PlannedDateApproval GAS">
    <vt:lpwstr/>
  </property>
  <property fmtid="{D5CDD505-2E9C-101B-9397-08002B2CF9AE}" pid="10" name="WorkstreamCode">
    <vt:lpwstr>10</vt:lpwstr>
  </property>
  <property fmtid="{D5CDD505-2E9C-101B-9397-08002B2CF9AE}" pid="11" name="_DCDateCreated">
    <vt:lpwstr>2012-05-15T17:21:00Z</vt:lpwstr>
  </property>
  <property fmtid="{D5CDD505-2E9C-101B-9397-08002B2CF9AE}" pid="12" name="_DCDateModified">
    <vt:lpwstr>2012-05-15T17:21:00Z</vt:lpwstr>
  </property>
</Properties>
</file>