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70.png" ContentType="image/png"/>
  <Override PartName="/ppt/media/image1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0.png" ContentType="image/png"/>
  <Override PartName="/ppt/media/image47.png" ContentType="image/png"/>
  <Override PartName="/ppt/media/image65.wmf" ContentType="image/x-wmf"/>
  <Override PartName="/ppt/media/image25.png" ContentType="image/png"/>
  <Override PartName="/ppt/media/image63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6.png" ContentType="image/png"/>
  <Override PartName="/ppt/media/image11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EEA-9FC2-43C3-8B97-33911EFA2969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C3C7-5B2F-4722-ADC5-3EB3B9867FE8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7FB-A642-49FA-AA2F-6197DF95948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15BF-DFB8-4B23-BB07-05352301BCE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AFE-696C-478B-AE7D-6A2D18A5856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FA57-8B04-4BF9-B29C-AE2FA7D1100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524-328D-476A-B308-966B231DE2B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008-822B-45D4-BE61-EFAB7AFEADC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ECD-E73C-4B3A-B25B-1127EE382BD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3AD-D580-4F2C-8450-FBA8E5F7110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77C1-B2D8-493B-BCEF-1267AF2B053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10D-F596-44FA-8B0B-B53E37847F5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8B75-958D-4452-9130-7A4A57C316A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760F-1387-4B00-B5CE-B2E209B7ED8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5D8-FD47-40BF-A243-65DAA89F20C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A0D-F89F-434B-AB0E-A99F05E302D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A72A-AAB4-42ED-8456-8CD78EC7896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3F3-32CB-4881-A2A7-0B50192E6FE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0181-97C1-487C-ACDA-70C56C90B89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D321-D768-414A-BF0A-1CC68E1BF0E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B45-E841-44B7-9B94-573F889B2EA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1351-A25D-4EF0-8E66-7189ED9D338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C176-3149-4539-860C-7ABE4BF4F37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D4BB-9979-4FEA-B341-EBC79754BC8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B61-B689-4282-8673-1ED55BE4F5B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0DE-504A-4C86-BE23-1695FB209DB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BF2B-D20B-4E42-85DE-8AB36896C1F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BE2D-161B-481E-8FC2-21C3E70988F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E244-FFA7-4EC6-9E95-853D540D383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9106-8233-4DAD-ABCD-0C1C93960A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2FF7-BEA9-482C-A94F-46447C6CC2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681D-FB19-457B-8DF6-B9789E3455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E885-7F2D-4478-8682-B2C046B795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235B-743F-4DFF-AA2D-2749D2960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A989-91DB-4536-B6CE-B64EADB5A1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6C75-C51C-4F1A-AA16-A5C5E9B5D4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968C-1D44-4328-9C3F-9148B4A5A5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4BC6-20DA-4C46-9106-75008E06BD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5263-00D2-451D-A132-5BB1A8F28E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F7B4-AD0B-4B5D-BC46-445732CA8F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A554-D72E-454B-A1F3-6970F4F806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E21B-9F5E-4B9C-B075-F6AD99ECC6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A503-5242-42CD-913A-410C79CD73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277C-B6D7-460B-B1C4-28B8C0E44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A8BE-8071-464B-9150-288EF4A9B8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682C-3176-4E2F-A860-A54DA7C614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77C8-B56A-4339-92A8-FF38D5D999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A424-1291-4349-B9C3-83CA157340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6A88-5409-4548-9FE8-6948C9BF02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7674-7BE4-4359-A3C4-83B7FCD095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F7A1-787A-4817-B631-D451BBA73B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11B5-C3D1-464C-9588-BB173C8F72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24E4-7F53-445B-9A85-546F03D46B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F4FD-6A19-4E3A-AF9D-7E617B2E9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4F0-8AD9-407F-8FC1-3F838A6143D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DA2-4639-4AED-A5E0-2F99841EB6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247-23C8-4C6C-B0B0-9EC67E7F6A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49F-B215-4D60-88C1-55E4D5F6D2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397-8288-4DB6-BCA0-FEE93EAD53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939-F572-4A80-9863-7CB683D776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702-4330-4631-9180-C38CF8FAED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629-5708-4E46-BC26-4865A33612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807-92BF-4E4D-BF9C-5D516B85231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1AC-41D0-4383-BFE9-842B5685C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D2B-A8ED-4483-A30E-FC53C077CE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7C4-1819-415B-8403-04DA4E9FD3A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DD87-0723-422E-B4EF-7E44FC4F20F3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F9F3-2952-4E82-973F-0FECEB16415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Olivier.Lebois@entsog.eu" TargetMode="External"/><Relationship Id="rId2" Type="http://schemas.openxmlformats.org/officeDocument/2006/relationships/hyperlink" Target="mailto:Carmen.Rodriguez@entsog.eu" TargetMode="External"/><Relationship Id="rId3" Type="http://schemas.openxmlformats.org/officeDocument/2006/relationships/hyperlink" Target="http://www.entsog.eu/" TargetMode="Externa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6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6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9.png"/><Relationship Id="rId46" Type="http://schemas.openxmlformats.org/officeDocument/2006/relationships/image" Target="../media/image20.png"/><Relationship Id="rId47" Type="http://schemas.openxmlformats.org/officeDocument/2006/relationships/image" Target="../media/image19.png"/><Relationship Id="rId48" Type="http://schemas.openxmlformats.org/officeDocument/2006/relationships/image" Target="../media/image21.png"/><Relationship Id="rId49" Type="http://schemas.openxmlformats.org/officeDocument/2006/relationships/image" Target="../media/image22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21.png"/><Relationship Id="rId53" Type="http://schemas.openxmlformats.org/officeDocument/2006/relationships/image" Target="../media/image21.png"/><Relationship Id="rId54" Type="http://schemas.openxmlformats.org/officeDocument/2006/relationships/image" Target="../media/image22.png"/><Relationship Id="rId55" Type="http://schemas.openxmlformats.org/officeDocument/2006/relationships/image" Target="../media/image22.png"/><Relationship Id="rId56" Type="http://schemas.openxmlformats.org/officeDocument/2006/relationships/image" Target="../media/image17.png"/><Relationship Id="rId57" Type="http://schemas.openxmlformats.org/officeDocument/2006/relationships/image" Target="../media/image21.png"/><Relationship Id="rId58" Type="http://schemas.openxmlformats.org/officeDocument/2006/relationships/image" Target="../media/image14.png"/><Relationship Id="rId59" Type="http://schemas.openxmlformats.org/officeDocument/2006/relationships/image" Target="../media/image21.png"/><Relationship Id="rId60" Type="http://schemas.openxmlformats.org/officeDocument/2006/relationships/image" Target="../media/image23.png"/><Relationship Id="rId61" Type="http://schemas.openxmlformats.org/officeDocument/2006/relationships/image" Target="../media/image24.png"/><Relationship Id="rId62" Type="http://schemas.openxmlformats.org/officeDocument/2006/relationships/image" Target="../media/image25.png"/><Relationship Id="rId63" Type="http://schemas.openxmlformats.org/officeDocument/2006/relationships/image" Target="../media/image26.png"/><Relationship Id="rId64" Type="http://schemas.openxmlformats.org/officeDocument/2006/relationships/image" Target="../media/image27.png"/><Relationship Id="rId65" Type="http://schemas.openxmlformats.org/officeDocument/2006/relationships/image" Target="../media/image28.png"/><Relationship Id="rId66" Type="http://schemas.openxmlformats.org/officeDocument/2006/relationships/image" Target="../media/image29.png"/><Relationship Id="rId67" Type="http://schemas.openxmlformats.org/officeDocument/2006/relationships/image" Target="../media/image30.png"/><Relationship Id="rId68" Type="http://schemas.openxmlformats.org/officeDocument/2006/relationships/image" Target="../media/image31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4.png"/><Relationship Id="rId72" Type="http://schemas.openxmlformats.org/officeDocument/2006/relationships/image" Target="../media/image35.png"/><Relationship Id="rId73" Type="http://schemas.openxmlformats.org/officeDocument/2006/relationships/image" Target="../media/image32.png"/><Relationship Id="rId74" Type="http://schemas.openxmlformats.org/officeDocument/2006/relationships/image" Target="../media/image36.png"/><Relationship Id="rId75" Type="http://schemas.openxmlformats.org/officeDocument/2006/relationships/image" Target="../media/image32.png"/><Relationship Id="rId76" Type="http://schemas.openxmlformats.org/officeDocument/2006/relationships/image" Target="../media/image33.png"/><Relationship Id="rId77" Type="http://schemas.openxmlformats.org/officeDocument/2006/relationships/image" Target="../media/image37.png"/><Relationship Id="rId78" Type="http://schemas.openxmlformats.org/officeDocument/2006/relationships/image" Target="../media/image37.png"/><Relationship Id="rId79" Type="http://schemas.openxmlformats.org/officeDocument/2006/relationships/image" Target="../media/image37.png"/><Relationship Id="rId80" Type="http://schemas.openxmlformats.org/officeDocument/2006/relationships/slideLayout" Target="../slideLayouts/slideLayout25.xml"/><Relationship Id="rId8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f82"/>
                </a:solidFill>
                <a:latin typeface="Calibri"/>
              </a:rPr>
              <a:t>TYNDP 2013-2022 concept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JWS #7 – conclusion on TYNDP conc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948280"/>
            <a:ext cx="640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TYNDP 2013-2022 Stakeholder Joint Working Session – 29 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cenario vs.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BFD5-68D0-44D6-9F9E-785C04DBC01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1520" y="4797360"/>
            <a:ext cx="418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 kind of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llow the evolution of one variable during the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thways: e.g. Roadm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cast: e.g. best es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Straight Arrow Connector 4"/>
          <p:cNvCxnSpPr/>
          <p:nvPr/>
        </p:nvCxnSpPr>
        <p:spPr>
          <a:xfrm flipV="1">
            <a:off x="539280" y="1267920"/>
            <a:ext cx="1080" cy="1874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Straight Arrow Connector 6"/>
          <p:cNvCxnSpPr/>
          <p:nvPr/>
        </p:nvCxnSpPr>
        <p:spPr>
          <a:xfrm>
            <a:off x="522360" y="3138120"/>
            <a:ext cx="5418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3" name="Freeform 8"/>
          <p:cNvSpPr/>
          <p:nvPr/>
        </p:nvSpPr>
        <p:spPr>
          <a:xfrm>
            <a:off x="525600" y="1959120"/>
            <a:ext cx="3468600" cy="698400"/>
          </a:xfrm>
          <a:custGeom>
            <a:avLst/>
            <a:gdLst/>
            <a:ahLst/>
            <a:rect l="l" t="t" r="r" b="b"/>
            <a:pathLst>
              <a:path w="3467819" h="698740">
                <a:moveTo>
                  <a:pt x="0" y="698740"/>
                </a:moveTo>
                <a:cubicBezTo>
                  <a:pt x="500332" y="506802"/>
                  <a:pt x="1000664" y="314865"/>
                  <a:pt x="1578634" y="198408"/>
                </a:cubicBezTo>
                <a:cubicBezTo>
                  <a:pt x="2156604" y="81951"/>
                  <a:pt x="2812211" y="40975"/>
                  <a:pt x="346781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9"/>
          <p:cNvSpPr/>
          <p:nvPr/>
        </p:nvSpPr>
        <p:spPr>
          <a:xfrm>
            <a:off x="552600" y="1700280"/>
            <a:ext cx="2506680" cy="869760"/>
          </a:xfrm>
          <a:custGeom>
            <a:avLst/>
            <a:gdLst/>
            <a:ahLst/>
            <a:rect l="l" t="t" r="r" b="b"/>
            <a:pathLst>
              <a:path w="3485071" h="810883">
                <a:moveTo>
                  <a:pt x="0" y="810883"/>
                </a:moveTo>
                <a:cubicBezTo>
                  <a:pt x="554966" y="593784"/>
                  <a:pt x="1109932" y="376686"/>
                  <a:pt x="1690777" y="241539"/>
                </a:cubicBezTo>
                <a:cubicBezTo>
                  <a:pt x="2271622" y="106392"/>
                  <a:pt x="3485071" y="0"/>
                  <a:pt x="3485071" y="0"/>
                </a:cubicBezTo>
                <a:lnTo>
                  <a:pt x="3485071" y="0"/>
                </a:lnTo>
              </a:path>
            </a:pathLst>
          </a:custGeom>
          <a:noFill/>
          <a:ln w="2844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2"/>
          <p:cNvSpPr/>
          <p:nvPr/>
        </p:nvSpPr>
        <p:spPr>
          <a:xfrm>
            <a:off x="542880" y="2751120"/>
            <a:ext cx="5159520" cy="293760"/>
          </a:xfrm>
          <a:custGeom>
            <a:avLst/>
            <a:gdLst/>
            <a:ahLst/>
            <a:rect l="l" t="t" r="r" b="b"/>
            <a:pathLst>
              <a:path w="5158596" h="293299">
                <a:moveTo>
                  <a:pt x="0" y="0"/>
                </a:moveTo>
                <a:lnTo>
                  <a:pt x="3260785" y="94891"/>
                </a:lnTo>
                <a:cubicBezTo>
                  <a:pt x="4120551" y="143774"/>
                  <a:pt x="4639573" y="218536"/>
                  <a:pt x="5158596" y="293299"/>
                </a:cubicBezTo>
              </a:path>
            </a:pathLst>
          </a:custGeom>
          <a:noFill/>
          <a:ln w="38160">
            <a:solidFill>
              <a:srgbClr val="00b050"/>
            </a:solidFill>
            <a:prstDash val="sysDash"/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3"/>
          <p:cNvSpPr/>
          <p:nvPr/>
        </p:nvSpPr>
        <p:spPr>
          <a:xfrm>
            <a:off x="534960" y="2328840"/>
            <a:ext cx="5114880" cy="422280"/>
          </a:xfrm>
          <a:custGeom>
            <a:avLst/>
            <a:gdLst/>
            <a:ahLst/>
            <a:rect l="l" t="t" r="r" b="b"/>
            <a:pathLst>
              <a:path w="5115464" h="422694">
                <a:moveTo>
                  <a:pt x="0" y="422694"/>
                </a:moveTo>
                <a:lnTo>
                  <a:pt x="5115464" y="0"/>
                </a:lnTo>
              </a:path>
            </a:pathLst>
          </a:custGeom>
          <a:noFill/>
          <a:ln w="3816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4"/>
          <p:cNvSpPr/>
          <p:nvPr/>
        </p:nvSpPr>
        <p:spPr>
          <a:xfrm>
            <a:off x="534960" y="1871640"/>
            <a:ext cx="5149800" cy="871560"/>
          </a:xfrm>
          <a:custGeom>
            <a:avLst/>
            <a:gdLst/>
            <a:ahLst/>
            <a:rect l="l" t="t" r="r" b="b"/>
            <a:pathLst>
              <a:path w="5149970" h="871268">
                <a:moveTo>
                  <a:pt x="0" y="871268"/>
                </a:moveTo>
                <a:cubicBezTo>
                  <a:pt x="920870" y="611756"/>
                  <a:pt x="1841740" y="352245"/>
                  <a:pt x="2700068" y="207034"/>
                </a:cubicBezTo>
                <a:cubicBezTo>
                  <a:pt x="3558396" y="61823"/>
                  <a:pt x="4354183" y="30911"/>
                  <a:pt x="5149970" y="0"/>
                </a:cubicBezTo>
              </a:path>
            </a:pathLst>
          </a:custGeom>
          <a:noFill/>
          <a:ln w="38160">
            <a:solidFill>
              <a:srgbClr val="00b050"/>
            </a:solidFill>
            <a:prstDash val="lgDash"/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5"/>
          <p:cNvSpPr/>
          <p:nvPr/>
        </p:nvSpPr>
        <p:spPr>
          <a:xfrm>
            <a:off x="542880" y="1181160"/>
            <a:ext cx="5106960" cy="1260360"/>
          </a:xfrm>
          <a:custGeom>
            <a:avLst/>
            <a:gdLst/>
            <a:ahLst/>
            <a:rect l="l" t="t" r="r" b="b"/>
            <a:pathLst>
              <a:path w="5106838" h="1259456">
                <a:moveTo>
                  <a:pt x="0" y="1259456"/>
                </a:moveTo>
                <a:lnTo>
                  <a:pt x="5106838" y="0"/>
                </a:lnTo>
              </a:path>
            </a:pathLst>
          </a:custGeom>
          <a:noFill/>
          <a:ln w="38160">
            <a:solidFill>
              <a:srgbClr val="c7373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488880" y="3162240"/>
            <a:ext cx="548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2022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8"/>
          <p:cNvSpPr/>
          <p:nvPr/>
        </p:nvSpPr>
        <p:spPr>
          <a:xfrm>
            <a:off x="-1440" y="99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7"/>
          <p:cNvSpPr/>
          <p:nvPr/>
        </p:nvSpPr>
        <p:spPr>
          <a:xfrm>
            <a:off x="2043000" y="1751040"/>
            <a:ext cx="216000" cy="216000"/>
          </a:xfrm>
          <a:prstGeom prst="ellipse">
            <a:avLst/>
          </a:prstGeom>
          <a:noFill/>
          <a:ln w="25560">
            <a:solidFill>
              <a:srgbClr val="f7964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urved Right Arrow 19"/>
          <p:cNvSpPr/>
          <p:nvPr/>
        </p:nvSpPr>
        <p:spPr>
          <a:xfrm>
            <a:off x="1258920" y="1733400"/>
            <a:ext cx="720720" cy="2311560"/>
          </a:xfrm>
          <a:custGeom>
            <a:avLst/>
            <a:gdLst>
              <a:gd name="textAreaLeft" fmla="*/ 96480 w 720720"/>
              <a:gd name="textAreaRight" fmla="*/ 624240 w 720720"/>
              <a:gd name="textAreaTop" fmla="*/ 510120 h 2311560"/>
              <a:gd name="textAreaBottom" fmla="*/ 1711440 h 231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38" stAng="-5400000" swAng="-5400000"/>
                <a:lnTo>
                  <a:pt x="0" y="11221"/>
                </a:lnTo>
                <a:arcTo wR="21600" hR="9538" stAng="10800000" swAng="-3581049"/>
                <a:lnTo>
                  <a:pt x="16200" y="21297"/>
                </a:lnTo>
                <a:lnTo>
                  <a:pt x="21600" y="19918"/>
                </a:lnTo>
                <a:lnTo>
                  <a:pt x="16200" y="17932"/>
                </a:lnTo>
                <a:lnTo>
                  <a:pt x="16200" y="18773"/>
                </a:lnTo>
                <a:arcTo wR="21600" hR="9538" stAng="7218951" swAng="3446665"/>
                <a:lnTo>
                  <a:pt x="84" y="10380"/>
                </a:lnTo>
                <a:arcTo wR="21600" hR="9538" stAng="-10665615" swAng="5265615"/>
                <a:close/>
              </a:path>
              <a:path fill="darkenLess" w="21600" h="21600">
                <a:moveTo>
                  <a:pt x="21600" y="0"/>
                </a:moveTo>
                <a:arcTo wR="21600" hR="9538" stAng="-5400000" swAng="-5400000"/>
                <a:lnTo>
                  <a:pt x="0" y="9538"/>
                </a:lnTo>
                <a:arcTo wR="21600" hR="9538" stAng="10800000" swAng="-134385"/>
                <a:lnTo>
                  <a:pt x="84" y="10380"/>
                </a:lnTo>
                <a:arcTo wR="21600" hR="9538" stAng="-10665615" swAng="5265615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Arrow Connector 25"/>
          <p:cNvCxnSpPr/>
          <p:nvPr/>
        </p:nvCxnSpPr>
        <p:spPr>
          <a:xfrm flipV="1">
            <a:off x="2260080" y="3437640"/>
            <a:ext cx="1080" cy="85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4" name="Rectangle 28"/>
          <p:cNvSpPr/>
          <p:nvPr/>
        </p:nvSpPr>
        <p:spPr>
          <a:xfrm>
            <a:off x="2406600" y="3627360"/>
            <a:ext cx="149400" cy="657360"/>
          </a:xfrm>
          <a:prstGeom prst="rect">
            <a:avLst/>
          </a:prstGeom>
          <a:solidFill>
            <a:srgbClr val="eb7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895560" y="4000680"/>
            <a:ext cx="149400" cy="274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1"/>
          <p:cNvSpPr/>
          <p:nvPr/>
        </p:nvSpPr>
        <p:spPr>
          <a:xfrm>
            <a:off x="2260440" y="4292640"/>
            <a:ext cx="23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eaks     2-week peak    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2"/>
          <p:cNvSpPr/>
          <p:nvPr/>
        </p:nvSpPr>
        <p:spPr>
          <a:xfrm>
            <a:off x="1724040" y="134136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2017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4"/>
          <p:cNvSpPr/>
          <p:nvPr/>
        </p:nvSpPr>
        <p:spPr>
          <a:xfrm>
            <a:off x="3132000" y="3716280"/>
            <a:ext cx="147600" cy="5684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21"/>
          <p:cNvCxnSpPr/>
          <p:nvPr/>
        </p:nvCxnSpPr>
        <p:spPr>
          <a:xfrm>
            <a:off x="2251080" y="4284360"/>
            <a:ext cx="1969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0" name="Content Placeholder 2"/>
          <p:cNvSpPr/>
          <p:nvPr/>
        </p:nvSpPr>
        <p:spPr>
          <a:xfrm>
            <a:off x="4643280" y="4724280"/>
            <a:ext cx="439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es are derived from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-week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ight Brace 7172"/>
          <p:cNvSpPr/>
          <p:nvPr/>
        </p:nvSpPr>
        <p:spPr>
          <a:xfrm>
            <a:off x="5940360" y="1181160"/>
            <a:ext cx="432000" cy="1863720"/>
          </a:xfrm>
          <a:custGeom>
            <a:avLst/>
            <a:gdLst>
              <a:gd name="textAreaLeft" fmla="*/ 0 w 432000"/>
              <a:gd name="textAreaRight" fmla="*/ 155880 w 432000"/>
              <a:gd name="textAreaTop" fmla="*/ 40680 h 1863720"/>
              <a:gd name="textAreaBottom" fmla="*/ 1823040 h 18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7"/>
                </a:cubicBezTo>
                <a:lnTo>
                  <a:pt x="10800" y="9183"/>
                </a:lnTo>
                <a:cubicBezTo>
                  <a:pt x="10800" y="9942"/>
                  <a:pt x="16200" y="10700"/>
                  <a:pt x="21600" y="10700"/>
                </a:cubicBezTo>
                <a:cubicBezTo>
                  <a:pt x="16200" y="10700"/>
                  <a:pt x="10800" y="11459"/>
                  <a:pt x="10800" y="12217"/>
                </a:cubicBezTo>
                <a:lnTo>
                  <a:pt x="10800" y="20083"/>
                </a:lnTo>
                <a:cubicBezTo>
                  <a:pt x="10800" y="20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ontent Placeholder 2"/>
          <p:cNvSpPr/>
          <p:nvPr/>
        </p:nvSpPr>
        <p:spPr>
          <a:xfrm>
            <a:off x="6659640" y="1700280"/>
            <a:ext cx="23050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Considered scenarios 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C485-BACA-4660-A483-6F16818937A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39280" y="98100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dered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s: TSO, Primes, Euro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scenarios: Minimum, medium and maxim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s: Existing infra. + FID &amp; Existing infra. + FID +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fferent parameter setting when defin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50920" y="3141720"/>
          <a:ext cx="8642160" cy="2595600"/>
        </p:xfrm>
        <a:graphic>
          <a:graphicData uri="http://schemas.openxmlformats.org/drawingml/2006/table">
            <a:tbl>
              <a:tblPr/>
              <a:tblGrid>
                <a:gridCol w="2736720"/>
                <a:gridCol w="1513080"/>
                <a:gridCol w="43923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dis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taneous p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omi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 dis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week simultaneous p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sruption (specific infra. to be 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ly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1 (through Tunis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2 (through Moroc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 (update of GLE stud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Chart 8" descr=""/>
          <p:cNvPicPr/>
          <p:nvPr/>
        </p:nvPicPr>
        <p:blipFill>
          <a:blip r:embed="rId1"/>
          <a:stretch/>
        </p:blipFill>
        <p:spPr>
          <a:xfrm>
            <a:off x="103320" y="2346480"/>
            <a:ext cx="4322520" cy="396216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4FC8-3C7E-4E5D-8457-4F07286A852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space réservé du contenu 2"/>
          <p:cNvSpPr/>
          <p:nvPr/>
        </p:nvSpPr>
        <p:spPr>
          <a:xfrm>
            <a:off x="303120" y="1046160"/>
            <a:ext cx="863136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ition of a maximum, medium and minimum supply potential by sourc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based on publicly available data from governmental and other sourc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levels are defined at yearly level. For the analysis they have been translated in the daily aver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potent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Chart 12" descr=""/>
          <p:cNvPicPr/>
          <p:nvPr/>
        </p:nvPicPr>
        <p:blipFill>
          <a:blip r:embed="rId2"/>
          <a:stretch/>
        </p:blipFill>
        <p:spPr>
          <a:xfrm>
            <a:off x="4498920" y="2346480"/>
            <a:ext cx="4645080" cy="3809880"/>
          </a:xfrm>
          <a:prstGeom prst="rect">
            <a:avLst/>
          </a:prstGeom>
          <a:ln w="0">
            <a:noFill/>
          </a:ln>
        </p:spPr>
      </p:pic>
      <p:cxnSp>
        <p:nvCxnSpPr>
          <p:cNvPr id="632" name="Straight Arrow Connector 5"/>
          <p:cNvCxnSpPr/>
          <p:nvPr/>
        </p:nvCxnSpPr>
        <p:spPr>
          <a:xfrm flipV="1">
            <a:off x="2556000" y="2133000"/>
            <a:ext cx="2304000" cy="13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TextBox 14"/>
          <p:cNvSpPr/>
          <p:nvPr/>
        </p:nvSpPr>
        <p:spPr>
          <a:xfrm>
            <a:off x="4865040" y="2011320"/>
            <a:ext cx="33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pper limit: Test of Market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Up-Down Arrow 1"/>
          <p:cNvSpPr/>
          <p:nvPr/>
        </p:nvSpPr>
        <p:spPr>
          <a:xfrm>
            <a:off x="3995640" y="3357720"/>
            <a:ext cx="144720" cy="215640"/>
          </a:xfrm>
          <a:prstGeom prst="upDownArrow">
            <a:avLst>
              <a:gd name="adj1" fmla="val 50000"/>
              <a:gd name="adj2" fmla="val 49847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2730240" y="3335400"/>
            <a:ext cx="129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Upper limit flexi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trix of cases -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5C9-5E09-4C1D-AE85-630219DD200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29600" cy="4200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8000" y="-27000"/>
            <a:ext cx="89280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trix of cases - 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ECFF-CDC3-4DE0-A048-1A5CDFEEF41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108000" y="565200"/>
            <a:ext cx="4325760" cy="63072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2"/>
          <a:stretch/>
        </p:blipFill>
        <p:spPr>
          <a:xfrm>
            <a:off x="4697280" y="565200"/>
            <a:ext cx="4314960" cy="628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trix of cases – Market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C25C-EA15-4FE0-BD71-16714378CFA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4527720" cy="50292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"/>
          <p:cNvPicPr/>
          <p:nvPr/>
        </p:nvPicPr>
        <p:blipFill>
          <a:blip r:embed="rId2"/>
          <a:stretch/>
        </p:blipFill>
        <p:spPr>
          <a:xfrm>
            <a:off x="4619520" y="836640"/>
            <a:ext cx="4527720" cy="5029200"/>
          </a:xfrm>
          <a:prstGeom prst="rect">
            <a:avLst/>
          </a:prstGeom>
          <a:ln w="0">
            <a:noFill/>
          </a:ln>
        </p:spPr>
      </p:pic>
      <p:sp>
        <p:nvSpPr>
          <p:cNvPr id="647" name="Rounded Rectangle 2"/>
          <p:cNvSpPr/>
          <p:nvPr/>
        </p:nvSpPr>
        <p:spPr>
          <a:xfrm>
            <a:off x="1763640" y="6093000"/>
            <a:ext cx="5761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4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98 cases to compare to the 67 of TYNDP 2011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Infrastructur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162-4510-4077-AFCE-458E9CC6835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Applied methodologies per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A94B-F2C0-43E2-BE11-D7AEE675636D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78920" y="981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ference and disruption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ion of Remaining Flexibility per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vestment gap and remedy iden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nimum UGS deliverability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ion of Remaining Flexibility per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systems where withdraw rates should be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ion of required withdraw rates (stock levels) to face the ev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ket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aximization: even reach and multiple maximum r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infrastructure preventing to reach a given supply share in every country (if any limi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inimization: even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infrastructure preventing (if any limitation) to reach the lower lim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/Route diversification index defined by country for both maximum and even r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Remaining flexibility &amp; investment g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5040" y="836280"/>
            <a:ext cx="6251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maining flexibility ind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is defined at 2 leve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ystem lev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s are provided as ranges: &lt;1% / 1-5% / 5-20% / &gt;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ap identificat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nder Reference Case (no disruption), gaps are identified when a system has a Rem. Flex below 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ase of disruption, the criteria is decreased to 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1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part of the Rem. Flex will have been used to face the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n congested infrastructure (or supply) are identified based on their Rem. F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remedies will be identified using the non-FID projects provided by project promoters (without prior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BAE-AA4C-40EF-8C26-5AFA3028F96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1099" t="2893" r="5046" b="0"/>
          <a:stretch/>
        </p:blipFill>
        <p:spPr>
          <a:xfrm>
            <a:off x="6346800" y="3645000"/>
            <a:ext cx="2763720" cy="2862000"/>
          </a:xfrm>
          <a:prstGeom prst="rect">
            <a:avLst/>
          </a:prstGeom>
          <a:ln w="0">
            <a:noFill/>
          </a:ln>
        </p:spPr>
      </p:pic>
      <p:pic>
        <p:nvPicPr>
          <p:cNvPr id="657" name="TextBox 4" descr=""/>
          <p:cNvPicPr/>
          <p:nvPr/>
        </p:nvPicPr>
        <p:blipFill>
          <a:blip r:embed="rId2"/>
          <a:stretch/>
        </p:blipFill>
        <p:spPr>
          <a:xfrm>
            <a:off x="2560680" y="1579680"/>
            <a:ext cx="2919240" cy="37152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5" descr=""/>
          <p:cNvPicPr/>
          <p:nvPr/>
        </p:nvPicPr>
        <p:blipFill>
          <a:blip r:embed="rId3"/>
          <a:stretch/>
        </p:blipFill>
        <p:spPr>
          <a:xfrm>
            <a:off x="2560680" y="2133720"/>
            <a:ext cx="3565440" cy="67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6278400" y="1368360"/>
          <a:ext cx="2832120" cy="1754280"/>
        </p:xfrm>
        <a:graphic>
          <a:graphicData uri="http://schemas.openxmlformats.org/drawingml/2006/table">
            <a:tbl>
              <a:tblPr/>
              <a:tblGrid>
                <a:gridCol w="2832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endence to flow 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Gap and remedy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FB69-9D8F-4729-B87D-3EC9FE4F39A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79280" y="836640"/>
          <a:ext cx="8856720" cy="5126040"/>
        </p:xfrm>
        <a:graphic>
          <a:graphicData uri="http://schemas.openxmlformats.org/drawingml/2006/table">
            <a:tbl>
              <a:tblPr/>
              <a:tblGrid>
                <a:gridCol w="936720"/>
                <a:gridCol w="863640"/>
                <a:gridCol w="1079640"/>
                <a:gridCol w="2376360"/>
                <a:gridCol w="1584360"/>
                <a:gridCol w="792000"/>
                <a:gridCol w="122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D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-FID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. F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tailed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e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. F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tailed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3" name="TextBox 6"/>
          <p:cNvSpPr/>
          <p:nvPr/>
        </p:nvSpPr>
        <p:spPr>
          <a:xfrm>
            <a:off x="250920" y="6021360"/>
            <a:ext cx="799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medies will be identified if within the list of submitted infrastructure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pecific reference will be made to the project to ease the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3875040" y="1865160"/>
            <a:ext cx="1254240" cy="3867480"/>
            <a:chOff x="3875040" y="1865160"/>
            <a:chExt cx="1254240" cy="3867480"/>
          </a:xfrm>
        </p:grpSpPr>
        <p:pic>
          <p:nvPicPr>
            <p:cNvPr id="665" name="Rectangle 2" descr=""/>
            <p:cNvPicPr/>
            <p:nvPr/>
          </p:nvPicPr>
          <p:blipFill>
            <a:blip r:embed="rId1"/>
            <a:stretch/>
          </p:blipFill>
          <p:spPr>
            <a:xfrm>
              <a:off x="3875040" y="1865160"/>
              <a:ext cx="125424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Rectangle 7" descr=""/>
            <p:cNvPicPr/>
            <p:nvPr/>
          </p:nvPicPr>
          <p:blipFill>
            <a:blip r:embed="rId2"/>
            <a:stretch/>
          </p:blipFill>
          <p:spPr>
            <a:xfrm>
              <a:off x="3875040" y="2585160"/>
              <a:ext cx="125424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Rectangle 8" descr=""/>
            <p:cNvPicPr/>
            <p:nvPr/>
          </p:nvPicPr>
          <p:blipFill>
            <a:blip r:embed="rId3"/>
            <a:stretch/>
          </p:blipFill>
          <p:spPr>
            <a:xfrm>
              <a:off x="3875040" y="3310200"/>
              <a:ext cx="12542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Rectangle 9" descr=""/>
            <p:cNvPicPr/>
            <p:nvPr/>
          </p:nvPicPr>
          <p:blipFill>
            <a:blip r:embed="rId4"/>
            <a:stretch/>
          </p:blipFill>
          <p:spPr>
            <a:xfrm>
              <a:off x="3875040" y="4030200"/>
              <a:ext cx="12542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Rectangle 10" descr=""/>
            <p:cNvPicPr/>
            <p:nvPr/>
          </p:nvPicPr>
          <p:blipFill>
            <a:blip r:embed="rId5"/>
            <a:stretch/>
          </p:blipFill>
          <p:spPr>
            <a:xfrm>
              <a:off x="3875040" y="4637160"/>
              <a:ext cx="125424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11"/>
          <p:cNvGrpSpPr/>
          <p:nvPr/>
        </p:nvGrpSpPr>
        <p:grpSpPr>
          <a:xfrm>
            <a:off x="5867280" y="1933560"/>
            <a:ext cx="1254240" cy="3865680"/>
            <a:chOff x="5867280" y="1933560"/>
            <a:chExt cx="1254240" cy="3865680"/>
          </a:xfrm>
        </p:grpSpPr>
        <p:pic>
          <p:nvPicPr>
            <p:cNvPr id="671" name="Rectangle 12" descr=""/>
            <p:cNvPicPr/>
            <p:nvPr/>
          </p:nvPicPr>
          <p:blipFill>
            <a:blip r:embed="rId6"/>
            <a:stretch/>
          </p:blipFill>
          <p:spPr>
            <a:xfrm>
              <a:off x="5867280" y="1933560"/>
              <a:ext cx="125424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Rectangle 13" descr=""/>
            <p:cNvPicPr/>
            <p:nvPr/>
          </p:nvPicPr>
          <p:blipFill>
            <a:blip r:embed="rId7"/>
            <a:stretch/>
          </p:blipFill>
          <p:spPr>
            <a:xfrm>
              <a:off x="5867280" y="2653200"/>
              <a:ext cx="125424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Rectangle 14" descr=""/>
            <p:cNvPicPr/>
            <p:nvPr/>
          </p:nvPicPr>
          <p:blipFill>
            <a:blip r:embed="rId8"/>
            <a:stretch/>
          </p:blipFill>
          <p:spPr>
            <a:xfrm>
              <a:off x="5867280" y="3377880"/>
              <a:ext cx="1254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Rectangle 15" descr=""/>
            <p:cNvPicPr/>
            <p:nvPr/>
          </p:nvPicPr>
          <p:blipFill>
            <a:blip r:embed="rId9"/>
            <a:stretch/>
          </p:blipFill>
          <p:spPr>
            <a:xfrm>
              <a:off x="5867280" y="4097880"/>
              <a:ext cx="1254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Rectangle 16" descr=""/>
            <p:cNvPicPr/>
            <p:nvPr/>
          </p:nvPicPr>
          <p:blipFill>
            <a:blip r:embed="rId10"/>
            <a:stretch/>
          </p:blipFill>
          <p:spPr>
            <a:xfrm>
              <a:off x="5867280" y="4704480"/>
              <a:ext cx="1254240" cy="109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TYNDP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66A-FE66-4DB2-AD59-FD36CDFCE77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9280" y="1052280"/>
            <a:ext cx="8425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the European gas infrastructur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ing a network development plan, TYNDP focuses on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adequacy outlook has to be checked at aggregated European level and at local one (balancing zone) as demand and supply levels and locations have a direct influence on the need of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sidered scenarios/cases have to be stressful but still real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-down layer enabling the identification of trends and impacts that cannot be identified at national level because of a very meshed European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s consist i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9084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s assessing SoS, Market Integra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9084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investment gaps hampering demand 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90840" indent="-3189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SOG TYNDP is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 assessment of the good implementation of market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trategic study of producing/transit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Indicators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(still to be discussed with stakehold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47DA-BEA9-4A3E-AE4D-82F33A25CFF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diver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ACD-C5EE-4D68-B8ED-AABBAC973B9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24000" y="907920"/>
            <a:ext cx="82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acting supply 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share of a given supply source able to induce a significant impact on pr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hould it be calculated in comparison with the total supply or the total impor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2011-2020 used mostly 5% (identifying also systems with more than 20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map, supply shares should be represented with figures or rang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rcRect l="5833" t="14800" r="62833" b="44800"/>
          <a:stretch/>
        </p:blipFill>
        <p:spPr>
          <a:xfrm>
            <a:off x="5022720" y="3645000"/>
            <a:ext cx="4021200" cy="2160360"/>
          </a:xfrm>
          <a:prstGeom prst="rect">
            <a:avLst/>
          </a:prstGeom>
          <a:ln w="0">
            <a:noFill/>
          </a:ln>
        </p:spPr>
      </p:pic>
      <p:sp>
        <p:nvSpPr>
          <p:cNvPr id="682" name="Content Placeholder 2"/>
          <p:cNvSpPr/>
          <p:nvPr/>
        </p:nvSpPr>
        <p:spPr>
          <a:xfrm>
            <a:off x="260280" y="3068640"/>
            <a:ext cx="496728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diversification from a marke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ld be based on the uniform or maximum sp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is the minimum share of a given source to be conside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deal with LNG embedded diversification (e.g. highlighting the presence of LNG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a benchmark (e.g. 3 sources require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Route diver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792B-7A79-4BF1-BEAD-CD7BBAE8F74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824040"/>
            <a:ext cx="82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ry Capacity Concentration 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sed on the same logic than HHI but calculated on the share of an entry capacity in the total ent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upply diversification index may be defined the same way using the flows coming from supply sources but index will then depend on flow pattern (which could be mitigated through a sensitivity stud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5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5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5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Content Placeholder 2"/>
          <p:cNvSpPr/>
          <p:nvPr/>
        </p:nvSpPr>
        <p:spPr>
          <a:xfrm>
            <a:off x="320760" y="4218120"/>
            <a:ext cx="8516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it Capacity Concent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ilar indicators may defined based on exit capacity in order to measure how a system may support supply/route diver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ult should be compared to the idealistic situation taking into account the number of cross-b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6"/>
          <p:cNvGrpSpPr/>
          <p:nvPr/>
        </p:nvGrpSpPr>
        <p:grpSpPr>
          <a:xfrm>
            <a:off x="179280" y="2963880"/>
            <a:ext cx="2106720" cy="1079640"/>
            <a:chOff x="179280" y="2963880"/>
            <a:chExt cx="2106720" cy="1079640"/>
          </a:xfrm>
        </p:grpSpPr>
        <p:grpSp>
          <p:nvGrpSpPr>
            <p:cNvPr id="688" name="Group 7"/>
            <p:cNvGrpSpPr/>
            <p:nvPr/>
          </p:nvGrpSpPr>
          <p:grpSpPr>
            <a:xfrm>
              <a:off x="629280" y="2963880"/>
              <a:ext cx="1656720" cy="1079640"/>
              <a:chOff x="629280" y="2963880"/>
              <a:chExt cx="1656720" cy="1079640"/>
            </a:xfrm>
          </p:grpSpPr>
          <p:sp>
            <p:nvSpPr>
              <p:cNvPr id="689" name="Rounded Rectangle 9"/>
              <p:cNvSpPr/>
              <p:nvPr/>
            </p:nvSpPr>
            <p:spPr>
              <a:xfrm>
                <a:off x="909360" y="2963880"/>
                <a:ext cx="1376640" cy="1079640"/>
              </a:xfrm>
              <a:prstGeom prst="roundRect">
                <a:avLst>
                  <a:gd name="adj" fmla="val 16667"/>
                </a:avLst>
              </a:prstGeom>
              <a:solidFill>
                <a:srgbClr val="b4d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Down Arrow 10"/>
              <p:cNvGrpSpPr/>
              <p:nvPr/>
            </p:nvGrpSpPr>
            <p:grpSpPr>
              <a:xfrm>
                <a:off x="629280" y="3255120"/>
                <a:ext cx="560160" cy="542160"/>
                <a:chOff x="629280" y="3255120"/>
                <a:chExt cx="560160" cy="542160"/>
              </a:xfrm>
            </p:grpSpPr>
            <p:pic>
              <p:nvPicPr>
                <p:cNvPr id="691" name="Down Arrow 1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9280" y="3255120"/>
                  <a:ext cx="560160" cy="54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2" name=""/>
                <p:cNvSpPr/>
                <p:nvPr/>
              </p:nvSpPr>
              <p:spPr>
                <a:xfrm rot="16200000">
                  <a:off x="749160" y="3330000"/>
                  <a:ext cx="216000" cy="34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3" name="TextBox 8"/>
            <p:cNvSpPr/>
            <p:nvPr/>
          </p:nvSpPr>
          <p:spPr>
            <a:xfrm>
              <a:off x="179280" y="3049200"/>
              <a:ext cx="9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1"/>
          <p:cNvGrpSpPr/>
          <p:nvPr/>
        </p:nvGrpSpPr>
        <p:grpSpPr>
          <a:xfrm>
            <a:off x="4365720" y="2679840"/>
            <a:ext cx="3338280" cy="1592280"/>
            <a:chOff x="4365720" y="2679840"/>
            <a:chExt cx="3338280" cy="1592280"/>
          </a:xfrm>
        </p:grpSpPr>
        <p:sp>
          <p:nvSpPr>
            <p:cNvPr id="695" name="Isosceles Triangle 12"/>
            <p:cNvSpPr/>
            <p:nvPr/>
          </p:nvSpPr>
          <p:spPr>
            <a:xfrm>
              <a:off x="6021720" y="3611880"/>
              <a:ext cx="327960" cy="216000"/>
            </a:xfrm>
            <a:prstGeom prst="triangle">
              <a:avLst>
                <a:gd name="adj" fmla="val 50000"/>
              </a:avLst>
            </a:prstGeom>
            <a:solidFill>
              <a:srgbClr val="b4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13"/>
            <p:cNvGrpSpPr/>
            <p:nvPr/>
          </p:nvGrpSpPr>
          <p:grpSpPr>
            <a:xfrm>
              <a:off x="4927680" y="2729520"/>
              <a:ext cx="1876320" cy="1542600"/>
              <a:chOff x="4927680" y="2729520"/>
              <a:chExt cx="1876320" cy="1542600"/>
            </a:xfrm>
          </p:grpSpPr>
          <p:sp>
            <p:nvSpPr>
              <p:cNvPr id="697" name="Rounded Rectangle 18"/>
              <p:cNvSpPr/>
              <p:nvPr/>
            </p:nvSpPr>
            <p:spPr>
              <a:xfrm>
                <a:off x="5219280" y="2992320"/>
                <a:ext cx="1359720" cy="1008720"/>
              </a:xfrm>
              <a:prstGeom prst="roundRect">
                <a:avLst>
                  <a:gd name="adj" fmla="val 16667"/>
                </a:avLst>
              </a:prstGeom>
              <a:solidFill>
                <a:srgbClr val="b4d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Down Arrow 19"/>
              <p:cNvGrpSpPr/>
              <p:nvPr/>
            </p:nvGrpSpPr>
            <p:grpSpPr>
              <a:xfrm>
                <a:off x="4927680" y="3264480"/>
                <a:ext cx="581400" cy="506520"/>
                <a:chOff x="4927680" y="3264480"/>
                <a:chExt cx="581400" cy="506520"/>
              </a:xfrm>
            </p:grpSpPr>
            <p:pic>
              <p:nvPicPr>
                <p:cNvPr id="699" name="Down Arrow 1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27680" y="3264480"/>
                  <a:ext cx="58140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0" name=""/>
                <p:cNvSpPr/>
                <p:nvPr/>
              </p:nvSpPr>
              <p:spPr>
                <a:xfrm rot="16200000">
                  <a:off x="5067360" y="3309120"/>
                  <a:ext cx="201600" cy="37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Down Arrow 20"/>
              <p:cNvGrpSpPr/>
              <p:nvPr/>
            </p:nvGrpSpPr>
            <p:grpSpPr>
              <a:xfrm>
                <a:off x="5750640" y="2729520"/>
                <a:ext cx="512280" cy="574920"/>
                <a:chOff x="5750640" y="2729520"/>
                <a:chExt cx="512280" cy="574920"/>
              </a:xfrm>
            </p:grpSpPr>
            <p:pic>
              <p:nvPicPr>
                <p:cNvPr id="702" name="Down Arrow 2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50640" y="2729520"/>
                  <a:ext cx="512280" cy="57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3" name=""/>
                <p:cNvSpPr/>
                <p:nvPr/>
              </p:nvSpPr>
              <p:spPr>
                <a:xfrm>
                  <a:off x="5903280" y="2756880"/>
                  <a:ext cx="20376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Isosceles Triangle 21"/>
              <p:cNvGrpSpPr/>
              <p:nvPr/>
            </p:nvGrpSpPr>
            <p:grpSpPr>
              <a:xfrm>
                <a:off x="5802480" y="3264480"/>
                <a:ext cx="512280" cy="574920"/>
                <a:chOff x="5802480" y="3264480"/>
                <a:chExt cx="512280" cy="574920"/>
              </a:xfrm>
            </p:grpSpPr>
            <p:pic>
              <p:nvPicPr>
                <p:cNvPr id="705" name="Isosceles Triangle 2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02480" y="3264480"/>
                  <a:ext cx="512280" cy="57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6" name=""/>
                <p:cNvSpPr/>
                <p:nvPr/>
              </p:nvSpPr>
              <p:spPr>
                <a:xfrm>
                  <a:off x="5957280" y="3530160"/>
                  <a:ext cx="2037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Flowchart: Delay 22"/>
              <p:cNvGrpSpPr/>
              <p:nvPr/>
            </p:nvGrpSpPr>
            <p:grpSpPr>
              <a:xfrm>
                <a:off x="6159600" y="3765600"/>
                <a:ext cx="644400" cy="506520"/>
                <a:chOff x="6159600" y="3765600"/>
                <a:chExt cx="644400" cy="506520"/>
              </a:xfrm>
            </p:grpSpPr>
            <p:pic>
              <p:nvPicPr>
                <p:cNvPr id="708" name="Flowchart: Delay 2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159600" y="3765600"/>
                  <a:ext cx="64440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9" name=""/>
                <p:cNvSpPr/>
                <p:nvPr/>
              </p:nvSpPr>
              <p:spPr>
                <a:xfrm rot="16200000">
                  <a:off x="6308640" y="3832200"/>
                  <a:ext cx="344520" cy="38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0" name="TextBox 14"/>
            <p:cNvSpPr/>
            <p:nvPr/>
          </p:nvSpPr>
          <p:spPr>
            <a:xfrm>
              <a:off x="4365720" y="30578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5"/>
            <p:cNvSpPr/>
            <p:nvPr/>
          </p:nvSpPr>
          <p:spPr>
            <a:xfrm>
              <a:off x="5285880" y="26798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"/>
            <p:cNvSpPr/>
            <p:nvPr/>
          </p:nvSpPr>
          <p:spPr>
            <a:xfrm>
              <a:off x="6228000" y="328788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Box 17"/>
            <p:cNvSpPr/>
            <p:nvPr/>
          </p:nvSpPr>
          <p:spPr>
            <a:xfrm>
              <a:off x="6804000" y="385920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2"/>
          <p:cNvSpPr/>
          <p:nvPr/>
        </p:nvSpPr>
        <p:spPr>
          <a:xfrm>
            <a:off x="2298600" y="32083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²= 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4"/>
          <p:cNvSpPr/>
          <p:nvPr/>
        </p:nvSpPr>
        <p:spPr>
          <a:xfrm>
            <a:off x="7254720" y="294012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²+30²+20²+10²= 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ounded Rectangle 25"/>
          <p:cNvSpPr/>
          <p:nvPr/>
        </p:nvSpPr>
        <p:spPr>
          <a:xfrm>
            <a:off x="1111320" y="5989680"/>
            <a:ext cx="66247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4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for all indicators, analysis is more robust when comparing situation of one country between 2 c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Range of infrastructure use in th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99680" y="1197000"/>
            <a:ext cx="82486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ynthetic indicator can be derived from all sim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 can be defined for every syst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cross-border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GS aggre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aggre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ge would be defined base on the highest and lowest load factor of the 198 simulations (not considering Reference Ca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C21-BC76-4B02-812A-6B8073B6233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Chart 5" descr=""/>
          <p:cNvPicPr/>
          <p:nvPr/>
        </p:nvPicPr>
        <p:blipFill>
          <a:blip r:embed="rId1"/>
          <a:stretch/>
        </p:blipFill>
        <p:spPr>
          <a:xfrm>
            <a:off x="4286160" y="357192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721" name="TextBox 4"/>
          <p:cNvSpPr/>
          <p:nvPr/>
        </p:nvSpPr>
        <p:spPr>
          <a:xfrm>
            <a:off x="468360" y="3716280"/>
            <a:ext cx="35989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use may be outside these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bustness could be improved with a sensitivity study around each simulation modifying slightly the supply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itle 4"/>
          <p:cNvSpPr/>
          <p:nvPr/>
        </p:nvSpPr>
        <p:spPr>
          <a:xfrm>
            <a:off x="611280" y="2530440"/>
            <a:ext cx="7929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Definition of the referenc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CAF6-0021-45EB-A81D-A4C48A40095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F86-807D-410F-A62F-41A178C9730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New approach: a more realistic reference ca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Espace réservé du contenu 2"/>
          <p:cNvSpPr/>
          <p:nvPr/>
        </p:nvSpPr>
        <p:spPr>
          <a:xfrm>
            <a:off x="303120" y="1235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ition of Potential levels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sour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2009-2010-2011 on the ENTSOG historical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mport flows by route are proportional to the historical utilization of the routes – average 2009-2010-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a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certain share of LNG is treated as pipeline gas -&gt; Daily minimum LNG import. The remaining LNG import capacity, as well as the UGS are used as last resource sources, with common load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ipeline imports are defined by the historical daily maximums by source (or by ro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itle 4"/>
          <p:cNvSpPr/>
          <p:nvPr/>
        </p:nvSpPr>
        <p:spPr>
          <a:xfrm>
            <a:off x="611280" y="2530440"/>
            <a:ext cx="7929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Definition of the referenc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AVERAG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AF2E-8BD6-4896-803F-C6A4E4A25B8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Average daily supply share – Reference Ca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5C54-7A3F-4C22-B55F-A0D45F315B3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08000" y="1557360"/>
          <a:ext cx="8826480" cy="3701880"/>
        </p:xfrm>
        <a:graphic>
          <a:graphicData uri="http://schemas.openxmlformats.org/drawingml/2006/table">
            <a:tbl>
              <a:tblPr/>
              <a:tblGrid>
                <a:gridCol w="2227320"/>
                <a:gridCol w="1346040"/>
                <a:gridCol w="1252440"/>
                <a:gridCol w="1192320"/>
                <a:gridCol w="1224000"/>
                <a:gridCol w="1584360"/>
              </a:tblGrid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ration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ra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596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 De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 (5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   (5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   (5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  (5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 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   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13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5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DFFF-4D4B-40DC-95E6-86E7197D50C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New approach: a more realistic reference ca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Espace réservé du contenu 2"/>
          <p:cNvSpPr/>
          <p:nvPr/>
        </p:nvSpPr>
        <p:spPr>
          <a:xfrm>
            <a:off x="303120" y="1235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Definition of Potential levels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sour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2009-2010-2011 on the ENTSOG historical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mport flows by route are proportional to the historical utilization of the routes – average 2009-2010-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Pea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A certain share of LNG is treated as pipeline gas -&gt; Daily minimum LNG import. The remaining LNG import capacity, as well as the UGS are used as last resource sources, with common load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The pipeline imports are defined by the historical daily maximums by source (or by ro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3EDB-97A0-4872-8888-9984D31D3BF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aily Average: Supply shares by Sour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Espace réservé du contenu 2"/>
          <p:cNvSpPr/>
          <p:nvPr/>
        </p:nvSpPr>
        <p:spPr>
          <a:xfrm>
            <a:off x="303120" y="1046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ting point: Average 2009-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n exception: Avoid the effect of Libyan disruption, it’s contribution to the supply share measured by the average 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mall changes in the supply shares by sou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contenu 2"/>
          <p:cNvSpPr/>
          <p:nvPr/>
        </p:nvSpPr>
        <p:spPr>
          <a:xfrm>
            <a:off x="1547640" y="2492280"/>
            <a:ext cx="26640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sh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space réservé du contenu 2"/>
          <p:cNvSpPr/>
          <p:nvPr/>
        </p:nvSpPr>
        <p:spPr>
          <a:xfrm>
            <a:off x="4427640" y="2492280"/>
            <a:ext cx="259236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er sh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Chart 9" descr=""/>
          <p:cNvPicPr/>
          <p:nvPr/>
        </p:nvPicPr>
        <p:blipFill>
          <a:blip r:embed="rId1"/>
          <a:stretch/>
        </p:blipFill>
        <p:spPr>
          <a:xfrm>
            <a:off x="1212840" y="3432240"/>
            <a:ext cx="612612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1810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Process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297C-14AA-42F5-873C-1E104D41174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6160" y="4797000"/>
            <a:ext cx="871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rom concept to re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 derived from previous TYNDP consultation, ACER’s opinion and SJW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will be presented and explained during June WS to facilitate future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 collection and report drafting can then start based on a mature 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2840" y="946080"/>
            <a:ext cx="902664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7"/>
          <p:cNvGrpSpPr/>
          <p:nvPr/>
        </p:nvGrpSpPr>
        <p:grpSpPr>
          <a:xfrm>
            <a:off x="1332000" y="1809720"/>
            <a:ext cx="6480000" cy="3960720"/>
            <a:chOff x="1332000" y="1809720"/>
            <a:chExt cx="6480000" cy="3960720"/>
          </a:xfrm>
        </p:grpSpPr>
        <p:pic>
          <p:nvPicPr>
            <p:cNvPr id="742" name="Chart 14" descr=""/>
            <p:cNvPicPr/>
            <p:nvPr/>
          </p:nvPicPr>
          <p:blipFill>
            <a:blip r:embed="rId1"/>
            <a:stretch/>
          </p:blipFill>
          <p:spPr>
            <a:xfrm>
              <a:off x="1332000" y="1809720"/>
              <a:ext cx="6480000" cy="39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Chart 13" descr=""/>
            <p:cNvPicPr/>
            <p:nvPr/>
          </p:nvPicPr>
          <p:blipFill>
            <a:blip r:embed="rId2"/>
            <a:stretch/>
          </p:blipFill>
          <p:spPr>
            <a:xfrm>
              <a:off x="1940760" y="1809720"/>
              <a:ext cx="5706720" cy="36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3FF4-F166-4EEA-8553-6606FCDF597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aily Average: Supply shares by Sour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Espace réservé du contenu 2"/>
          <p:cNvSpPr/>
          <p:nvPr/>
        </p:nvSpPr>
        <p:spPr>
          <a:xfrm>
            <a:off x="303120" y="1162080"/>
            <a:ext cx="8631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potential level by source: Medium supply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1"/>
          <p:cNvSpPr/>
          <p:nvPr/>
        </p:nvSpPr>
        <p:spPr>
          <a:xfrm>
            <a:off x="825120" y="5805360"/>
            <a:ext cx="34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rk colours: Average shares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4492080" y="5805360"/>
            <a:ext cx="39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 colours: Average shares 2009-2010-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C64-E25E-4B13-96B0-68BFEF496B8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"/>
          <p:cNvSpPr/>
          <p:nvPr/>
        </p:nvSpPr>
        <p:spPr>
          <a:xfrm>
            <a:off x="179280" y="2384280"/>
            <a:ext cx="1297080" cy="936720"/>
          </a:xfrm>
          <a:prstGeom prst="rect">
            <a:avLst/>
          </a:pr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8"/>
          <p:cNvCxnSpPr/>
          <p:nvPr/>
        </p:nvCxnSpPr>
        <p:spPr>
          <a:xfrm>
            <a:off x="86976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cxnSp>
        <p:nvCxnSpPr>
          <p:cNvPr id="752" name="Straight Arrow Connector 10"/>
          <p:cNvCxnSpPr/>
          <p:nvPr/>
        </p:nvCxnSpPr>
        <p:spPr>
          <a:xfrm>
            <a:off x="40608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sp>
        <p:nvSpPr>
          <p:cNvPr id="753" name="Rectangle 12"/>
          <p:cNvSpPr/>
          <p:nvPr/>
        </p:nvSpPr>
        <p:spPr>
          <a:xfrm>
            <a:off x="179280" y="1268280"/>
            <a:ext cx="1297080" cy="4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49320" y="1881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4"/>
          <p:cNvSpPr/>
          <p:nvPr/>
        </p:nvSpPr>
        <p:spPr>
          <a:xfrm>
            <a:off x="517680" y="18986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6"/>
          <p:cNvSpPr/>
          <p:nvPr/>
        </p:nvSpPr>
        <p:spPr>
          <a:xfrm>
            <a:off x="1619280" y="1150920"/>
            <a:ext cx="7345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YNDP 2011-2020 – Common route sh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1 – Balance: 6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 – Technical capacity: 3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 – Technical capacity: 3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3 – Technical capacity: 4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technical capacity: 1000 Units: Load-factor: 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 – 18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 – 18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3 -  24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9"/>
          <p:cNvSpPr/>
          <p:nvPr/>
        </p:nvSpPr>
        <p:spPr>
          <a:xfrm>
            <a:off x="254160" y="3600360"/>
            <a:ext cx="8391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istorical load-factor of the routes (last 3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 1 – 50% - 15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2 – 70% - 21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3 – 40% - 16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tal:  52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route share according to the historical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1 = 600 * (150/520) = 17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2 = 600 * (210/520) = 24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3 = 600 * (160/520) = 184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8" name="Straight Arrow Connector 22"/>
          <p:cNvCxnSpPr/>
          <p:nvPr/>
        </p:nvCxnSpPr>
        <p:spPr>
          <a:xfrm>
            <a:off x="1331640" y="1700280"/>
            <a:ext cx="1080" cy="7214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sp>
        <p:nvSpPr>
          <p:cNvPr id="759" name="TextBox 23"/>
          <p:cNvSpPr/>
          <p:nvPr/>
        </p:nvSpPr>
        <p:spPr>
          <a:xfrm>
            <a:off x="992160" y="1897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shares by 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532-FC6B-4A63-AC08-917E6D49FAF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contenu 2"/>
          <p:cNvSpPr/>
          <p:nvPr/>
        </p:nvSpPr>
        <p:spPr>
          <a:xfrm>
            <a:off x="303120" y="1046160"/>
            <a:ext cx="8631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ssian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shares by route. Results’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Espace réservé du contenu 2"/>
          <p:cNvSpPr/>
          <p:nvPr/>
        </p:nvSpPr>
        <p:spPr>
          <a:xfrm>
            <a:off x="303120" y="1557360"/>
            <a:ext cx="8631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ig differences between the historical load factors of the different routes lead to a significant change in the import shares by route when substituting the average load factor by a historical-based route sh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to the lack of historical data, an average load factor is used for Nordstre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Chart 12" descr=""/>
          <p:cNvPicPr/>
          <p:nvPr/>
        </p:nvPicPr>
        <p:blipFill>
          <a:blip r:embed="rId1"/>
          <a:stretch/>
        </p:blipFill>
        <p:spPr>
          <a:xfrm>
            <a:off x="298440" y="3236760"/>
            <a:ext cx="86374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B01F-01B8-4BA8-A081-315E5D80289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Chart 6" descr=""/>
          <p:cNvPicPr/>
          <p:nvPr/>
        </p:nvPicPr>
        <p:blipFill>
          <a:blip r:embed="rId1"/>
          <a:stretch/>
        </p:blipFill>
        <p:spPr>
          <a:xfrm>
            <a:off x="165240" y="1298520"/>
            <a:ext cx="4333680" cy="3359160"/>
          </a:xfrm>
          <a:prstGeom prst="rect">
            <a:avLst/>
          </a:prstGeom>
          <a:ln w="0">
            <a:noFill/>
          </a:ln>
        </p:spPr>
      </p:pic>
      <p:pic>
        <p:nvPicPr>
          <p:cNvPr id="769" name="Chart 7" descr=""/>
          <p:cNvPicPr/>
          <p:nvPr/>
        </p:nvPicPr>
        <p:blipFill>
          <a:blip r:embed="rId2"/>
          <a:stretch/>
        </p:blipFill>
        <p:spPr>
          <a:xfrm>
            <a:off x="4541760" y="1268280"/>
            <a:ext cx="4541760" cy="3407040"/>
          </a:xfrm>
          <a:prstGeom prst="rect">
            <a:avLst/>
          </a:prstGeom>
          <a:ln w="0">
            <a:noFill/>
          </a:ln>
        </p:spPr>
      </p:pic>
      <p:sp>
        <p:nvSpPr>
          <p:cNvPr id="770" name="Espace réservé du contenu 2"/>
          <p:cNvSpPr/>
          <p:nvPr/>
        </p:nvSpPr>
        <p:spPr>
          <a:xfrm>
            <a:off x="303120" y="4797360"/>
            <a:ext cx="8631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verage historical load factor of the Ukraine to Slovakia route (62%) is significantly over the Russian average (50%), therefore the utilization of this route would be significantly lower when considering an homogeneous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ame is happening for the Belarus to Poland route (including Yamal), where the average historical load factor is 6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2F8A-D175-421D-904E-C5601B60618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space réservé du contenu 2"/>
          <p:cNvSpPr/>
          <p:nvPr/>
        </p:nvSpPr>
        <p:spPr>
          <a:xfrm>
            <a:off x="303120" y="4797360"/>
            <a:ext cx="8631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to the low average historical load factor of the route from Ukraine to Romania (7%) the utilization of an homogeneous load factor values would lead to  too high import flows through this rout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thing similar is found for the route from Ukraine to Hungary where the average historical load factor is 33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Chart 9" descr=""/>
          <p:cNvPicPr/>
          <p:nvPr/>
        </p:nvPicPr>
        <p:blipFill>
          <a:blip r:embed="rId1"/>
          <a:stretch/>
        </p:blipFill>
        <p:spPr>
          <a:xfrm>
            <a:off x="176040" y="1195560"/>
            <a:ext cx="4322880" cy="3108240"/>
          </a:xfrm>
          <a:prstGeom prst="rect">
            <a:avLst/>
          </a:prstGeom>
          <a:ln w="0">
            <a:noFill/>
          </a:ln>
        </p:spPr>
      </p:pic>
      <p:pic>
        <p:nvPicPr>
          <p:cNvPr id="775" name="Chart 10" descr=""/>
          <p:cNvPicPr/>
          <p:nvPr/>
        </p:nvPicPr>
        <p:blipFill>
          <a:blip r:embed="rId2"/>
          <a:stretch/>
        </p:blipFill>
        <p:spPr>
          <a:xfrm>
            <a:off x="4614840" y="1238400"/>
            <a:ext cx="435312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itle 4"/>
          <p:cNvSpPr/>
          <p:nvPr/>
        </p:nvSpPr>
        <p:spPr>
          <a:xfrm>
            <a:off x="611280" y="2530440"/>
            <a:ext cx="7929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Definition of the referenc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PEAK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E5E4-AA0E-47F4-9CAB-386F30B9A17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High daily supply share – Reference Ca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57C3-83C2-4E14-B9D1-FA3513846A8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250920" y="2060640"/>
          <a:ext cx="8424720" cy="3946320"/>
        </p:xfrm>
        <a:graphic>
          <a:graphicData uri="http://schemas.openxmlformats.org/drawingml/2006/table">
            <a:tbl>
              <a:tblPr/>
              <a:tblGrid>
                <a:gridCol w="1728720"/>
                <a:gridCol w="2232000"/>
                <a:gridCol w="1511280"/>
                <a:gridCol w="1513080"/>
                <a:gridCol w="1439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Wh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Daily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Daily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640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covered by UGS and LNG at same load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250920" y="765000"/>
          <a:ext cx="8353440" cy="11844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3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Wh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 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age daily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gh Daily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93D3-F115-4F43-A131-4CCA1D5CEFD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Proposed changes/impr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1"/>
          <p:cNvSpPr/>
          <p:nvPr/>
        </p:nvSpPr>
        <p:spPr>
          <a:xfrm>
            <a:off x="179280" y="2384280"/>
            <a:ext cx="1297080" cy="936720"/>
          </a:xfrm>
          <a:prstGeom prst="rect">
            <a:avLst/>
          </a:pr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8"/>
          <p:cNvCxnSpPr/>
          <p:nvPr/>
        </p:nvCxnSpPr>
        <p:spPr>
          <a:xfrm>
            <a:off x="112824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cxnSp>
        <p:nvCxnSpPr>
          <p:cNvPr id="786" name="Straight Arrow Connector 10"/>
          <p:cNvCxnSpPr/>
          <p:nvPr/>
        </p:nvCxnSpPr>
        <p:spPr>
          <a:xfrm>
            <a:off x="62496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sp>
        <p:nvSpPr>
          <p:cNvPr id="787" name="Rectangle 12"/>
          <p:cNvSpPr/>
          <p:nvPr/>
        </p:nvSpPr>
        <p:spPr>
          <a:xfrm>
            <a:off x="179280" y="1268280"/>
            <a:ext cx="1297080" cy="4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9"/>
          <p:cNvSpPr/>
          <p:nvPr/>
        </p:nvSpPr>
        <p:spPr>
          <a:xfrm>
            <a:off x="268200" y="1881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4"/>
          <p:cNvSpPr/>
          <p:nvPr/>
        </p:nvSpPr>
        <p:spPr>
          <a:xfrm>
            <a:off x="776160" y="18986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6"/>
          <p:cNvSpPr/>
          <p:nvPr/>
        </p:nvSpPr>
        <p:spPr>
          <a:xfrm>
            <a:off x="1619280" y="1150920"/>
            <a:ext cx="734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imum Historical supply from Source1: 13,000 Units – specific d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: 7,5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: 5,5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imum non-simultaneous supply from Source 1: 14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: 8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: 6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torical yearly supply from Source 1: 3,650,000 Units – Average 10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7"/>
          <p:cNvSpPr/>
          <p:nvPr/>
        </p:nvSpPr>
        <p:spPr>
          <a:xfrm>
            <a:off x="179280" y="36450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ak supply from source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8"/>
          <p:cNvSpPr/>
          <p:nvPr/>
        </p:nvSpPr>
        <p:spPr>
          <a:xfrm>
            <a:off x="111240" y="3954600"/>
            <a:ext cx="3539880" cy="22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YNDP 2011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ximum non-simultaneous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ak factor: Maximum/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4,000/10,000 ~ 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pply the historical peak factor to the “estimated” volumes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approach has been said to be to optimistic as the maximum flexibility may have been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9"/>
          <p:cNvSpPr/>
          <p:nvPr/>
        </p:nvSpPr>
        <p:spPr>
          <a:xfrm>
            <a:off x="3719520" y="3959280"/>
            <a:ext cx="524520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ximum historical daily values without yearly volumes consider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ximum simultaneous supply (13,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ximum non-simultaneous supply (14,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olume consideration - Peak fac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simultaneous supply ~ 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non simultaneous supply ~ 1,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647920" y="567540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21"/>
          <p:cNvSpPr/>
          <p:nvPr/>
        </p:nvSpPr>
        <p:spPr>
          <a:xfrm>
            <a:off x="4932360" y="612144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*) Follow the TYNDP 2011-2020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4DE7-100A-446B-986C-D3F46A69C57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New approach: a more realistic reference ca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contenu 2"/>
          <p:cNvSpPr/>
          <p:nvPr/>
        </p:nvSpPr>
        <p:spPr>
          <a:xfrm>
            <a:off x="303120" y="1235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Definition of Potential levels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Dai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Supply shares by sour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Average 2009-2010-2011 on the ENTSOG historical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Supply shares b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The import flows by route are proportional to the historical utilization of the routes – average 2009-2010-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a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certain share of LNG is treated as pipeline gas -&gt; Daily minimum LNG import. The remaining LNG import capacity, as well as the UGS are used as last resource sources, with common load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ipeline imports are defined by the historical daily maximums by source (or by ro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3EA7-1947-47C0-9B46-17020533629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contenu 2"/>
          <p:cNvSpPr/>
          <p:nvPr/>
        </p:nvSpPr>
        <p:spPr>
          <a:xfrm>
            <a:off x="303120" y="1046160"/>
            <a:ext cx="8631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7"/>
          <p:cNvSpPr/>
          <p:nvPr/>
        </p:nvSpPr>
        <p:spPr>
          <a:xfrm>
            <a:off x="318960" y="1557360"/>
            <a:ext cx="86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ximum historical daily values without yearly volumes consid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ximum simultaneous supply -&gt; OP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ximum non-simultaneous supply -&gt; OP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olume consideration - Peak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simultaneous supply  -&gt; OP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non simultaneous supply -&gt; OPTION D   (TYNDP 2011-20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7" descr=""/>
          <p:cNvPicPr/>
          <p:nvPr/>
        </p:nvPicPr>
        <p:blipFill>
          <a:blip r:embed="rId1"/>
          <a:stretch/>
        </p:blipFill>
        <p:spPr>
          <a:xfrm>
            <a:off x="982800" y="3529080"/>
            <a:ext cx="701496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Repor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CB4-7E85-424D-A02A-B287040A00C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9280" y="98100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ggregated supply adequacy outl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an gas infra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verview of current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s translated into mixed network-market to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finition of cases and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vestment gap iden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s assessing level of SoS and Market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n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tailed country and project pro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put and output data from th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260-2A3F-4239-9598-5B11430D2D5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Chart 7" descr=""/>
          <p:cNvPicPr/>
          <p:nvPr/>
        </p:nvPicPr>
        <p:blipFill>
          <a:blip r:embed="rId1"/>
          <a:stretch/>
        </p:blipFill>
        <p:spPr>
          <a:xfrm>
            <a:off x="92160" y="1047600"/>
            <a:ext cx="4535280" cy="3043440"/>
          </a:xfrm>
          <a:prstGeom prst="rect">
            <a:avLst/>
          </a:prstGeom>
          <a:ln w="0">
            <a:noFill/>
          </a:ln>
        </p:spPr>
      </p:pic>
      <p:pic>
        <p:nvPicPr>
          <p:cNvPr id="807" name="Chart 9" descr=""/>
          <p:cNvPicPr/>
          <p:nvPr/>
        </p:nvPicPr>
        <p:blipFill>
          <a:blip r:embed="rId2"/>
          <a:stretch/>
        </p:blipFill>
        <p:spPr>
          <a:xfrm>
            <a:off x="4730760" y="1047600"/>
            <a:ext cx="4327560" cy="3043440"/>
          </a:xfrm>
          <a:prstGeom prst="rect">
            <a:avLst/>
          </a:prstGeom>
          <a:ln w="0">
            <a:noFill/>
          </a:ln>
        </p:spPr>
      </p:pic>
      <p:pic>
        <p:nvPicPr>
          <p:cNvPr id="808" name="Chart 11" descr=""/>
          <p:cNvPicPr/>
          <p:nvPr/>
        </p:nvPicPr>
        <p:blipFill>
          <a:blip r:embed="rId3"/>
          <a:stretch/>
        </p:blipFill>
        <p:spPr>
          <a:xfrm>
            <a:off x="4827600" y="4017960"/>
            <a:ext cx="4206960" cy="2438280"/>
          </a:xfrm>
          <a:prstGeom prst="rect">
            <a:avLst/>
          </a:prstGeom>
          <a:ln w="0">
            <a:noFill/>
          </a:ln>
        </p:spPr>
      </p:pic>
      <p:pic>
        <p:nvPicPr>
          <p:cNvPr id="809" name="Chart 12" descr=""/>
          <p:cNvPicPr/>
          <p:nvPr/>
        </p:nvPicPr>
        <p:blipFill>
          <a:blip r:embed="rId4"/>
          <a:stretch/>
        </p:blipFill>
        <p:spPr>
          <a:xfrm>
            <a:off x="158760" y="3962520"/>
            <a:ext cx="446868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1D6-8D25-490A-BB97-60FDFCD25B2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Chart 8" descr=""/>
          <p:cNvPicPr/>
          <p:nvPr/>
        </p:nvPicPr>
        <p:blipFill>
          <a:blip r:embed="rId1"/>
          <a:stretch/>
        </p:blipFill>
        <p:spPr>
          <a:xfrm>
            <a:off x="609480" y="974880"/>
            <a:ext cx="6035760" cy="27493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10" descr=""/>
          <p:cNvPicPr/>
          <p:nvPr/>
        </p:nvPicPr>
        <p:blipFill>
          <a:blip r:embed="rId2"/>
          <a:stretch/>
        </p:blipFill>
        <p:spPr>
          <a:xfrm>
            <a:off x="749160" y="3786120"/>
            <a:ext cx="601200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274A-6353-40D4-B4B7-B242B52948FD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5"/>
          <p:cNvSpPr/>
          <p:nvPr/>
        </p:nvSpPr>
        <p:spPr>
          <a:xfrm>
            <a:off x="2419560" y="3867120"/>
            <a:ext cx="42984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livier Lebois &amp; Carmen Rodriguez, Advisers, System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livier.Lebois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rmen.Rodriguez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5 / 51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European gas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C1A7-BF9B-44BD-85C6-DEBD55368B1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Overview of current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26828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sis for better understanding of future investment use/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se the comparison for the feeling of missing infrastructure under current market conditions and under an optimized use of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vide background to infrastructur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milar information than the ones provided by Syst. Dev. m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erence 2009, 2010 &amp;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rmation at aggregated cross-border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rmation provided on seasonal or yearly bas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verage 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ximum 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A05-8B33-4D01-9DA3-6C5DBCB6666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Single Corner Rectangle 244"/>
          <p:cNvSpPr/>
          <p:nvPr/>
        </p:nvSpPr>
        <p:spPr>
          <a:xfrm>
            <a:off x="3708360" y="6140520"/>
            <a:ext cx="1295280" cy="601560"/>
          </a:xfrm>
          <a:custGeom>
            <a:avLst/>
            <a:gdLst/>
            <a:ahLst/>
            <a:rect l="l" t="t" r="r" b="b"/>
            <a:pathLst>
              <a:path w="1296144" h="600998">
                <a:moveTo>
                  <a:pt x="0" y="0"/>
                </a:moveTo>
                <a:lnTo>
                  <a:pt x="1195976" y="0"/>
                </a:lnTo>
                <a:cubicBezTo>
                  <a:pt x="1251297" y="0"/>
                  <a:pt x="1296144" y="44847"/>
                  <a:pt x="1296144" y="100168"/>
                </a:cubicBezTo>
                <a:lnTo>
                  <a:pt x="1296144" y="600998"/>
                </a:lnTo>
                <a:lnTo>
                  <a:pt x="0" y="60099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117360" y="579600"/>
            <a:ext cx="9069480" cy="6254640"/>
            <a:chOff x="117360" y="579600"/>
            <a:chExt cx="9069480" cy="6254640"/>
          </a:xfrm>
        </p:grpSpPr>
        <p:grpSp>
          <p:nvGrpSpPr>
            <p:cNvPr id="263" name="Group 18"/>
            <p:cNvGrpSpPr/>
            <p:nvPr/>
          </p:nvGrpSpPr>
          <p:grpSpPr>
            <a:xfrm>
              <a:off x="3723480" y="3075840"/>
              <a:ext cx="576000" cy="1246320"/>
              <a:chOff x="3723480" y="3075840"/>
              <a:chExt cx="576000" cy="1246320"/>
            </a:xfrm>
          </p:grpSpPr>
          <p:grpSp>
            <p:nvGrpSpPr>
              <p:cNvPr id="264" name="Rounded Rectangle 171"/>
              <p:cNvGrpSpPr/>
              <p:nvPr/>
            </p:nvGrpSpPr>
            <p:grpSpPr>
              <a:xfrm>
                <a:off x="3723480" y="3075840"/>
                <a:ext cx="576000" cy="1246320"/>
                <a:chOff x="3723480" y="3075840"/>
                <a:chExt cx="576000" cy="1246320"/>
              </a:xfrm>
            </p:grpSpPr>
            <p:pic>
              <p:nvPicPr>
                <p:cNvPr id="265" name="Rounded Rectangle 17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23480" y="3075840"/>
                  <a:ext cx="576000" cy="124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3775680" y="3128760"/>
                  <a:ext cx="472320" cy="11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Oval 169"/>
              <p:cNvGrpSpPr/>
              <p:nvPr/>
            </p:nvGrpSpPr>
            <p:grpSpPr>
              <a:xfrm>
                <a:off x="3767760" y="3739680"/>
                <a:ext cx="504000" cy="535680"/>
                <a:chOff x="3767760" y="3739680"/>
                <a:chExt cx="504000" cy="535680"/>
              </a:xfrm>
            </p:grpSpPr>
            <p:pic>
              <p:nvPicPr>
                <p:cNvPr id="268" name="Oval 1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67760" y="3739680"/>
                  <a:ext cx="504000" cy="53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3857760" y="3835080"/>
                  <a:ext cx="3240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D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71"/>
            <p:cNvGrpSpPr/>
            <p:nvPr/>
          </p:nvGrpSpPr>
          <p:grpSpPr>
            <a:xfrm>
              <a:off x="117360" y="579600"/>
              <a:ext cx="9069480" cy="6254640"/>
              <a:chOff x="117360" y="579600"/>
              <a:chExt cx="9069480" cy="6254640"/>
            </a:xfrm>
          </p:grpSpPr>
          <p:sp>
            <p:nvSpPr>
              <p:cNvPr id="271" name="Straight Connector 190"/>
              <p:cNvSpPr/>
              <p:nvPr/>
            </p:nvSpPr>
            <p:spPr>
              <a:xfrm>
                <a:off x="663120" y="3247560"/>
                <a:ext cx="21528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Straight Connector 191"/>
              <p:cNvSpPr/>
              <p:nvPr/>
            </p:nvSpPr>
            <p:spPr>
              <a:xfrm>
                <a:off x="654480" y="4092840"/>
                <a:ext cx="38808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Straight Connector 188"/>
              <p:cNvSpPr/>
              <p:nvPr/>
            </p:nvSpPr>
            <p:spPr>
              <a:xfrm flipV="1">
                <a:off x="1039320" y="2091600"/>
                <a:ext cx="0" cy="374832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Straight Connector 174"/>
              <p:cNvSpPr/>
              <p:nvPr/>
            </p:nvSpPr>
            <p:spPr>
              <a:xfrm>
                <a:off x="878760" y="184032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Straight Connector 165"/>
              <p:cNvSpPr/>
              <p:nvPr/>
            </p:nvSpPr>
            <p:spPr>
              <a:xfrm flipH="1" flipV="1">
                <a:off x="878400" y="1827000"/>
                <a:ext cx="3240" cy="368460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Oval 3"/>
              <p:cNvGrpSpPr/>
              <p:nvPr/>
            </p:nvGrpSpPr>
            <p:grpSpPr>
              <a:xfrm>
                <a:off x="117360" y="3809880"/>
                <a:ext cx="559080" cy="560520"/>
                <a:chOff x="117360" y="3809880"/>
                <a:chExt cx="559080" cy="560520"/>
              </a:xfrm>
            </p:grpSpPr>
            <p:pic>
              <p:nvPicPr>
                <p:cNvPr id="277" name="Oval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7360" y="3809880"/>
                  <a:ext cx="559080" cy="56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"/>
                <p:cNvSpPr/>
                <p:nvPr/>
              </p:nvSpPr>
              <p:spPr>
                <a:xfrm>
                  <a:off x="216720" y="3911760"/>
                  <a:ext cx="35532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Calibri"/>
                    </a:rPr>
                    <a:t>N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Oval 4"/>
              <p:cNvGrpSpPr/>
              <p:nvPr/>
            </p:nvGrpSpPr>
            <p:grpSpPr>
              <a:xfrm>
                <a:off x="123120" y="1944720"/>
                <a:ext cx="559080" cy="560520"/>
                <a:chOff x="123120" y="1944720"/>
                <a:chExt cx="559080" cy="560520"/>
              </a:xfrm>
            </p:grpSpPr>
            <p:pic>
              <p:nvPicPr>
                <p:cNvPr id="280" name="Oval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3120" y="1944720"/>
                  <a:ext cx="559080" cy="56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225000" y="2047680"/>
                  <a:ext cx="35532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Calibri"/>
                    </a:rPr>
                    <a:t>UG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Oval 6"/>
              <p:cNvGrpSpPr/>
              <p:nvPr/>
            </p:nvGrpSpPr>
            <p:grpSpPr>
              <a:xfrm>
                <a:off x="117360" y="2962800"/>
                <a:ext cx="559080" cy="554400"/>
                <a:chOff x="117360" y="2962800"/>
                <a:chExt cx="559080" cy="554400"/>
              </a:xfrm>
            </p:grpSpPr>
            <p:pic>
              <p:nvPicPr>
                <p:cNvPr id="283" name="Oval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7360" y="2962800"/>
                  <a:ext cx="559080" cy="55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16720" y="3061800"/>
                  <a:ext cx="35532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Calibri"/>
                    </a:rPr>
                    <a:t>LN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45"/>
              <p:cNvGrpSpPr/>
              <p:nvPr/>
            </p:nvGrpSpPr>
            <p:grpSpPr>
              <a:xfrm>
                <a:off x="1443960" y="579600"/>
                <a:ext cx="7742880" cy="6254640"/>
                <a:chOff x="1443960" y="579600"/>
                <a:chExt cx="7742880" cy="6254640"/>
              </a:xfrm>
            </p:grpSpPr>
            <p:grpSp>
              <p:nvGrpSpPr>
                <p:cNvPr id="286" name="Rounded Rectangle 258"/>
                <p:cNvGrpSpPr/>
                <p:nvPr/>
              </p:nvGrpSpPr>
              <p:grpSpPr>
                <a:xfrm>
                  <a:off x="7147080" y="4190040"/>
                  <a:ext cx="1538640" cy="621720"/>
                  <a:chOff x="7147080" y="4190040"/>
                  <a:chExt cx="1538640" cy="621720"/>
                </a:xfrm>
              </p:grpSpPr>
              <p:pic>
                <p:nvPicPr>
                  <p:cNvPr id="287" name="Rounded Rectangle 2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7080" y="4190040"/>
                    <a:ext cx="1538640" cy="6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8" name=""/>
                  <p:cNvSpPr/>
                  <p:nvPr/>
                </p:nvSpPr>
                <p:spPr>
                  <a:xfrm rot="16200000">
                    <a:off x="7658640" y="3786480"/>
                    <a:ext cx="514800" cy="142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Rounded Rectangle 257"/>
                <p:cNvGrpSpPr/>
                <p:nvPr/>
              </p:nvGrpSpPr>
              <p:grpSpPr>
                <a:xfrm>
                  <a:off x="5740920" y="1937880"/>
                  <a:ext cx="627480" cy="1352160"/>
                  <a:chOff x="5740920" y="1937880"/>
                  <a:chExt cx="627480" cy="1352160"/>
                </a:xfrm>
              </p:grpSpPr>
              <p:pic>
                <p:nvPicPr>
                  <p:cNvPr id="290" name="Rounded Rectangle 25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40920" y="1937880"/>
                    <a:ext cx="627480" cy="13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"/>
                  <p:cNvSpPr/>
                  <p:nvPr/>
                </p:nvSpPr>
                <p:spPr>
                  <a:xfrm>
                    <a:off x="5798520" y="1992960"/>
                    <a:ext cx="514800" cy="123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Rounded Rectangle 239"/>
                <p:cNvGrpSpPr/>
                <p:nvPr/>
              </p:nvGrpSpPr>
              <p:grpSpPr>
                <a:xfrm>
                  <a:off x="2367000" y="2994480"/>
                  <a:ext cx="621360" cy="2040480"/>
                  <a:chOff x="2367000" y="2994480"/>
                  <a:chExt cx="621360" cy="2040480"/>
                </a:xfrm>
              </p:grpSpPr>
              <p:pic>
                <p:nvPicPr>
                  <p:cNvPr id="293" name="Rounded Rectangle 2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7000" y="2994480"/>
                    <a:ext cx="621360" cy="20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4" name=""/>
                  <p:cNvSpPr/>
                  <p:nvPr/>
                </p:nvSpPr>
                <p:spPr>
                  <a:xfrm>
                    <a:off x="2420280" y="3052800"/>
                    <a:ext cx="514440" cy="192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Straight Connector 42"/>
                <p:cNvSpPr/>
                <p:nvPr/>
              </p:nvSpPr>
              <p:spPr>
                <a:xfrm>
                  <a:off x="2939400" y="1873800"/>
                  <a:ext cx="79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Oval 7"/>
                <p:cNvGrpSpPr/>
                <p:nvPr/>
              </p:nvGrpSpPr>
              <p:grpSpPr>
                <a:xfrm>
                  <a:off x="3055320" y="857160"/>
                  <a:ext cx="555120" cy="555120"/>
                  <a:chOff x="3055320" y="857160"/>
                  <a:chExt cx="555120" cy="555120"/>
                </a:xfrm>
              </p:grpSpPr>
              <p:pic>
                <p:nvPicPr>
                  <p:cNvPr id="297" name="Oval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5320" y="85716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"/>
                  <p:cNvSpPr/>
                  <p:nvPr/>
                </p:nvSpPr>
                <p:spPr>
                  <a:xfrm>
                    <a:off x="3156840" y="9590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N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Oval 8"/>
                <p:cNvGrpSpPr/>
                <p:nvPr/>
              </p:nvGrpSpPr>
              <p:grpSpPr>
                <a:xfrm>
                  <a:off x="3055320" y="2058480"/>
                  <a:ext cx="555120" cy="555120"/>
                  <a:chOff x="3055320" y="2058480"/>
                  <a:chExt cx="555120" cy="555120"/>
                </a:xfrm>
              </p:grpSpPr>
              <p:pic>
                <p:nvPicPr>
                  <p:cNvPr id="300" name="Oval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5320" y="2058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" name=""/>
                  <p:cNvSpPr/>
                  <p:nvPr/>
                </p:nvSpPr>
                <p:spPr>
                  <a:xfrm>
                    <a:off x="3156840" y="2159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B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Oval 9"/>
                <p:cNvGrpSpPr/>
                <p:nvPr/>
              </p:nvGrpSpPr>
              <p:grpSpPr>
                <a:xfrm>
                  <a:off x="2403360" y="1569600"/>
                  <a:ext cx="555120" cy="555120"/>
                  <a:chOff x="2403360" y="1569600"/>
                  <a:chExt cx="555120" cy="555120"/>
                </a:xfrm>
              </p:grpSpPr>
              <p:pic>
                <p:nvPicPr>
                  <p:cNvPr id="303" name="Oval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3360" y="156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" name=""/>
                  <p:cNvSpPr/>
                  <p:nvPr/>
                </p:nvSpPr>
                <p:spPr>
                  <a:xfrm>
                    <a:off x="2504520" y="1672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UK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Oval 10"/>
                <p:cNvGrpSpPr/>
                <p:nvPr/>
              </p:nvGrpSpPr>
              <p:grpSpPr>
                <a:xfrm>
                  <a:off x="1715400" y="1569600"/>
                  <a:ext cx="555120" cy="555120"/>
                  <a:chOff x="1715400" y="1569600"/>
                  <a:chExt cx="555120" cy="555120"/>
                </a:xfrm>
              </p:grpSpPr>
              <p:pic>
                <p:nvPicPr>
                  <p:cNvPr id="306" name="Oval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5400" y="156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" name=""/>
                  <p:cNvSpPr/>
                  <p:nvPr/>
                </p:nvSpPr>
                <p:spPr>
                  <a:xfrm>
                    <a:off x="1816200" y="1672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I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Oval 11"/>
                <p:cNvGrpSpPr/>
                <p:nvPr/>
              </p:nvGrpSpPr>
              <p:grpSpPr>
                <a:xfrm>
                  <a:off x="3713040" y="1569600"/>
                  <a:ext cx="555120" cy="555120"/>
                  <a:chOff x="3713040" y="1569600"/>
                  <a:chExt cx="555120" cy="555120"/>
                </a:xfrm>
              </p:grpSpPr>
              <p:pic>
                <p:nvPicPr>
                  <p:cNvPr id="309" name="Oval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3040" y="156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" name=""/>
                  <p:cNvSpPr/>
                  <p:nvPr/>
                </p:nvSpPr>
                <p:spPr>
                  <a:xfrm>
                    <a:off x="3812040" y="1672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NL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Oval 12"/>
                <p:cNvGrpSpPr/>
                <p:nvPr/>
              </p:nvGrpSpPr>
              <p:grpSpPr>
                <a:xfrm>
                  <a:off x="3055320" y="2741040"/>
                  <a:ext cx="555120" cy="549360"/>
                  <a:chOff x="3055320" y="2741040"/>
                  <a:chExt cx="555120" cy="549360"/>
                </a:xfrm>
              </p:grpSpPr>
              <p:pic>
                <p:nvPicPr>
                  <p:cNvPr id="312" name="Oval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5320" y="274104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"/>
                  <p:cNvSpPr/>
                  <p:nvPr/>
                </p:nvSpPr>
                <p:spPr>
                  <a:xfrm>
                    <a:off x="3156840" y="283896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LU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Straight Connector 14"/>
                <p:cNvSpPr/>
                <p:nvPr/>
              </p:nvSpPr>
              <p:spPr>
                <a:xfrm>
                  <a:off x="3525480" y="1312200"/>
                  <a:ext cx="463320" cy="28692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Straight Connector 17"/>
                <p:cNvSpPr/>
                <p:nvPr/>
              </p:nvSpPr>
              <p:spPr>
                <a:xfrm>
                  <a:off x="3333600" y="1385280"/>
                  <a:ext cx="0" cy="70164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Straight Connector 20"/>
                <p:cNvSpPr/>
                <p:nvPr/>
              </p:nvSpPr>
              <p:spPr>
                <a:xfrm flipH="1">
                  <a:off x="2680920" y="1385280"/>
                  <a:ext cx="652320" cy="166860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Oval 21"/>
                <p:cNvGrpSpPr/>
                <p:nvPr/>
              </p:nvGrpSpPr>
              <p:grpSpPr>
                <a:xfrm>
                  <a:off x="3755160" y="3151440"/>
                  <a:ext cx="555120" cy="555120"/>
                  <a:chOff x="3755160" y="3151440"/>
                  <a:chExt cx="555120" cy="555120"/>
                </a:xfrm>
              </p:grpSpPr>
              <p:pic>
                <p:nvPicPr>
                  <p:cNvPr id="318" name="Oval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55160" y="31514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9" name=""/>
                  <p:cNvSpPr/>
                  <p:nvPr/>
                </p:nvSpPr>
                <p:spPr>
                  <a:xfrm>
                    <a:off x="3856680" y="32529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D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Oval 22"/>
                <p:cNvGrpSpPr/>
                <p:nvPr/>
              </p:nvGrpSpPr>
              <p:grpSpPr>
                <a:xfrm>
                  <a:off x="2403360" y="3024720"/>
                  <a:ext cx="555120" cy="555120"/>
                  <a:chOff x="2403360" y="3024720"/>
                  <a:chExt cx="555120" cy="555120"/>
                </a:xfrm>
              </p:grpSpPr>
              <p:pic>
                <p:nvPicPr>
                  <p:cNvPr id="321" name="Oval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03360" y="30247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" name=""/>
                  <p:cNvSpPr/>
                  <p:nvPr/>
                </p:nvSpPr>
                <p:spPr>
                  <a:xfrm>
                    <a:off x="2504520" y="31269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R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Oval 23"/>
                <p:cNvGrpSpPr/>
                <p:nvPr/>
              </p:nvGrpSpPr>
              <p:grpSpPr>
                <a:xfrm>
                  <a:off x="2403360" y="3713040"/>
                  <a:ext cx="555120" cy="555120"/>
                  <a:chOff x="2403360" y="3713040"/>
                  <a:chExt cx="555120" cy="555120"/>
                </a:xfrm>
              </p:grpSpPr>
              <p:pic>
                <p:nvPicPr>
                  <p:cNvPr id="324" name="Oval 2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03360" y="37130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5" name=""/>
                  <p:cNvSpPr/>
                  <p:nvPr/>
                </p:nvSpPr>
                <p:spPr>
                  <a:xfrm>
                    <a:off x="2504520" y="38116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R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Oval 24"/>
                <p:cNvGrpSpPr/>
                <p:nvPr/>
              </p:nvGrpSpPr>
              <p:grpSpPr>
                <a:xfrm>
                  <a:off x="2403360" y="4425480"/>
                  <a:ext cx="555120" cy="555120"/>
                  <a:chOff x="2403360" y="4425480"/>
                  <a:chExt cx="555120" cy="555120"/>
                </a:xfrm>
              </p:grpSpPr>
              <p:pic>
                <p:nvPicPr>
                  <p:cNvPr id="327" name="Oval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03360" y="4425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8" name=""/>
                  <p:cNvSpPr/>
                  <p:nvPr/>
                </p:nvSpPr>
                <p:spPr>
                  <a:xfrm>
                    <a:off x="2504520" y="45248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R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Straight Connector 28"/>
                <p:cNvSpPr/>
                <p:nvPr/>
              </p:nvSpPr>
              <p:spPr>
                <a:xfrm>
                  <a:off x="3378240" y="1254600"/>
                  <a:ext cx="655200" cy="192528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Straight Connector 31"/>
                <p:cNvSpPr/>
                <p:nvPr/>
              </p:nvSpPr>
              <p:spPr>
                <a:xfrm>
                  <a:off x="2242080" y="1869120"/>
                  <a:ext cx="18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Straight Connector 2"/>
                <p:cNvSpPr/>
                <p:nvPr/>
              </p:nvSpPr>
              <p:spPr>
                <a:xfrm flipH="1">
                  <a:off x="2680920" y="1312200"/>
                  <a:ext cx="475920" cy="28692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Straight Connector 44"/>
                <p:cNvSpPr/>
                <p:nvPr/>
              </p:nvSpPr>
              <p:spPr>
                <a:xfrm>
                  <a:off x="2844720" y="2054880"/>
                  <a:ext cx="240840" cy="16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Straight Connector 46"/>
                <p:cNvSpPr/>
                <p:nvPr/>
              </p:nvSpPr>
              <p:spPr>
                <a:xfrm flipV="1">
                  <a:off x="3565440" y="2058840"/>
                  <a:ext cx="277920" cy="151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Straight Connector 50"/>
                <p:cNvSpPr/>
                <p:nvPr/>
              </p:nvSpPr>
              <p:spPr>
                <a:xfrm flipV="1">
                  <a:off x="2680920" y="2526480"/>
                  <a:ext cx="473400" cy="52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Straight Connector 52"/>
                <p:cNvSpPr/>
                <p:nvPr/>
              </p:nvSpPr>
              <p:spPr>
                <a:xfrm>
                  <a:off x="3342240" y="2599200"/>
                  <a:ext cx="0" cy="158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Straight Connector 54"/>
                <p:cNvSpPr/>
                <p:nvPr/>
              </p:nvSpPr>
              <p:spPr>
                <a:xfrm>
                  <a:off x="3570120" y="2400120"/>
                  <a:ext cx="463320" cy="77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Straight Connector 56"/>
                <p:cNvSpPr/>
                <p:nvPr/>
              </p:nvSpPr>
              <p:spPr>
                <a:xfrm>
                  <a:off x="2680920" y="3555360"/>
                  <a:ext cx="0" cy="18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Straight Connector 59"/>
                <p:cNvSpPr/>
                <p:nvPr/>
              </p:nvSpPr>
              <p:spPr>
                <a:xfrm flipV="1">
                  <a:off x="2680920" y="4237920"/>
                  <a:ext cx="0" cy="21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Oval 62"/>
                <p:cNvGrpSpPr/>
                <p:nvPr/>
              </p:nvGrpSpPr>
              <p:grpSpPr>
                <a:xfrm>
                  <a:off x="2065320" y="5210280"/>
                  <a:ext cx="555120" cy="555120"/>
                  <a:chOff x="2065320" y="5210280"/>
                  <a:chExt cx="555120" cy="555120"/>
                </a:xfrm>
              </p:grpSpPr>
              <p:pic>
                <p:nvPicPr>
                  <p:cNvPr id="340" name="Oval 6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65320" y="521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1" name=""/>
                  <p:cNvSpPr/>
                  <p:nvPr/>
                </p:nvSpPr>
                <p:spPr>
                  <a:xfrm>
                    <a:off x="2168280" y="530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ES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Oval 63"/>
                <p:cNvGrpSpPr/>
                <p:nvPr/>
              </p:nvGrpSpPr>
              <p:grpSpPr>
                <a:xfrm>
                  <a:off x="1443960" y="5210280"/>
                  <a:ext cx="555120" cy="555120"/>
                  <a:chOff x="1443960" y="5210280"/>
                  <a:chExt cx="555120" cy="555120"/>
                </a:xfrm>
              </p:grpSpPr>
              <p:pic>
                <p:nvPicPr>
                  <p:cNvPr id="343" name="Oval 6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43960" y="521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1542600" y="530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P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Oval 65"/>
                <p:cNvGrpSpPr/>
                <p:nvPr/>
              </p:nvGrpSpPr>
              <p:grpSpPr>
                <a:xfrm>
                  <a:off x="3055320" y="3924360"/>
                  <a:ext cx="555120" cy="555120"/>
                  <a:chOff x="3055320" y="3924360"/>
                  <a:chExt cx="555120" cy="555120"/>
                </a:xfrm>
              </p:grpSpPr>
              <p:pic>
                <p:nvPicPr>
                  <p:cNvPr id="346" name="Oval 6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55320" y="392436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3156840" y="40258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CH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Oval 66"/>
                <p:cNvGrpSpPr/>
                <p:nvPr/>
              </p:nvGrpSpPr>
              <p:grpSpPr>
                <a:xfrm>
                  <a:off x="3713040" y="4920480"/>
                  <a:ext cx="555120" cy="555120"/>
                  <a:chOff x="3713040" y="4920480"/>
                  <a:chExt cx="555120" cy="555120"/>
                </a:xfrm>
              </p:grpSpPr>
              <p:pic>
                <p:nvPicPr>
                  <p:cNvPr id="349" name="Oval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13040" y="4920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0" name=""/>
                  <p:cNvSpPr/>
                  <p:nvPr/>
                </p:nvSpPr>
                <p:spPr>
                  <a:xfrm>
                    <a:off x="3812040" y="50241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I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Oval 67"/>
                <p:cNvGrpSpPr/>
                <p:nvPr/>
              </p:nvGrpSpPr>
              <p:grpSpPr>
                <a:xfrm>
                  <a:off x="4497480" y="1503000"/>
                  <a:ext cx="555120" cy="549360"/>
                  <a:chOff x="4497480" y="1503000"/>
                  <a:chExt cx="555120" cy="549360"/>
                </a:xfrm>
              </p:grpSpPr>
              <p:pic>
                <p:nvPicPr>
                  <p:cNvPr id="352" name="Oval 6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97480" y="150300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" name=""/>
                  <p:cNvSpPr/>
                  <p:nvPr/>
                </p:nvSpPr>
                <p:spPr>
                  <a:xfrm>
                    <a:off x="4596120" y="160056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DK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Oval 68"/>
                <p:cNvGrpSpPr/>
                <p:nvPr/>
              </p:nvGrpSpPr>
              <p:grpSpPr>
                <a:xfrm>
                  <a:off x="5137200" y="1001880"/>
                  <a:ext cx="555120" cy="555120"/>
                  <a:chOff x="5137200" y="1001880"/>
                  <a:chExt cx="555120" cy="555120"/>
                </a:xfrm>
              </p:grpSpPr>
              <p:pic>
                <p:nvPicPr>
                  <p:cNvPr id="355" name="Oval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37200" y="10018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6" name=""/>
                  <p:cNvSpPr/>
                  <p:nvPr/>
                </p:nvSpPr>
                <p:spPr>
                  <a:xfrm>
                    <a:off x="5238000" y="11012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S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Oval 69"/>
                <p:cNvGrpSpPr/>
                <p:nvPr/>
              </p:nvGrpSpPr>
              <p:grpSpPr>
                <a:xfrm>
                  <a:off x="4497480" y="3852000"/>
                  <a:ext cx="555120" cy="555120"/>
                  <a:chOff x="4497480" y="3852000"/>
                  <a:chExt cx="555120" cy="555120"/>
                </a:xfrm>
              </p:grpSpPr>
              <p:pic>
                <p:nvPicPr>
                  <p:cNvPr id="358" name="Oval 6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497480" y="38520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" name=""/>
                  <p:cNvSpPr/>
                  <p:nvPr/>
                </p:nvSpPr>
                <p:spPr>
                  <a:xfrm>
                    <a:off x="4596120" y="39546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A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Oval 70"/>
                <p:cNvGrpSpPr/>
                <p:nvPr/>
              </p:nvGrpSpPr>
              <p:grpSpPr>
                <a:xfrm>
                  <a:off x="4497480" y="4636800"/>
                  <a:ext cx="555120" cy="555120"/>
                  <a:chOff x="4497480" y="4636800"/>
                  <a:chExt cx="555120" cy="555120"/>
                </a:xfrm>
              </p:grpSpPr>
              <p:pic>
                <p:nvPicPr>
                  <p:cNvPr id="361" name="Oval 7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7480" y="46368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" name=""/>
                  <p:cNvSpPr/>
                  <p:nvPr/>
                </p:nvSpPr>
                <p:spPr>
                  <a:xfrm>
                    <a:off x="4596120" y="47390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SI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Oval 71"/>
                <p:cNvGrpSpPr/>
                <p:nvPr/>
              </p:nvGrpSpPr>
              <p:grpSpPr>
                <a:xfrm>
                  <a:off x="5137200" y="3284280"/>
                  <a:ext cx="555120" cy="555120"/>
                  <a:chOff x="5137200" y="3284280"/>
                  <a:chExt cx="555120" cy="555120"/>
                </a:xfrm>
              </p:grpSpPr>
              <p:pic>
                <p:nvPicPr>
                  <p:cNvPr id="364" name="Oval 7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137200" y="3284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" name=""/>
                  <p:cNvSpPr/>
                  <p:nvPr/>
                </p:nvSpPr>
                <p:spPr>
                  <a:xfrm>
                    <a:off x="5238000" y="3383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CZ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Straight Connector 72"/>
                <p:cNvSpPr/>
                <p:nvPr/>
              </p:nvSpPr>
              <p:spPr>
                <a:xfrm flipH="1" flipV="1">
                  <a:off x="2930760" y="3409920"/>
                  <a:ext cx="331200" cy="52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Straight Connector 75"/>
                <p:cNvSpPr/>
                <p:nvPr/>
              </p:nvSpPr>
              <p:spPr>
                <a:xfrm flipH="1" flipV="1">
                  <a:off x="2984040" y="3278880"/>
                  <a:ext cx="799920" cy="15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Straight Connector 77"/>
                <p:cNvSpPr/>
                <p:nvPr/>
              </p:nvSpPr>
              <p:spPr>
                <a:xfrm flipH="1" flipV="1">
                  <a:off x="3592440" y="3021480"/>
                  <a:ext cx="263880" cy="23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Straight Connector 81"/>
                <p:cNvSpPr/>
                <p:nvPr/>
              </p:nvSpPr>
              <p:spPr>
                <a:xfrm flipV="1">
                  <a:off x="2431440" y="4915080"/>
                  <a:ext cx="162720" cy="32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Straight Connector 83"/>
                <p:cNvSpPr/>
                <p:nvPr/>
              </p:nvSpPr>
              <p:spPr>
                <a:xfrm>
                  <a:off x="1987200" y="5486040"/>
                  <a:ext cx="101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Straight Connector 85"/>
                <p:cNvSpPr/>
                <p:nvPr/>
              </p:nvSpPr>
              <p:spPr>
                <a:xfrm flipH="1" flipV="1">
                  <a:off x="3483360" y="4419360"/>
                  <a:ext cx="329040" cy="60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Straight Connector 87"/>
                <p:cNvSpPr/>
                <p:nvPr/>
              </p:nvSpPr>
              <p:spPr>
                <a:xfrm flipH="1">
                  <a:off x="3510000" y="4018680"/>
                  <a:ext cx="282240" cy="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Straight Connector 89"/>
                <p:cNvSpPr/>
                <p:nvPr/>
              </p:nvSpPr>
              <p:spPr>
                <a:xfrm flipV="1">
                  <a:off x="4154400" y="4307400"/>
                  <a:ext cx="441720" cy="70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Straight Connector 91"/>
                <p:cNvSpPr/>
                <p:nvPr/>
              </p:nvSpPr>
              <p:spPr>
                <a:xfrm flipV="1">
                  <a:off x="4291560" y="3954240"/>
                  <a:ext cx="3049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Straight Connector 94"/>
                <p:cNvSpPr/>
                <p:nvPr/>
              </p:nvSpPr>
              <p:spPr>
                <a:xfrm flipH="1">
                  <a:off x="4218120" y="3560400"/>
                  <a:ext cx="946440" cy="281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Straight Connector 98"/>
                <p:cNvSpPr/>
                <p:nvPr/>
              </p:nvSpPr>
              <p:spPr>
                <a:xfrm flipH="1">
                  <a:off x="4240440" y="5091840"/>
                  <a:ext cx="3553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Straight Connector 100"/>
                <p:cNvSpPr/>
                <p:nvPr/>
              </p:nvSpPr>
              <p:spPr>
                <a:xfrm>
                  <a:off x="4790880" y="438048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Straight Connector 104"/>
                <p:cNvSpPr/>
                <p:nvPr/>
              </p:nvSpPr>
              <p:spPr>
                <a:xfrm flipH="1">
                  <a:off x="4965480" y="1454760"/>
                  <a:ext cx="27216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Straight Connector 106"/>
                <p:cNvSpPr/>
                <p:nvPr/>
              </p:nvSpPr>
              <p:spPr>
                <a:xfrm flipH="1" flipV="1">
                  <a:off x="3988800" y="2098080"/>
                  <a:ext cx="44640" cy="108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Straight Connector 109"/>
                <p:cNvSpPr/>
                <p:nvPr/>
              </p:nvSpPr>
              <p:spPr>
                <a:xfrm flipH="1">
                  <a:off x="4209480" y="1954080"/>
                  <a:ext cx="386280" cy="129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Oval 114"/>
                <p:cNvGrpSpPr/>
                <p:nvPr/>
              </p:nvGrpSpPr>
              <p:grpSpPr>
                <a:xfrm>
                  <a:off x="5776920" y="2644200"/>
                  <a:ext cx="555120" cy="549360"/>
                  <a:chOff x="5776920" y="2644200"/>
                  <a:chExt cx="555120" cy="549360"/>
                </a:xfrm>
              </p:grpSpPr>
              <p:pic>
                <p:nvPicPr>
                  <p:cNvPr id="382" name="Oval 11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76920" y="264420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5879520" y="274176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PL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Oval 115"/>
                <p:cNvGrpSpPr/>
                <p:nvPr/>
              </p:nvGrpSpPr>
              <p:grpSpPr>
                <a:xfrm>
                  <a:off x="5776920" y="4920480"/>
                  <a:ext cx="555120" cy="555120"/>
                  <a:chOff x="5776920" y="4920480"/>
                  <a:chExt cx="555120" cy="555120"/>
                </a:xfrm>
              </p:grpSpPr>
              <p:pic>
                <p:nvPicPr>
                  <p:cNvPr id="385" name="Oval 115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776920" y="4920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5879520" y="50241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HR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Oval 116"/>
                <p:cNvGrpSpPr/>
                <p:nvPr/>
              </p:nvGrpSpPr>
              <p:grpSpPr>
                <a:xfrm>
                  <a:off x="6133320" y="4220280"/>
                  <a:ext cx="555120" cy="555120"/>
                  <a:chOff x="6133320" y="4220280"/>
                  <a:chExt cx="555120" cy="555120"/>
                </a:xfrm>
              </p:grpSpPr>
              <p:pic>
                <p:nvPicPr>
                  <p:cNvPr id="388" name="Oval 1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33320" y="422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" name=""/>
                  <p:cNvSpPr/>
                  <p:nvPr/>
                </p:nvSpPr>
                <p:spPr>
                  <a:xfrm>
                    <a:off x="6236280" y="43200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HU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Oval 117"/>
                <p:cNvGrpSpPr/>
                <p:nvPr/>
              </p:nvGrpSpPr>
              <p:grpSpPr>
                <a:xfrm>
                  <a:off x="6561720" y="5065560"/>
                  <a:ext cx="555120" cy="555120"/>
                  <a:chOff x="6561720" y="5065560"/>
                  <a:chExt cx="555120" cy="555120"/>
                </a:xfrm>
              </p:grpSpPr>
              <p:pic>
                <p:nvPicPr>
                  <p:cNvPr id="391" name="Oval 117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561720" y="506556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2" name=""/>
                  <p:cNvSpPr/>
                  <p:nvPr/>
                </p:nvSpPr>
                <p:spPr>
                  <a:xfrm>
                    <a:off x="6663960" y="516672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RS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Oval 118"/>
                <p:cNvGrpSpPr/>
                <p:nvPr/>
              </p:nvGrpSpPr>
              <p:grpSpPr>
                <a:xfrm>
                  <a:off x="6561720" y="3284280"/>
                  <a:ext cx="555120" cy="555120"/>
                  <a:chOff x="6561720" y="3284280"/>
                  <a:chExt cx="555120" cy="555120"/>
                </a:xfrm>
              </p:grpSpPr>
              <p:pic>
                <p:nvPicPr>
                  <p:cNvPr id="394" name="Oval 1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61720" y="3284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6663960" y="3383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SK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6" name="Straight Connector 119"/>
                <p:cNvSpPr/>
                <p:nvPr/>
              </p:nvSpPr>
              <p:spPr>
                <a:xfrm flipH="1" flipV="1">
                  <a:off x="5001480" y="5055840"/>
                  <a:ext cx="80460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Straight Connector 121"/>
                <p:cNvSpPr/>
                <p:nvPr/>
              </p:nvSpPr>
              <p:spPr>
                <a:xfrm flipH="1">
                  <a:off x="6127560" y="4721760"/>
                  <a:ext cx="177480" cy="22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Straight Connector 123"/>
                <p:cNvSpPr/>
                <p:nvPr/>
              </p:nvSpPr>
              <p:spPr>
                <a:xfrm flipH="1" flipV="1">
                  <a:off x="5010480" y="4252320"/>
                  <a:ext cx="1152360" cy="244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Straight Connector 125"/>
                <p:cNvSpPr/>
                <p:nvPr/>
              </p:nvSpPr>
              <p:spPr>
                <a:xfrm flipH="1">
                  <a:off x="5022000" y="3736800"/>
                  <a:ext cx="1641240" cy="33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Straight Connector 127"/>
                <p:cNvSpPr/>
                <p:nvPr/>
              </p:nvSpPr>
              <p:spPr>
                <a:xfrm flipH="1">
                  <a:off x="5664240" y="3585240"/>
                  <a:ext cx="926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Straight Connector 129"/>
                <p:cNvSpPr/>
                <p:nvPr/>
              </p:nvSpPr>
              <p:spPr>
                <a:xfrm flipH="1">
                  <a:off x="4282560" y="2988000"/>
                  <a:ext cx="1577160" cy="44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Straight Connector 131"/>
                <p:cNvSpPr/>
                <p:nvPr/>
              </p:nvSpPr>
              <p:spPr>
                <a:xfrm flipH="1">
                  <a:off x="4209840" y="2249280"/>
                  <a:ext cx="1650240" cy="100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8210"/>
                <p:cNvSpPr/>
                <p:nvPr/>
              </p:nvSpPr>
              <p:spPr>
                <a:xfrm>
                  <a:off x="5832000" y="2040840"/>
                  <a:ext cx="473400" cy="4716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PL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Straight Connector 134"/>
                <p:cNvSpPr/>
                <p:nvPr/>
              </p:nvSpPr>
              <p:spPr>
                <a:xfrm flipH="1">
                  <a:off x="5586480" y="3116880"/>
                  <a:ext cx="302760" cy="23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Straight Connector 136"/>
                <p:cNvSpPr/>
                <p:nvPr/>
              </p:nvSpPr>
              <p:spPr>
                <a:xfrm>
                  <a:off x="6490800" y="4731120"/>
                  <a:ext cx="349560" cy="36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" name="Oval 138"/>
                <p:cNvGrpSpPr/>
                <p:nvPr/>
              </p:nvGrpSpPr>
              <p:grpSpPr>
                <a:xfrm>
                  <a:off x="7207560" y="4220280"/>
                  <a:ext cx="549000" cy="555120"/>
                  <a:chOff x="7207560" y="4220280"/>
                  <a:chExt cx="549000" cy="555120"/>
                </a:xfrm>
              </p:grpSpPr>
              <p:pic>
                <p:nvPicPr>
                  <p:cNvPr id="407" name="Oval 138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207560" y="4220280"/>
                    <a:ext cx="54900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" name=""/>
                  <p:cNvSpPr/>
                  <p:nvPr/>
                </p:nvSpPr>
                <p:spPr>
                  <a:xfrm>
                    <a:off x="7305480" y="43200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RO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9" name="Oval 139"/>
                <p:cNvSpPr/>
                <p:nvPr/>
              </p:nvSpPr>
              <p:spPr>
                <a:xfrm>
                  <a:off x="8088120" y="4246920"/>
                  <a:ext cx="498960" cy="4989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RO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Oval 140"/>
                <p:cNvGrpSpPr/>
                <p:nvPr/>
              </p:nvGrpSpPr>
              <p:grpSpPr>
                <a:xfrm>
                  <a:off x="7629840" y="5210280"/>
                  <a:ext cx="555120" cy="555120"/>
                  <a:chOff x="7629840" y="5210280"/>
                  <a:chExt cx="555120" cy="555120"/>
                </a:xfrm>
              </p:grpSpPr>
              <p:pic>
                <p:nvPicPr>
                  <p:cNvPr id="411" name="Oval 14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9840" y="521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2" name=""/>
                  <p:cNvSpPr/>
                  <p:nvPr/>
                </p:nvSpPr>
                <p:spPr>
                  <a:xfrm>
                    <a:off x="7733160" y="530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BG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Oval 141"/>
                <p:cNvGrpSpPr/>
                <p:nvPr/>
              </p:nvGrpSpPr>
              <p:grpSpPr>
                <a:xfrm>
                  <a:off x="6990120" y="5639040"/>
                  <a:ext cx="555120" cy="549360"/>
                  <a:chOff x="6990120" y="5639040"/>
                  <a:chExt cx="555120" cy="549360"/>
                </a:xfrm>
              </p:grpSpPr>
              <p:pic>
                <p:nvPicPr>
                  <p:cNvPr id="414" name="Oval 141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990120" y="563904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5" name=""/>
                  <p:cNvSpPr/>
                  <p:nvPr/>
                </p:nvSpPr>
                <p:spPr>
                  <a:xfrm>
                    <a:off x="7091640" y="573732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Y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Oval 142"/>
                <p:cNvGrpSpPr/>
                <p:nvPr/>
              </p:nvGrpSpPr>
              <p:grpSpPr>
                <a:xfrm>
                  <a:off x="7207560" y="6279120"/>
                  <a:ext cx="549000" cy="555120"/>
                  <a:chOff x="7207560" y="6279120"/>
                  <a:chExt cx="549000" cy="555120"/>
                </a:xfrm>
              </p:grpSpPr>
              <p:pic>
                <p:nvPicPr>
                  <p:cNvPr id="417" name="Oval 14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07560" y="6279120"/>
                    <a:ext cx="54900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" name=""/>
                  <p:cNvSpPr/>
                  <p:nvPr/>
                </p:nvSpPr>
                <p:spPr>
                  <a:xfrm>
                    <a:off x="7305480" y="6379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GR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Straight Connector 143"/>
                <p:cNvSpPr/>
                <p:nvPr/>
              </p:nvSpPr>
              <p:spPr>
                <a:xfrm>
                  <a:off x="6669000" y="4496400"/>
                  <a:ext cx="563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Straight Connector 147"/>
                <p:cNvSpPr/>
                <p:nvPr/>
              </p:nvSpPr>
              <p:spPr>
                <a:xfrm flipH="1">
                  <a:off x="7444080" y="5600160"/>
                  <a:ext cx="21564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Straight Connector 149"/>
                <p:cNvSpPr/>
                <p:nvPr/>
              </p:nvSpPr>
              <p:spPr>
                <a:xfrm flipH="1">
                  <a:off x="7658280" y="5734080"/>
                  <a:ext cx="251280" cy="64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Straight Connector 152"/>
                <p:cNvSpPr/>
                <p:nvPr/>
              </p:nvSpPr>
              <p:spPr>
                <a:xfrm flipH="1">
                  <a:off x="8051040" y="4746240"/>
                  <a:ext cx="215640" cy="525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154"/>
                <p:cNvSpPr/>
                <p:nvPr/>
              </p:nvSpPr>
              <p:spPr>
                <a:xfrm>
                  <a:off x="7660080" y="3310920"/>
                  <a:ext cx="498960" cy="498960"/>
                </a:xfrm>
                <a:prstGeom prst="ellipse">
                  <a:avLst/>
                </a:prstGeom>
                <a:noFill/>
                <a:ln w="19080">
                  <a:solidFill>
                    <a:srgbClr val="c7373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U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155"/>
                <p:cNvSpPr/>
                <p:nvPr/>
              </p:nvSpPr>
              <p:spPr>
                <a:xfrm>
                  <a:off x="7660080" y="2507760"/>
                  <a:ext cx="498960" cy="498960"/>
                </a:xfrm>
                <a:prstGeom prst="ellipse">
                  <a:avLst/>
                </a:prstGeom>
                <a:noFill/>
                <a:ln w="19080">
                  <a:solidFill>
                    <a:srgbClr val="c7373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B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Oval 156"/>
                <p:cNvGrpSpPr/>
                <p:nvPr/>
              </p:nvGrpSpPr>
              <p:grpSpPr>
                <a:xfrm>
                  <a:off x="7177320" y="1865520"/>
                  <a:ext cx="555120" cy="555120"/>
                  <a:chOff x="7177320" y="1865520"/>
                  <a:chExt cx="555120" cy="555120"/>
                </a:xfrm>
              </p:grpSpPr>
              <p:pic>
                <p:nvPicPr>
                  <p:cNvPr id="426" name="Oval 15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177320" y="18655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7" name=""/>
                  <p:cNvSpPr/>
                  <p:nvPr/>
                </p:nvSpPr>
                <p:spPr>
                  <a:xfrm>
                    <a:off x="7279200" y="19652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L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Oval 158"/>
                <p:cNvGrpSpPr/>
                <p:nvPr/>
              </p:nvGrpSpPr>
              <p:grpSpPr>
                <a:xfrm>
                  <a:off x="8058600" y="929520"/>
                  <a:ext cx="555120" cy="555120"/>
                  <a:chOff x="8058600" y="929520"/>
                  <a:chExt cx="555120" cy="555120"/>
                </a:xfrm>
              </p:grpSpPr>
              <p:pic>
                <p:nvPicPr>
                  <p:cNvPr id="429" name="Oval 158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058600" y="9295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" name=""/>
                  <p:cNvSpPr/>
                  <p:nvPr/>
                </p:nvSpPr>
                <p:spPr>
                  <a:xfrm>
                    <a:off x="8161200" y="103032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E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Oval 159"/>
                <p:cNvGrpSpPr/>
                <p:nvPr/>
              </p:nvGrpSpPr>
              <p:grpSpPr>
                <a:xfrm>
                  <a:off x="8631720" y="579600"/>
                  <a:ext cx="555120" cy="555120"/>
                  <a:chOff x="8631720" y="579600"/>
                  <a:chExt cx="555120" cy="555120"/>
                </a:xfrm>
              </p:grpSpPr>
              <p:pic>
                <p:nvPicPr>
                  <p:cNvPr id="432" name="Oval 159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8631720" y="57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8731080" y="6825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I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Straight Connector 160"/>
                <p:cNvSpPr/>
                <p:nvPr/>
              </p:nvSpPr>
              <p:spPr>
                <a:xfrm flipH="1">
                  <a:off x="7631640" y="1882800"/>
                  <a:ext cx="101160" cy="82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Straight Connector 162"/>
                <p:cNvSpPr/>
                <p:nvPr/>
              </p:nvSpPr>
              <p:spPr>
                <a:xfrm flipH="1">
                  <a:off x="8082360" y="1383480"/>
                  <a:ext cx="78480" cy="10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6" name="Oval 166"/>
                <p:cNvGrpSpPr/>
                <p:nvPr/>
              </p:nvGrpSpPr>
              <p:grpSpPr>
                <a:xfrm>
                  <a:off x="6561720" y="1497240"/>
                  <a:ext cx="555120" cy="555120"/>
                  <a:chOff x="6561720" y="1497240"/>
                  <a:chExt cx="555120" cy="555120"/>
                </a:xfrm>
              </p:grpSpPr>
              <p:pic>
                <p:nvPicPr>
                  <p:cNvPr id="437" name="Oval 16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561720" y="14972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8" name=""/>
                  <p:cNvSpPr/>
                  <p:nvPr/>
                </p:nvSpPr>
                <p:spPr>
                  <a:xfrm>
                    <a:off x="6663960" y="15987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K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Oval 167"/>
                <p:cNvGrpSpPr/>
                <p:nvPr/>
              </p:nvGrpSpPr>
              <p:grpSpPr>
                <a:xfrm>
                  <a:off x="8583480" y="1986120"/>
                  <a:ext cx="555120" cy="555120"/>
                  <a:chOff x="8583480" y="1986120"/>
                  <a:chExt cx="555120" cy="555120"/>
                </a:xfrm>
              </p:grpSpPr>
              <p:pic>
                <p:nvPicPr>
                  <p:cNvPr id="440" name="Oval 167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8583480" y="19861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" name=""/>
                  <p:cNvSpPr/>
                  <p:nvPr/>
                </p:nvSpPr>
                <p:spPr>
                  <a:xfrm>
                    <a:off x="8683200" y="2087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R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Straight Connector 175"/>
                <p:cNvSpPr/>
                <p:nvPr/>
              </p:nvSpPr>
              <p:spPr>
                <a:xfrm flipH="1" flipV="1">
                  <a:off x="7089480" y="1775160"/>
                  <a:ext cx="189000" cy="1897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Straight Connector 178"/>
                <p:cNvSpPr/>
                <p:nvPr/>
              </p:nvSpPr>
              <p:spPr>
                <a:xfrm flipH="1" flipV="1">
                  <a:off x="7617960" y="2347920"/>
                  <a:ext cx="114840" cy="2325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Oval 180"/>
                <p:cNvGrpSpPr/>
                <p:nvPr/>
              </p:nvGrpSpPr>
              <p:grpSpPr>
                <a:xfrm>
                  <a:off x="7581600" y="2360520"/>
                  <a:ext cx="180720" cy="174960"/>
                  <a:chOff x="7581600" y="2360520"/>
                  <a:chExt cx="180720" cy="174960"/>
                </a:xfrm>
              </p:grpSpPr>
              <p:pic>
                <p:nvPicPr>
                  <p:cNvPr id="445" name="Oval 180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581600" y="236052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626240" y="24037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Oval 182"/>
                <p:cNvGrpSpPr/>
                <p:nvPr/>
              </p:nvGrpSpPr>
              <p:grpSpPr>
                <a:xfrm>
                  <a:off x="3598200" y="1340280"/>
                  <a:ext cx="186840" cy="181080"/>
                  <a:chOff x="3598200" y="1340280"/>
                  <a:chExt cx="186840" cy="181080"/>
                </a:xfrm>
              </p:grpSpPr>
              <p:pic>
                <p:nvPicPr>
                  <p:cNvPr id="448" name="Oval 182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598200" y="134028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3646080" y="13878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Oval 183"/>
                <p:cNvGrpSpPr/>
                <p:nvPr/>
              </p:nvGrpSpPr>
              <p:grpSpPr>
                <a:xfrm>
                  <a:off x="3405240" y="1793160"/>
                  <a:ext cx="186840" cy="181080"/>
                  <a:chOff x="3405240" y="1793160"/>
                  <a:chExt cx="186840" cy="181080"/>
                </a:xfrm>
              </p:grpSpPr>
              <p:pic>
                <p:nvPicPr>
                  <p:cNvPr id="451" name="Oval 18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05240" y="179316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2" name=""/>
                  <p:cNvSpPr/>
                  <p:nvPr/>
                </p:nvSpPr>
                <p:spPr>
                  <a:xfrm>
                    <a:off x="3454560" y="18396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Oval 184"/>
                <p:cNvGrpSpPr/>
                <p:nvPr/>
              </p:nvGrpSpPr>
              <p:grpSpPr>
                <a:xfrm>
                  <a:off x="3230280" y="1672200"/>
                  <a:ext cx="186840" cy="174960"/>
                  <a:chOff x="3230280" y="1672200"/>
                  <a:chExt cx="186840" cy="174960"/>
                </a:xfrm>
              </p:grpSpPr>
              <p:pic>
                <p:nvPicPr>
                  <p:cNvPr id="454" name="Oval 184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230280" y="167220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5" name=""/>
                  <p:cNvSpPr/>
                  <p:nvPr/>
                </p:nvSpPr>
                <p:spPr>
                  <a:xfrm>
                    <a:off x="3278520" y="17179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Oval 185"/>
                <p:cNvGrpSpPr/>
                <p:nvPr/>
              </p:nvGrpSpPr>
              <p:grpSpPr>
                <a:xfrm>
                  <a:off x="3007080" y="1774800"/>
                  <a:ext cx="180720" cy="174960"/>
                  <a:chOff x="3007080" y="1774800"/>
                  <a:chExt cx="180720" cy="174960"/>
                </a:xfrm>
              </p:grpSpPr>
              <p:pic>
                <p:nvPicPr>
                  <p:cNvPr id="457" name="Oval 18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007080" y="177480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8" name=""/>
                  <p:cNvSpPr/>
                  <p:nvPr/>
                </p:nvSpPr>
                <p:spPr>
                  <a:xfrm>
                    <a:off x="3050640" y="18194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Oval 186"/>
                <p:cNvGrpSpPr/>
                <p:nvPr/>
              </p:nvGrpSpPr>
              <p:grpSpPr>
                <a:xfrm>
                  <a:off x="2844000" y="1370520"/>
                  <a:ext cx="186840" cy="174960"/>
                  <a:chOff x="2844000" y="1370520"/>
                  <a:chExt cx="186840" cy="174960"/>
                </a:xfrm>
              </p:grpSpPr>
              <p:pic>
                <p:nvPicPr>
                  <p:cNvPr id="460" name="Oval 18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844000" y="137052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1" name=""/>
                  <p:cNvSpPr/>
                  <p:nvPr/>
                </p:nvSpPr>
                <p:spPr>
                  <a:xfrm>
                    <a:off x="2893320" y="141336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Straight Connector 187"/>
                <p:cNvSpPr/>
                <p:nvPr/>
              </p:nvSpPr>
              <p:spPr>
                <a:xfrm flipH="1" flipV="1">
                  <a:off x="6305400" y="2276280"/>
                  <a:ext cx="1349640" cy="4957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189"/>
                <p:cNvSpPr/>
                <p:nvPr/>
              </p:nvSpPr>
              <p:spPr>
                <a:xfrm flipH="1">
                  <a:off x="6305760" y="2757240"/>
                  <a:ext cx="1354320" cy="1609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Straight Connector 192"/>
                <p:cNvSpPr/>
                <p:nvPr/>
              </p:nvSpPr>
              <p:spPr>
                <a:xfrm flipH="1" flipV="1">
                  <a:off x="6305400" y="2920680"/>
                  <a:ext cx="1427400" cy="4629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Straight Connector 195"/>
                <p:cNvSpPr/>
                <p:nvPr/>
              </p:nvSpPr>
              <p:spPr>
                <a:xfrm flipH="1">
                  <a:off x="7089840" y="3560400"/>
                  <a:ext cx="570240" cy="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Oval 198"/>
                <p:cNvGrpSpPr/>
                <p:nvPr/>
              </p:nvGrpSpPr>
              <p:grpSpPr>
                <a:xfrm>
                  <a:off x="6791040" y="2384640"/>
                  <a:ext cx="186840" cy="181080"/>
                  <a:chOff x="6791040" y="2384640"/>
                  <a:chExt cx="186840" cy="181080"/>
                </a:xfrm>
              </p:grpSpPr>
              <p:pic>
                <p:nvPicPr>
                  <p:cNvPr id="467" name="Oval 198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91040" y="238464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8" name=""/>
                  <p:cNvSpPr/>
                  <p:nvPr/>
                </p:nvSpPr>
                <p:spPr>
                  <a:xfrm>
                    <a:off x="6840000" y="24325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Oval 199"/>
                <p:cNvGrpSpPr/>
                <p:nvPr/>
              </p:nvGrpSpPr>
              <p:grpSpPr>
                <a:xfrm>
                  <a:off x="6948000" y="2741040"/>
                  <a:ext cx="186840" cy="174960"/>
                  <a:chOff x="6948000" y="2741040"/>
                  <a:chExt cx="186840" cy="174960"/>
                </a:xfrm>
              </p:grpSpPr>
              <p:pic>
                <p:nvPicPr>
                  <p:cNvPr id="470" name="Oval 199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948000" y="274104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6997320" y="27838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Oval 200"/>
                <p:cNvGrpSpPr/>
                <p:nvPr/>
              </p:nvGrpSpPr>
              <p:grpSpPr>
                <a:xfrm>
                  <a:off x="7080840" y="3109320"/>
                  <a:ext cx="186840" cy="174960"/>
                  <a:chOff x="7080840" y="3109320"/>
                  <a:chExt cx="186840" cy="174960"/>
                </a:xfrm>
              </p:grpSpPr>
              <p:pic>
                <p:nvPicPr>
                  <p:cNvPr id="473" name="Oval 200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080840" y="310932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"/>
                  <p:cNvSpPr/>
                  <p:nvPr/>
                </p:nvSpPr>
                <p:spPr>
                  <a:xfrm>
                    <a:off x="7127280" y="31550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Oval 201"/>
                <p:cNvGrpSpPr/>
                <p:nvPr/>
              </p:nvGrpSpPr>
              <p:grpSpPr>
                <a:xfrm>
                  <a:off x="7346160" y="3459240"/>
                  <a:ext cx="186840" cy="174960"/>
                  <a:chOff x="7346160" y="3459240"/>
                  <a:chExt cx="186840" cy="174960"/>
                </a:xfrm>
              </p:grpSpPr>
              <p:pic>
                <p:nvPicPr>
                  <p:cNvPr id="476" name="Oval 201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7346160" y="345924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"/>
                  <p:cNvSpPr/>
                  <p:nvPr/>
                </p:nvSpPr>
                <p:spPr>
                  <a:xfrm>
                    <a:off x="7393680" y="35028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Straight Connector 202"/>
                <p:cNvSpPr/>
                <p:nvPr/>
              </p:nvSpPr>
              <p:spPr>
                <a:xfrm flipH="1">
                  <a:off x="8108280" y="2514240"/>
                  <a:ext cx="751680" cy="9111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Straight Connector 203"/>
                <p:cNvSpPr/>
                <p:nvPr/>
              </p:nvSpPr>
              <p:spPr>
                <a:xfrm flipV="1">
                  <a:off x="6590880" y="3736800"/>
                  <a:ext cx="1114200" cy="57024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Straight Connector 205"/>
                <p:cNvSpPr/>
                <p:nvPr/>
              </p:nvSpPr>
              <p:spPr>
                <a:xfrm flipV="1">
                  <a:off x="7481880" y="3779280"/>
                  <a:ext cx="299880" cy="46728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Straight Connector 207"/>
                <p:cNvSpPr/>
                <p:nvPr/>
              </p:nvSpPr>
              <p:spPr>
                <a:xfrm flipH="1" flipV="1">
                  <a:off x="7944120" y="3813840"/>
                  <a:ext cx="392760" cy="4323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Oval 209"/>
                <p:cNvGrpSpPr/>
                <p:nvPr/>
              </p:nvGrpSpPr>
              <p:grpSpPr>
                <a:xfrm>
                  <a:off x="6990120" y="3966480"/>
                  <a:ext cx="186840" cy="181080"/>
                  <a:chOff x="6990120" y="3966480"/>
                  <a:chExt cx="186840" cy="181080"/>
                </a:xfrm>
              </p:grpSpPr>
              <p:pic>
                <p:nvPicPr>
                  <p:cNvPr id="483" name="Oval 209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6990120" y="396648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4" name=""/>
                  <p:cNvSpPr/>
                  <p:nvPr/>
                </p:nvSpPr>
                <p:spPr>
                  <a:xfrm>
                    <a:off x="7037280" y="40150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Oval 210"/>
                <p:cNvGrpSpPr/>
                <p:nvPr/>
              </p:nvGrpSpPr>
              <p:grpSpPr>
                <a:xfrm>
                  <a:off x="7497000" y="3984480"/>
                  <a:ext cx="186840" cy="181080"/>
                  <a:chOff x="7497000" y="3984480"/>
                  <a:chExt cx="186840" cy="181080"/>
                </a:xfrm>
              </p:grpSpPr>
              <p:pic>
                <p:nvPicPr>
                  <p:cNvPr id="486" name="Oval 210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7497000" y="398448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7" name=""/>
                  <p:cNvSpPr/>
                  <p:nvPr/>
                </p:nvSpPr>
                <p:spPr>
                  <a:xfrm>
                    <a:off x="7544520" y="40312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Oval 211"/>
                <p:cNvGrpSpPr/>
                <p:nvPr/>
              </p:nvGrpSpPr>
              <p:grpSpPr>
                <a:xfrm>
                  <a:off x="8052480" y="3936240"/>
                  <a:ext cx="186840" cy="174960"/>
                  <a:chOff x="8052480" y="3936240"/>
                  <a:chExt cx="186840" cy="174960"/>
                </a:xfrm>
              </p:grpSpPr>
              <p:pic>
                <p:nvPicPr>
                  <p:cNvPr id="489" name="Oval 211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052480" y="393624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0" name=""/>
                  <p:cNvSpPr/>
                  <p:nvPr/>
                </p:nvSpPr>
                <p:spPr>
                  <a:xfrm>
                    <a:off x="8101440" y="39787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Straight Connector 213"/>
                <p:cNvSpPr/>
                <p:nvPr/>
              </p:nvSpPr>
              <p:spPr>
                <a:xfrm flipH="1">
                  <a:off x="8135280" y="2475720"/>
                  <a:ext cx="522360" cy="2131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Straight Connector 215"/>
                <p:cNvSpPr/>
                <p:nvPr/>
              </p:nvSpPr>
              <p:spPr>
                <a:xfrm flipH="1" flipV="1">
                  <a:off x="8160840" y="1822320"/>
                  <a:ext cx="549720" cy="2505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Straight Connector 217"/>
                <p:cNvSpPr/>
                <p:nvPr/>
              </p:nvSpPr>
              <p:spPr>
                <a:xfrm flipH="1" flipV="1">
                  <a:off x="8514000" y="1383480"/>
                  <a:ext cx="390960" cy="6249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Straight Connector 219"/>
                <p:cNvSpPr/>
                <p:nvPr/>
              </p:nvSpPr>
              <p:spPr>
                <a:xfrm flipH="1" flipV="1">
                  <a:off x="8907480" y="1108800"/>
                  <a:ext cx="128520" cy="97920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Oval 223"/>
                <p:cNvGrpSpPr/>
                <p:nvPr/>
              </p:nvGrpSpPr>
              <p:grpSpPr>
                <a:xfrm>
                  <a:off x="8275680" y="1835280"/>
                  <a:ext cx="186840" cy="174960"/>
                  <a:chOff x="8275680" y="1835280"/>
                  <a:chExt cx="186840" cy="174960"/>
                </a:xfrm>
              </p:grpSpPr>
              <p:pic>
                <p:nvPicPr>
                  <p:cNvPr id="496" name="Oval 223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8275680" y="183528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8325000" y="18792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Oval 224"/>
                <p:cNvGrpSpPr/>
                <p:nvPr/>
              </p:nvGrpSpPr>
              <p:grpSpPr>
                <a:xfrm>
                  <a:off x="8553240" y="1485000"/>
                  <a:ext cx="180720" cy="174960"/>
                  <a:chOff x="8553240" y="1485000"/>
                  <a:chExt cx="180720" cy="174960"/>
                </a:xfrm>
              </p:grpSpPr>
              <p:pic>
                <p:nvPicPr>
                  <p:cNvPr id="499" name="Oval 224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553240" y="148500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8598600" y="15292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Oval 225"/>
                <p:cNvGrpSpPr/>
                <p:nvPr/>
              </p:nvGrpSpPr>
              <p:grpSpPr>
                <a:xfrm>
                  <a:off x="8879400" y="1569600"/>
                  <a:ext cx="186840" cy="181080"/>
                  <a:chOff x="8879400" y="1569600"/>
                  <a:chExt cx="186840" cy="181080"/>
                </a:xfrm>
              </p:grpSpPr>
              <p:pic>
                <p:nvPicPr>
                  <p:cNvPr id="502" name="Oval 225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8879400" y="156960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3" name=""/>
                  <p:cNvSpPr/>
                  <p:nvPr/>
                </p:nvSpPr>
                <p:spPr>
                  <a:xfrm>
                    <a:off x="8927640" y="16160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04" name="Curved Connector 145"/>
                <p:cNvCxnSpPr>
                  <a:stCxn id="440" idx="0"/>
                </p:cNvCxnSpPr>
                <p:nvPr/>
              </p:nvCxnSpPr>
              <p:spPr>
                <a:xfrm rot="5400000">
                  <a:off x="5915160" y="308160"/>
                  <a:ext cx="1238760" cy="4650480"/>
                </a:xfrm>
                <a:prstGeom prst="curvedConnector5">
                  <a:avLst>
                    <a:gd name="adj1" fmla="val -18255"/>
                    <a:gd name="adj2" fmla="val 49996"/>
                    <a:gd name="adj3" fmla="val -18255"/>
                  </a:avLst>
                </a:prstGeom>
                <a:ln w="19080">
                  <a:solidFill>
                    <a:srgbClr val="c7373b"/>
                  </a:solidFill>
                  <a:miter/>
                </a:ln>
              </p:spPr>
            </p:cxnSp>
            <p:grpSp>
              <p:nvGrpSpPr>
                <p:cNvPr id="505" name="Oval 157"/>
                <p:cNvGrpSpPr/>
                <p:nvPr/>
              </p:nvGrpSpPr>
              <p:grpSpPr>
                <a:xfrm>
                  <a:off x="7629840" y="1430640"/>
                  <a:ext cx="555120" cy="555120"/>
                  <a:chOff x="7629840" y="1430640"/>
                  <a:chExt cx="555120" cy="555120"/>
                </a:xfrm>
              </p:grpSpPr>
              <p:pic>
                <p:nvPicPr>
                  <p:cNvPr id="506" name="Oval 157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629840" y="14306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7" name=""/>
                  <p:cNvSpPr/>
                  <p:nvPr/>
                </p:nvSpPr>
                <p:spPr>
                  <a:xfrm>
                    <a:off x="7733160" y="152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LV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Oval 232"/>
                <p:cNvGrpSpPr/>
                <p:nvPr/>
              </p:nvGrpSpPr>
              <p:grpSpPr>
                <a:xfrm>
                  <a:off x="7249680" y="1424520"/>
                  <a:ext cx="186840" cy="181080"/>
                  <a:chOff x="7249680" y="1424520"/>
                  <a:chExt cx="186840" cy="181080"/>
                </a:xfrm>
              </p:grpSpPr>
              <p:pic>
                <p:nvPicPr>
                  <p:cNvPr id="509" name="Oval 232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7249680" y="142452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0" name=""/>
                  <p:cNvSpPr/>
                  <p:nvPr/>
                </p:nvSpPr>
                <p:spPr>
                  <a:xfrm>
                    <a:off x="7297920" y="14720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Oval 233"/>
                <p:cNvGrpSpPr/>
                <p:nvPr/>
              </p:nvGrpSpPr>
              <p:grpSpPr>
                <a:xfrm>
                  <a:off x="8559360" y="6134040"/>
                  <a:ext cx="555120" cy="555120"/>
                  <a:chOff x="8559360" y="6134040"/>
                  <a:chExt cx="555120" cy="555120"/>
                </a:xfrm>
              </p:grpSpPr>
              <p:pic>
                <p:nvPicPr>
                  <p:cNvPr id="512" name="Oval 233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559360" y="61340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3" name=""/>
                  <p:cNvSpPr/>
                  <p:nvPr/>
                </p:nvSpPr>
                <p:spPr>
                  <a:xfrm>
                    <a:off x="8659800" y="6236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TK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Straight Connector 234"/>
                <p:cNvSpPr/>
                <p:nvPr/>
              </p:nvSpPr>
              <p:spPr>
                <a:xfrm flipH="1" flipV="1">
                  <a:off x="8082000" y="5668920"/>
                  <a:ext cx="667080" cy="501120"/>
                </a:xfrm>
                <a:prstGeom prst="line">
                  <a:avLst/>
                </a:prstGeom>
                <a:ln w="19080">
                  <a:solidFill>
                    <a:srgbClr val="eb7a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Straight Connector 237"/>
                <p:cNvSpPr/>
                <p:nvPr/>
              </p:nvSpPr>
              <p:spPr>
                <a:xfrm flipH="1">
                  <a:off x="7731360" y="6413040"/>
                  <a:ext cx="855360" cy="142560"/>
                </a:xfrm>
                <a:prstGeom prst="line">
                  <a:avLst/>
                </a:prstGeom>
                <a:ln w="19080">
                  <a:solidFill>
                    <a:srgbClr val="eb7a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Oval 240"/>
                <p:cNvGrpSpPr/>
                <p:nvPr/>
              </p:nvGrpSpPr>
              <p:grpSpPr>
                <a:xfrm>
                  <a:off x="8305920" y="5826240"/>
                  <a:ext cx="180720" cy="174960"/>
                  <a:chOff x="8305920" y="5826240"/>
                  <a:chExt cx="180720" cy="174960"/>
                </a:xfrm>
              </p:grpSpPr>
              <p:pic>
                <p:nvPicPr>
                  <p:cNvPr id="517" name="Oval 240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305920" y="582624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>
                    <a:off x="8350920" y="58708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Oval 241"/>
                <p:cNvGrpSpPr/>
                <p:nvPr/>
              </p:nvGrpSpPr>
              <p:grpSpPr>
                <a:xfrm>
                  <a:off x="7949880" y="6405840"/>
                  <a:ext cx="186840" cy="181080"/>
                  <a:chOff x="7949880" y="6405840"/>
                  <a:chExt cx="186840" cy="181080"/>
                </a:xfrm>
              </p:grpSpPr>
              <p:pic>
                <p:nvPicPr>
                  <p:cNvPr id="520" name="Oval 241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949880" y="640584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>
                    <a:off x="7997400" y="64522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Oval 242"/>
                <p:cNvGrpSpPr/>
                <p:nvPr/>
              </p:nvGrpSpPr>
              <p:grpSpPr>
                <a:xfrm>
                  <a:off x="2741400" y="5699520"/>
                  <a:ext cx="555120" cy="555120"/>
                  <a:chOff x="2741400" y="5699520"/>
                  <a:chExt cx="555120" cy="555120"/>
                </a:xfrm>
              </p:grpSpPr>
              <p:pic>
                <p:nvPicPr>
                  <p:cNvPr id="523" name="Oval 242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2741400" y="56995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842920" y="579852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Straight Connector 243"/>
                <p:cNvSpPr/>
                <p:nvPr/>
              </p:nvSpPr>
              <p:spPr>
                <a:xfrm>
                  <a:off x="2579400" y="5611680"/>
                  <a:ext cx="248400" cy="178920"/>
                </a:xfrm>
                <a:prstGeom prst="line">
                  <a:avLst/>
                </a:prstGeom>
                <a:ln w="19080">
                  <a:solidFill>
                    <a:srgbClr val="b4d1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Straight Connector 247"/>
                <p:cNvSpPr/>
                <p:nvPr/>
              </p:nvSpPr>
              <p:spPr>
                <a:xfrm flipV="1">
                  <a:off x="3261240" y="5377320"/>
                  <a:ext cx="551160" cy="483840"/>
                </a:xfrm>
                <a:prstGeom prst="line">
                  <a:avLst/>
                </a:prstGeom>
                <a:ln w="19080">
                  <a:solidFill>
                    <a:srgbClr val="b4d1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Oval 249"/>
                <p:cNvGrpSpPr/>
                <p:nvPr/>
              </p:nvGrpSpPr>
              <p:grpSpPr>
                <a:xfrm>
                  <a:off x="3453480" y="5506200"/>
                  <a:ext cx="186840" cy="174960"/>
                  <a:chOff x="3453480" y="5506200"/>
                  <a:chExt cx="186840" cy="174960"/>
                </a:xfrm>
              </p:grpSpPr>
              <p:pic>
                <p:nvPicPr>
                  <p:cNvPr id="528" name="Oval 24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453480" y="550620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9" name=""/>
                  <p:cNvSpPr/>
                  <p:nvPr/>
                </p:nvSpPr>
                <p:spPr>
                  <a:xfrm>
                    <a:off x="3502080" y="554976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Oval 250"/>
                <p:cNvGrpSpPr/>
                <p:nvPr/>
              </p:nvGrpSpPr>
              <p:grpSpPr>
                <a:xfrm>
                  <a:off x="2620800" y="5614920"/>
                  <a:ext cx="186840" cy="181080"/>
                  <a:chOff x="2620800" y="5614920"/>
                  <a:chExt cx="186840" cy="181080"/>
                </a:xfrm>
              </p:grpSpPr>
              <p:pic>
                <p:nvPicPr>
                  <p:cNvPr id="531" name="Oval 250" descr=""/>
                  <p:cNvPicPr/>
                  <p:nvPr/>
                </p:nvPicPr>
                <p:blipFill>
                  <a:blip r:embed="rId65"/>
                  <a:stretch/>
                </p:blipFill>
                <p:spPr>
                  <a:xfrm>
                    <a:off x="2620800" y="561492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2" name=""/>
                  <p:cNvSpPr/>
                  <p:nvPr/>
                </p:nvSpPr>
                <p:spPr>
                  <a:xfrm>
                    <a:off x="2670120" y="566316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Oval 251"/>
                <p:cNvGrpSpPr/>
                <p:nvPr/>
              </p:nvGrpSpPr>
              <p:grpSpPr>
                <a:xfrm>
                  <a:off x="3731040" y="5922720"/>
                  <a:ext cx="549000" cy="555120"/>
                  <a:chOff x="3731040" y="5922720"/>
                  <a:chExt cx="549000" cy="555120"/>
                </a:xfrm>
              </p:grpSpPr>
              <p:pic>
                <p:nvPicPr>
                  <p:cNvPr id="534" name="Oval 251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731040" y="5922720"/>
                    <a:ext cx="54900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5" name=""/>
                  <p:cNvSpPr/>
                  <p:nvPr/>
                </p:nvSpPr>
                <p:spPr>
                  <a:xfrm>
                    <a:off x="3828960" y="60224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Straight Connector 252"/>
                <p:cNvSpPr/>
                <p:nvPr/>
              </p:nvSpPr>
              <p:spPr>
                <a:xfrm flipH="1" flipV="1">
                  <a:off x="3988440" y="5450400"/>
                  <a:ext cx="16920" cy="498960"/>
                </a:xfrm>
                <a:prstGeom prst="line">
                  <a:avLst/>
                </a:prstGeom>
                <a:ln w="19080">
                  <a:solidFill>
                    <a:srgbClr val="82982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Oval 255"/>
                <p:cNvGrpSpPr/>
                <p:nvPr/>
              </p:nvGrpSpPr>
              <p:grpSpPr>
                <a:xfrm>
                  <a:off x="3912120" y="5663160"/>
                  <a:ext cx="186840" cy="174960"/>
                  <a:chOff x="3912120" y="5663160"/>
                  <a:chExt cx="186840" cy="174960"/>
                </a:xfrm>
              </p:grpSpPr>
              <p:pic>
                <p:nvPicPr>
                  <p:cNvPr id="538" name="Oval 255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3912120" y="566316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3959640" y="57088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Straight Connector 261"/>
              <p:cNvSpPr/>
              <p:nvPr/>
            </p:nvSpPr>
            <p:spPr>
              <a:xfrm>
                <a:off x="670320" y="2217240"/>
                <a:ext cx="9108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Straight Connector 144"/>
              <p:cNvSpPr/>
              <p:nvPr/>
            </p:nvSpPr>
            <p:spPr>
              <a:xfrm>
                <a:off x="765360" y="156996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Oval 146"/>
              <p:cNvGrpSpPr/>
              <p:nvPr/>
            </p:nvGrpSpPr>
            <p:grpSpPr>
              <a:xfrm>
                <a:off x="913320" y="1487880"/>
                <a:ext cx="188280" cy="176760"/>
                <a:chOff x="913320" y="1487880"/>
                <a:chExt cx="188280" cy="176760"/>
              </a:xfrm>
            </p:grpSpPr>
            <p:pic>
              <p:nvPicPr>
                <p:cNvPr id="543" name="Oval 146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913320" y="148788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"/>
                <p:cNvSpPr/>
                <p:nvPr/>
              </p:nvSpPr>
              <p:spPr>
                <a:xfrm>
                  <a:off x="959400" y="15336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Straight Connector 168"/>
              <p:cNvSpPr/>
              <p:nvPr/>
            </p:nvSpPr>
            <p:spPr>
              <a:xfrm flipV="1">
                <a:off x="761400" y="1564200"/>
                <a:ext cx="0" cy="365472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Oval 170"/>
              <p:cNvGrpSpPr/>
              <p:nvPr/>
            </p:nvGrpSpPr>
            <p:grpSpPr>
              <a:xfrm>
                <a:off x="1053360" y="1756080"/>
                <a:ext cx="188280" cy="176760"/>
                <a:chOff x="1053360" y="1756080"/>
                <a:chExt cx="188280" cy="176760"/>
              </a:xfrm>
            </p:grpSpPr>
            <p:pic>
              <p:nvPicPr>
                <p:cNvPr id="547" name="Oval 170" descr="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1053360" y="175608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"/>
                <p:cNvSpPr/>
                <p:nvPr/>
              </p:nvSpPr>
              <p:spPr>
                <a:xfrm>
                  <a:off x="1101240" y="18000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Straight Connector 177"/>
              <p:cNvSpPr/>
              <p:nvPr/>
            </p:nvSpPr>
            <p:spPr>
              <a:xfrm>
                <a:off x="883440" y="313560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Straight Connector 193"/>
              <p:cNvSpPr/>
              <p:nvPr/>
            </p:nvSpPr>
            <p:spPr>
              <a:xfrm>
                <a:off x="1038240" y="209772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Oval 194"/>
              <p:cNvGrpSpPr/>
              <p:nvPr/>
            </p:nvGrpSpPr>
            <p:grpSpPr>
              <a:xfrm>
                <a:off x="1199160" y="2012040"/>
                <a:ext cx="188280" cy="176760"/>
                <a:chOff x="1199160" y="2012040"/>
                <a:chExt cx="188280" cy="176760"/>
              </a:xfrm>
            </p:grpSpPr>
            <p:pic>
              <p:nvPicPr>
                <p:cNvPr id="552" name="Oval 194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1199160" y="201204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"/>
                <p:cNvSpPr/>
                <p:nvPr/>
              </p:nvSpPr>
              <p:spPr>
                <a:xfrm>
                  <a:off x="1247400" y="20574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Oval 196"/>
              <p:cNvGrpSpPr/>
              <p:nvPr/>
            </p:nvGrpSpPr>
            <p:grpSpPr>
              <a:xfrm>
                <a:off x="1053360" y="3048120"/>
                <a:ext cx="188280" cy="182520"/>
                <a:chOff x="1053360" y="3048120"/>
                <a:chExt cx="188280" cy="182520"/>
              </a:xfrm>
            </p:grpSpPr>
            <p:pic>
              <p:nvPicPr>
                <p:cNvPr id="555" name="Oval 196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1053360" y="304812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6" name=""/>
                <p:cNvSpPr/>
                <p:nvPr/>
              </p:nvSpPr>
              <p:spPr>
                <a:xfrm>
                  <a:off x="1101240" y="309492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Straight Connector 206"/>
              <p:cNvSpPr/>
              <p:nvPr/>
            </p:nvSpPr>
            <p:spPr>
              <a:xfrm>
                <a:off x="1041840" y="342648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Oval 208"/>
              <p:cNvGrpSpPr/>
              <p:nvPr/>
            </p:nvGrpSpPr>
            <p:grpSpPr>
              <a:xfrm>
                <a:off x="1205280" y="3340800"/>
                <a:ext cx="182160" cy="176760"/>
                <a:chOff x="1205280" y="3340800"/>
                <a:chExt cx="182160" cy="176760"/>
              </a:xfrm>
            </p:grpSpPr>
            <p:pic>
              <p:nvPicPr>
                <p:cNvPr id="559" name="Oval 208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1205280" y="3340800"/>
                  <a:ext cx="182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>
                  <a:off x="1251000" y="338616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Straight Connector 212"/>
              <p:cNvSpPr/>
              <p:nvPr/>
            </p:nvSpPr>
            <p:spPr>
              <a:xfrm>
                <a:off x="883440" y="421956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Oval 214"/>
              <p:cNvGrpSpPr/>
              <p:nvPr/>
            </p:nvGrpSpPr>
            <p:grpSpPr>
              <a:xfrm>
                <a:off x="1053360" y="4133160"/>
                <a:ext cx="188280" cy="176760"/>
                <a:chOff x="1053360" y="4133160"/>
                <a:chExt cx="188280" cy="176760"/>
              </a:xfrm>
            </p:grpSpPr>
            <p:pic>
              <p:nvPicPr>
                <p:cNvPr id="563" name="Oval 214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1053360" y="413316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>
                  <a:off x="1101240" y="417924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Straight Connector 216"/>
              <p:cNvSpPr/>
              <p:nvPr/>
            </p:nvSpPr>
            <p:spPr>
              <a:xfrm>
                <a:off x="1042920" y="448344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Oval 218"/>
              <p:cNvGrpSpPr/>
              <p:nvPr/>
            </p:nvGrpSpPr>
            <p:grpSpPr>
              <a:xfrm>
                <a:off x="1205280" y="4395240"/>
                <a:ext cx="188280" cy="182520"/>
                <a:chOff x="1205280" y="4395240"/>
                <a:chExt cx="188280" cy="182520"/>
              </a:xfrm>
            </p:grpSpPr>
            <p:pic>
              <p:nvPicPr>
                <p:cNvPr id="567" name="Oval 218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1205280" y="439524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1252080" y="444276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Straight Connector 220"/>
              <p:cNvSpPr/>
              <p:nvPr/>
            </p:nvSpPr>
            <p:spPr>
              <a:xfrm>
                <a:off x="882360" y="551232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Oval 221"/>
              <p:cNvGrpSpPr/>
              <p:nvPr/>
            </p:nvGrpSpPr>
            <p:grpSpPr>
              <a:xfrm>
                <a:off x="1053360" y="5425200"/>
                <a:ext cx="188280" cy="176760"/>
                <a:chOff x="1053360" y="5425200"/>
                <a:chExt cx="188280" cy="176760"/>
              </a:xfrm>
            </p:grpSpPr>
            <p:pic>
              <p:nvPicPr>
                <p:cNvPr id="571" name="Oval 221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1053360" y="542520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" name=""/>
                <p:cNvSpPr/>
                <p:nvPr/>
              </p:nvSpPr>
              <p:spPr>
                <a:xfrm>
                  <a:off x="1101240" y="547164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Straight Connector 222"/>
              <p:cNvSpPr/>
              <p:nvPr/>
            </p:nvSpPr>
            <p:spPr>
              <a:xfrm>
                <a:off x="1038240" y="583272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Oval 236"/>
              <p:cNvGrpSpPr/>
              <p:nvPr/>
            </p:nvGrpSpPr>
            <p:grpSpPr>
              <a:xfrm>
                <a:off x="1199160" y="5748120"/>
                <a:ext cx="188280" cy="176760"/>
                <a:chOff x="1199160" y="5748120"/>
                <a:chExt cx="188280" cy="176760"/>
              </a:xfrm>
            </p:grpSpPr>
            <p:pic>
              <p:nvPicPr>
                <p:cNvPr id="575" name="Oval 236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1199160" y="574812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6" name=""/>
                <p:cNvSpPr/>
                <p:nvPr/>
              </p:nvSpPr>
              <p:spPr>
                <a:xfrm>
                  <a:off x="1247400" y="579168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Straight Connector 238"/>
              <p:cNvSpPr/>
              <p:nvPr/>
            </p:nvSpPr>
            <p:spPr>
              <a:xfrm>
                <a:off x="756720" y="287640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Oval 246"/>
              <p:cNvGrpSpPr/>
              <p:nvPr/>
            </p:nvGrpSpPr>
            <p:grpSpPr>
              <a:xfrm>
                <a:off x="913320" y="2786040"/>
                <a:ext cx="188280" cy="182520"/>
                <a:chOff x="913320" y="2786040"/>
                <a:chExt cx="188280" cy="182520"/>
              </a:xfrm>
            </p:grpSpPr>
            <p:pic>
              <p:nvPicPr>
                <p:cNvPr id="579" name="Oval 246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913320" y="278604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0" name=""/>
                <p:cNvSpPr/>
                <p:nvPr/>
              </p:nvSpPr>
              <p:spPr>
                <a:xfrm>
                  <a:off x="959400" y="283284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Straight Connector 248"/>
              <p:cNvSpPr/>
              <p:nvPr/>
            </p:nvSpPr>
            <p:spPr>
              <a:xfrm>
                <a:off x="764640" y="393480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Oval 253"/>
              <p:cNvGrpSpPr/>
              <p:nvPr/>
            </p:nvGrpSpPr>
            <p:grpSpPr>
              <a:xfrm>
                <a:off x="913320" y="3840480"/>
                <a:ext cx="188280" cy="182520"/>
                <a:chOff x="913320" y="3840480"/>
                <a:chExt cx="188280" cy="182520"/>
              </a:xfrm>
            </p:grpSpPr>
            <p:pic>
              <p:nvPicPr>
                <p:cNvPr id="583" name="Oval 253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913320" y="384048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4" name=""/>
                <p:cNvSpPr/>
                <p:nvPr/>
              </p:nvSpPr>
              <p:spPr>
                <a:xfrm>
                  <a:off x="959400" y="388836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Straight Connector 254"/>
              <p:cNvSpPr/>
              <p:nvPr/>
            </p:nvSpPr>
            <p:spPr>
              <a:xfrm>
                <a:off x="756720" y="521172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Oval 256"/>
              <p:cNvGrpSpPr/>
              <p:nvPr/>
            </p:nvGrpSpPr>
            <p:grpSpPr>
              <a:xfrm>
                <a:off x="913320" y="5120280"/>
                <a:ext cx="188280" cy="182520"/>
                <a:chOff x="913320" y="5120280"/>
                <a:chExt cx="188280" cy="182520"/>
              </a:xfrm>
            </p:grpSpPr>
            <p:pic>
              <p:nvPicPr>
                <p:cNvPr id="587" name="Oval 256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913320" y="512028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>
                  <a:off x="959400" y="51678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TextBox 259"/>
              <p:cNvSpPr/>
              <p:nvPr/>
            </p:nvSpPr>
            <p:spPr>
              <a:xfrm>
                <a:off x="353880" y="1030680"/>
                <a:ext cx="194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Calibri"/>
                  </a:rPr>
                  <a:t>UGS, LNG &amp; NP nodes, control nodes and arcs to all E/E syste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Straight Connector 5"/>
          <p:cNvSpPr/>
          <p:nvPr/>
        </p:nvSpPr>
        <p:spPr>
          <a:xfrm>
            <a:off x="4011480" y="3678120"/>
            <a:ext cx="79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Network-market top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418"/>
          <p:cNvSpPr/>
          <p:nvPr/>
        </p:nvSpPr>
        <p:spPr>
          <a:xfrm>
            <a:off x="193680" y="6330960"/>
            <a:ext cx="194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Actual topology depends on the year and infrastructure sce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UGS and LNG terminal mode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8000" y="123984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NG dual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terminal send-out should consider the dual role of the facil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impor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stor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tank management (including stock level prior to the event) has to be defined for the 2-week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se elements are to be discussed with 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GS cur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st Summer and Winter Supply Outlooks use a single and conservative deliverability curve (linked to stock level) for every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improvement has to be considered with G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4B86-84D0-4921-9306-AF7F00905A6D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Scenarios &amp;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BF92-F3B9-4D0C-BA6C-B5900B05205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/>
  <cp:keywords>TYNDP SJWS WS</cp:keywords>
  <dc:language>en-US</dc:language>
  <cp:lastModifiedBy>olivier.lebois</cp:lastModifiedBy>
  <cp:lastPrinted>2011-01-20T11:35:48Z</cp:lastPrinted>
  <dcterms:modified xsi:type="dcterms:W3CDTF">2012-05-30T15:02:43Z</dcterms:modified>
  <cp:revision>940</cp:revision>
  <dc:subject/>
  <dc:title>Concluding presentation for SJWS#7 and TYNDP 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454750B1B940428917959955031DCB01030084216F8C70556344A4038134B94F5950</vt:lpwstr>
  </property>
  <property fmtid="{D5CDD505-2E9C-101B-9397-08002B2CF9AE}" pid="3" name="DocumentOrigin">
    <vt:lpwstr>18</vt:lpwstr>
  </property>
  <property fmtid="{D5CDD505-2E9C-101B-9397-08002B2CF9AE}" pid="4" name="DocumentType">
    <vt:lpwstr>11</vt:lpwstr>
  </property>
  <property fmtid="{D5CDD505-2E9C-101B-9397-08002B2CF9AE}" pid="5" name="EntsogDocumentCategory">
    <vt:lpwstr>2</vt:lpwstr>
  </property>
  <property fmtid="{D5CDD505-2E9C-101B-9397-08002B2CF9AE}" pid="6" name="EntsogDocumentCode">
    <vt:lpwstr/>
  </property>
  <property fmtid="{D5CDD505-2E9C-101B-9397-08002B2CF9AE}" pid="7" name="EntsogDocumentStatus">
    <vt:lpwstr>8</vt:lpwstr>
  </property>
  <property fmtid="{D5CDD505-2E9C-101B-9397-08002B2CF9AE}" pid="8" name="PlannedDateApproval BOA">
    <vt:lpwstr/>
  </property>
  <property fmtid="{D5CDD505-2E9C-101B-9397-08002B2CF9AE}" pid="9" name="PlannedDateApproval GAS">
    <vt:lpwstr/>
  </property>
  <property fmtid="{D5CDD505-2E9C-101B-9397-08002B2CF9AE}" pid="10" name="WorkstreamCode">
    <vt:lpwstr>10</vt:lpwstr>
  </property>
  <property fmtid="{D5CDD505-2E9C-101B-9397-08002B2CF9AE}" pid="11" name="_DCDateCreated">
    <vt:lpwstr>2012-05-15T17:21:00Z</vt:lpwstr>
  </property>
  <property fmtid="{D5CDD505-2E9C-101B-9397-08002B2CF9AE}" pid="12" name="_DCDateModified">
    <vt:lpwstr>2012-05-15T17:21:00Z</vt:lpwstr>
  </property>
</Properties>
</file>