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F851-C503-4367-8177-B0B55C040C8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8D1D-A089-4288-ABB7-F5D018711F5B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2DCD-E6AC-44A7-8C0A-6ADA0AA992D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4E41-D059-434F-AEE3-FA36621DA0C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55A0-F5D2-4C96-95C4-56690FA6030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ECEC-1D84-4FCD-8522-0EADEE8EF7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2F6E-2994-4653-B43F-D61155A254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CFED-C9BB-4D5E-9A7F-B91AAB3B47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50E0-B885-48BE-93DD-0E651610A1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E9A9-C310-47DD-B6D9-CE73DD57F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44AF-9FD8-44C3-BDCD-9A86EFF898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493A-4D25-4D64-B9D3-26D22A2535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291D-49BB-4945-81AF-2EBC2ECCB4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9EAE-621B-42B2-B7E3-2F657D58E5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BCC0-E253-4628-8A24-B626F11245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FA84-E920-4E20-BC9E-7D8E4E9711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CF6A-D5CA-4DCB-8547-5E856D1C88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BBA4-1BD4-47AF-9148-1D0636DF2B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7BA0-DA70-4049-8F8F-85C0B8250A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3D27-1D97-40A7-9D85-ECED1C287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5E8D-4FC3-458B-959F-21B00CCDF4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8380-1309-45C2-B9A8-F3D160F03E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841C-3C80-48A1-ADC3-9E0EC61CE8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D71F-FB5B-434F-93A0-7D4876C1EC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9889-B64F-4180-BD12-8513D06368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698C-D799-43C5-8E89-3DB3731F56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DB70-A95D-475F-927E-852D9F2B3E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9EDD-A8C5-4EBC-9685-C6FAF2D72E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2F9B-5593-46D3-A811-DDD4D280C1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B0E-3DFC-4835-A7CF-69168E7A8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EA6-7091-4D84-9C63-24A81742DA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E63-E1E8-4AEA-AA87-FA7EFA76FE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CB0-8DCA-401C-9D58-E6B462862E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C76-9429-46E2-87B7-41FDB06B7EA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A69-5CDC-4A9A-AB5F-0011B4355F1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ADF-DDCA-4ED2-BB87-B7CCD76B453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175-5A8A-4205-978E-526D2878DEA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634-BE37-42BA-BDCB-33390C3BFED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DFB-41AD-482F-8033-E65CEF4EDF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A04-D750-4F6C-80CD-6F9F3FBA8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8C0-4201-45D1-B09E-BE225B47A2D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A7DE-A71C-4451-9C73-9E5A420B596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5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1938-6772-47F9-BCEB-C33B8EF824B5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6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C39E-FACB-42AB-B226-2F33613C28D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Olivier.Lebois@entsog.eu" TargetMode="External"/><Relationship Id="rId2" Type="http://schemas.openxmlformats.org/officeDocument/2006/relationships/hyperlink" Target="http://www.entsog.eu/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0840" y="2781360"/>
            <a:ext cx="82785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f82"/>
                </a:solidFill>
                <a:latin typeface="Calibri"/>
              </a:rPr>
              <a:t>Infrastructure project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proposals for SJWS #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60440" y="558972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ENTSOG offices – Bru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Stakeholder Joint Working Session – 20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Online question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50012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reamlined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every project submitted to ENTSOG for TYNDP 2011-2020, online questionnaire will be set with previous values as a default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en if answer will remain the same, promoter will have to click-submit the questionn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line form will ease the data process and make it more robu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pdated question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iven past experience, questionnaire will be fine-tuned in order to avoid misunderstanding and lack of c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DB7D-2E35-4A09-8FB0-08BE3C31C753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5364000" y="508464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508464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in 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2199-E9F5-4B21-BE2A-98A020B7114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9640" y="112536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ject capacity for modelling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ey information required for modelling purp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mediate entry/exit capacity is a requirement for long-haul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case of different options, project promoter should identify the one to be modeled by ENTS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ject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estions could be based on Annex IV of the EIP propos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moters could be asked if they will apply for PCI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ject 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 detailed questions in order to help reader to monitor the evolution of projects from one edition to the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Project stage outl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F0C2-0B49-4CD3-BD1E-C1FC41ED85A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9640" y="1125360"/>
            <a:ext cx="8143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ynthetic information on project time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there is no single timeline for projects and challenging steps often differ, a robust clustering can only be based on FID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ditional proposal is to provide a synthetic outlook of project steps highlight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2740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ast completed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2740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challenge (is it possible to anticipate such difficulty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2740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maining ste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71640" y="3500280"/>
          <a:ext cx="6711840" cy="2946600"/>
        </p:xfrm>
        <a:graphic>
          <a:graphicData uri="http://schemas.openxmlformats.org/drawingml/2006/table">
            <a:tbl>
              <a:tblPr/>
              <a:tblGrid>
                <a:gridCol w="614160"/>
                <a:gridCol w="871560"/>
                <a:gridCol w="871560"/>
                <a:gridCol w="870120"/>
                <a:gridCol w="877680"/>
                <a:gridCol w="865440"/>
                <a:gridCol w="869760"/>
                <a:gridCol w="871560"/>
              </a:tblGrid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Market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Supply con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Supply con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Expected construction 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A55D-243F-455D-9E99-12046E828AB6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39640" y="1125360"/>
            <a:ext cx="8143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raphical representation of the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ggregated figures on a 10-year range are not sufficient to express the expected load in term of 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ing the same data as Annex A (Infra. Projects) it is possible to give more visibility based on the construction phase of transmission lines, UGS and L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33440" y="3284640"/>
            <a:ext cx="6340680" cy="27432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649440" y="305748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quivalent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DC6-E320-4B06-9E23-6C611C5DDCFC}" type="slidenum">
              <a:rPr b="0" lang="fr-B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89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2419560" y="3867120"/>
            <a:ext cx="42984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Olivier Lebois, Adviser, System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NTSOG -- European Network of Transmission System Operators for 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venue de Cortenbergh 100, B-1000 Bruss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ML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livier.Lebois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+ 32 2 894 51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WW: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/>
  <cp:keywords>TYNDP infrastructure project</cp:keywords>
  <dc:language>en-US</dc:language>
  <cp:lastModifiedBy>Carmen Rodríguez Valdés</cp:lastModifiedBy>
  <cp:lastPrinted>2011-01-20T11:35:48Z</cp:lastPrinted>
  <dcterms:modified xsi:type="dcterms:W3CDTF">2012-04-20T14:22:02Z</dcterms:modified>
  <cp:revision>866</cp:revision>
  <dc:subject/>
  <dc:title>Draft initial proposal for infrastructure project questionnaire and treat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4454750B1B940428917959955031DCB010300BB7710452A044043A8516CD4B1CC2D43</vt:lpwstr>
  </property>
  <property fmtid="{D5CDD505-2E9C-101B-9397-08002B2CF9AE}" pid="3" name="DocumentOrigin">
    <vt:lpwstr>18</vt:lpwstr>
  </property>
  <property fmtid="{D5CDD505-2E9C-101B-9397-08002B2CF9AE}" pid="4" name="DocumentType">
    <vt:lpwstr>11</vt:lpwstr>
  </property>
  <property fmtid="{D5CDD505-2E9C-101B-9397-08002B2CF9AE}" pid="5" name="EntsogDocumentCategory">
    <vt:lpwstr>2</vt:lpwstr>
  </property>
  <property fmtid="{D5CDD505-2E9C-101B-9397-08002B2CF9AE}" pid="6" name="EntsogDocumentCode">
    <vt:lpwstr/>
  </property>
  <property fmtid="{D5CDD505-2E9C-101B-9397-08002B2CF9AE}" pid="7" name="EntsogDocumentStatus">
    <vt:lpwstr>8</vt:lpwstr>
  </property>
  <property fmtid="{D5CDD505-2E9C-101B-9397-08002B2CF9AE}" pid="8" name="PlannedDateApproval BOA">
    <vt:lpwstr/>
  </property>
  <property fmtid="{D5CDD505-2E9C-101B-9397-08002B2CF9AE}" pid="9" name="PlannedDateApproval GAS">
    <vt:lpwstr/>
  </property>
  <property fmtid="{D5CDD505-2E9C-101B-9397-08002B2CF9AE}" pid="10" name="WorkstreamCode">
    <vt:lpwstr>10</vt:lpwstr>
  </property>
  <property fmtid="{D5CDD505-2E9C-101B-9397-08002B2CF9AE}" pid="11" name="_DCDateCreated">
    <vt:lpwstr>2012-04-17T17:21:00Z</vt:lpwstr>
  </property>
  <property fmtid="{D5CDD505-2E9C-101B-9397-08002B2CF9AE}" pid="12" name="_DCDateModified">
    <vt:lpwstr>2012-04-17T17:21:00Z</vt:lpwstr>
  </property>
</Properties>
</file>