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171E-D03E-4A9A-9684-01AF165D0232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99D3-A652-46A7-82B4-F975DFF59F62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2DBE-B1BD-411C-91C9-153E0279839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9162-41B2-4E93-9078-2B70C5F7B2D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874E-A0A8-4699-A9FF-B9225F9F933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9163-8B62-422B-87DA-C40F329925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278D-7B42-457E-895F-B390408A85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87DC-D73C-42A2-BD15-0AB69D277C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8059-0F3B-4200-87A0-65C171E596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8B3E-7707-4580-9F5E-B4B1E52FC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EA01-7B80-4D69-81B4-DD9616E1C8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86A8-D464-4E2F-A7AB-8AAA930E8D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1084-B81A-425A-BADC-322E05B401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8C21-CAB1-4CE8-8FD7-CFFEC892BF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9D1D-7A16-4B81-B058-C3E6ED6458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0584-CC67-45F8-B1AE-0E0F1CE682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C4D9-C030-4832-8E73-9B6CD1421B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1FD2-CFBB-407F-A917-E4B10EDBD7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CD48-F10F-4BF3-A221-9EFAD5EE76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7EFF-ACDF-4BE0-B69B-FA1735007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61644-05C6-48AC-9073-C56EB5E717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9860-50F7-44EC-AFEE-AC20756BC9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E7D78-AAAD-482D-8E7F-275D8A8F34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1136-3CF8-4588-842D-906EC34635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EE56-D4B1-46D8-A856-04EAE65F17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B140-99A4-4D29-A5C3-985DC86CB2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44C2-1FB9-4919-8238-BDBA4D737E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538D-4FC0-418F-A2E1-0E9B1193B2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E8AB-D6B5-44E6-ACE2-A204601D4F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FBF-E5C4-41E0-9265-45DCC4256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D9C-4262-4BBD-8EE1-34A7CE7EFD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10A-B212-4C69-BFEC-750A097A692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62A-66E1-43FA-B1D6-5C3C14D7DD9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0C0-2213-4D76-AE31-79FB66FC11C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716-34E8-4071-B95E-94F800DBFC4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E94-2762-455B-B980-0A8E23E700F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A4A-7B2B-46A4-B0A8-C10F58762A2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930-A51E-419D-AB53-1C0B3CFA09E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08A-9244-440D-AFE9-BA4FF4ADC24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F6E-06DE-4691-A113-99C1450A3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C1A-7324-4E30-BC17-9F44FF18075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Fond.jpg"/>
          <p:cNvPicPr/>
          <p:nvPr/>
        </p:nvPicPr>
        <p:blipFill>
          <a:blip r:embed="rId2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NTSOG_LOGO_001.png"/>
          <p:cNvPicPr/>
          <p:nvPr/>
        </p:nvPicPr>
        <p:blipFill>
          <a:blip r:embed="rId3"/>
          <a:stretch/>
        </p:blipFill>
        <p:spPr>
          <a:xfrm>
            <a:off x="3855960" y="614988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071960" y="6559560"/>
            <a:ext cx="8571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B4C3-BF04-4E45-812E-ED67351541EF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3929040" y="6091200"/>
            <a:ext cx="1000080" cy="758880"/>
            <a:chOff x="3929040" y="6091200"/>
            <a:chExt cx="1000080" cy="758880"/>
          </a:xfrm>
        </p:grpSpPr>
        <p:pic>
          <p:nvPicPr>
            <p:cNvPr id="115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3929040" y="6091200"/>
              <a:ext cx="1000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4"/>
            <p:cNvSpPr/>
            <p:nvPr/>
          </p:nvSpPr>
          <p:spPr>
            <a:xfrm>
              <a:off x="4149720" y="6480000"/>
              <a:ext cx="77940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5F26-DFE9-4D65-BE5A-D315635603DF}" type="slidenum">
              <a:rPr b="0" lang="fr-BE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0"/>
          <p:cNvGrpSpPr/>
          <p:nvPr/>
        </p:nvGrpSpPr>
        <p:grpSpPr>
          <a:xfrm>
            <a:off x="4000680" y="6170760"/>
            <a:ext cx="1087200" cy="571320"/>
            <a:chOff x="4000680" y="6170760"/>
            <a:chExt cx="1087200" cy="571320"/>
          </a:xfrm>
        </p:grpSpPr>
        <p:pic>
          <p:nvPicPr>
            <p:cNvPr id="156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000680" y="6170760"/>
              <a:ext cx="10000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4"/>
            <p:cNvSpPr/>
            <p:nvPr/>
          </p:nvSpPr>
          <p:spPr>
            <a:xfrm>
              <a:off x="4230720" y="6575400"/>
              <a:ext cx="85716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0EAE-64CF-4E55-92BD-AB2AB4CB393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4143240" y="6170760"/>
            <a:ext cx="1071720" cy="571320"/>
            <a:chOff x="4143240" y="6170760"/>
            <a:chExt cx="1071720" cy="571320"/>
          </a:xfrm>
        </p:grpSpPr>
        <p:pic>
          <p:nvPicPr>
            <p:cNvPr id="199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143240" y="6170760"/>
              <a:ext cx="1000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4357440" y="6575400"/>
              <a:ext cx="85752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Olivier.Lebois@entsog.eu" TargetMode="External"/><Relationship Id="rId2" Type="http://schemas.openxmlformats.org/officeDocument/2006/relationships/hyperlink" Target="http://www.entsog.eu/" TargetMode="Externa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0840" y="2781360"/>
            <a:ext cx="82785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f82"/>
                </a:solidFill>
                <a:latin typeface="Calibri"/>
              </a:rPr>
              <a:t>Infrastructure project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itial proposals for SJWS #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ous-titre 2"/>
          <p:cNvSpPr/>
          <p:nvPr/>
        </p:nvSpPr>
        <p:spPr>
          <a:xfrm>
            <a:off x="1360440" y="558972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66666"/>
                </a:solidFill>
                <a:latin typeface="Calibri"/>
              </a:rPr>
              <a:t>ENTSOG offices – Bru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66666"/>
                </a:solidFill>
                <a:latin typeface="Calibri"/>
              </a:rPr>
              <a:t>Stakeholder Joint Working Session – 20 Apri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Online question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1500120"/>
            <a:ext cx="8143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reamlined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every project submitted to ENTSOG for TYNDP 2011-2020, online questionnaire will be set with previous values as a default s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en if answer will remain the same, promoter will have to click-submit the questionn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line form will ease the data process and make it more robu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pdated question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iven past experience, questionnaire will be fine-tuned in order to avoid misunderstanding and lack of c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10AA-905A-434F-BEC2-D61DD2CD7D7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5364000" y="5084640"/>
          <a:ext cx="91440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508464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in 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791D-5A98-4FD0-AB2A-BAA8B42374D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9640" y="1125360"/>
            <a:ext cx="8143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ject capacity for modelling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ey information required for modelling purp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ermediate entry/exit capacity is a requirement for long-haul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case of different options, project promoter should identify the one to be modeled by ENTS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ject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uestions could be based on Annex IV of the EIP propos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moters could be asked if they will apply for PCI st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ject 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ode detailed questions in order to help reader to monitor the evolution of projects from one edition to the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Project stage outl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20EE-5E5B-4E7F-AB01-872CB8E432B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9640" y="1125360"/>
            <a:ext cx="8143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ynthetic information on project time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4336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there is no single timeline for projects and challenging steps often differ, a robust clustering can only be based on FID st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4336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dditional proposal is to provide a synthetic outlook of project steps highlight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2740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ast completed 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2740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challenge (is it possible to anticipate such difficulty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2740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maining ste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4336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43360" indent="-243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71640" y="3500280"/>
          <a:ext cx="6711840" cy="2946600"/>
        </p:xfrm>
        <a:graphic>
          <a:graphicData uri="http://schemas.openxmlformats.org/drawingml/2006/table">
            <a:tbl>
              <a:tblPr/>
              <a:tblGrid>
                <a:gridCol w="614160"/>
                <a:gridCol w="871560"/>
                <a:gridCol w="871560"/>
                <a:gridCol w="870120"/>
                <a:gridCol w="877680"/>
                <a:gridCol w="865440"/>
                <a:gridCol w="869760"/>
                <a:gridCol w="871560"/>
              </a:tblGrid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ep 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c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c73735"/>
                          </a:solidFill>
                          <a:latin typeface="Calibri"/>
                        </a:rPr>
                        <a:t>Market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c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c73735"/>
                          </a:solidFill>
                          <a:latin typeface="Calibri"/>
                        </a:rPr>
                        <a:t>Permi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ct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c73735"/>
                          </a:solidFill>
                          <a:latin typeface="Calibri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ct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c73735"/>
                          </a:solidFill>
                          <a:latin typeface="Calibri"/>
                        </a:rPr>
                        <a:t>Supply con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7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ject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c73735"/>
                          </a:solidFill>
                          <a:latin typeface="Calibri"/>
                        </a:rPr>
                        <a:t>Supply con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it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Expected construction l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C300-0812-4BAB-A6EE-FB76620545F2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39640" y="1125360"/>
            <a:ext cx="8143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raphical representation of the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ggregated figures on a 10-year range are not sufficient to express the expected load in term of 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sing the same data as Annex A (Infra. Projects) it is possible to give more visibility based on the construction phase of transmission lines, UGS and L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333440" y="3284640"/>
            <a:ext cx="6340680" cy="27432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649440" y="305748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quivalent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AFA4-FAAA-42C7-9EC6-7817F31690C6}" type="slidenum">
              <a:rPr b="0" lang="fr-B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89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2419560" y="3867120"/>
            <a:ext cx="42984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Olivier Lebois, Adviser, System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NTSOG -- European Network of Transmission System Operators for 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venue de Cortenbergh 100, B-1000 Bruss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ML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livier.Lebois@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+ 32 2 894 51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WWW:   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21:19Z</dcterms:created>
  <dc:creator>Andrea Cirlicova</dc:creator>
  <dc:description/>
  <cp:keywords>TYNDP infrastructure project</cp:keywords>
  <dc:language>en-US</dc:language>
  <cp:lastModifiedBy>Carmen Rodríguez Valdés</cp:lastModifiedBy>
  <cp:lastPrinted>2011-01-20T11:35:48Z</cp:lastPrinted>
  <dcterms:modified xsi:type="dcterms:W3CDTF">2012-04-20T14:22:02Z</dcterms:modified>
  <cp:revision>866</cp:revision>
  <dc:subject/>
  <dc:title>Draft initial proposal for infrastructure project questionnaire and treat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4454750B1B940428917959955031DCB010300BB7710452A044043A8516CD4B1CC2D43</vt:lpwstr>
  </property>
  <property fmtid="{D5CDD505-2E9C-101B-9397-08002B2CF9AE}" pid="3" name="DocumentOrigin">
    <vt:lpwstr>18</vt:lpwstr>
  </property>
  <property fmtid="{D5CDD505-2E9C-101B-9397-08002B2CF9AE}" pid="4" name="DocumentType">
    <vt:lpwstr>11</vt:lpwstr>
  </property>
  <property fmtid="{D5CDD505-2E9C-101B-9397-08002B2CF9AE}" pid="5" name="EntsogDocumentCategory">
    <vt:lpwstr>2</vt:lpwstr>
  </property>
  <property fmtid="{D5CDD505-2E9C-101B-9397-08002B2CF9AE}" pid="6" name="EntsogDocumentCode">
    <vt:lpwstr/>
  </property>
  <property fmtid="{D5CDD505-2E9C-101B-9397-08002B2CF9AE}" pid="7" name="EntsogDocumentStatus">
    <vt:lpwstr>8</vt:lpwstr>
  </property>
  <property fmtid="{D5CDD505-2E9C-101B-9397-08002B2CF9AE}" pid="8" name="PlannedDateApproval BOA">
    <vt:lpwstr/>
  </property>
  <property fmtid="{D5CDD505-2E9C-101B-9397-08002B2CF9AE}" pid="9" name="PlannedDateApproval GAS">
    <vt:lpwstr/>
  </property>
  <property fmtid="{D5CDD505-2E9C-101B-9397-08002B2CF9AE}" pid="10" name="WorkstreamCode">
    <vt:lpwstr>10</vt:lpwstr>
  </property>
  <property fmtid="{D5CDD505-2E9C-101B-9397-08002B2CF9AE}" pid="11" name="_DCDateCreated">
    <vt:lpwstr>2012-04-17T17:21:00Z</vt:lpwstr>
  </property>
  <property fmtid="{D5CDD505-2E9C-101B-9397-08002B2CF9AE}" pid="12" name="_DCDateModified">
    <vt:lpwstr>2012-04-17T17:21:00Z</vt:lpwstr>
  </property>
</Properties>
</file>