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3914-6D4C-498D-97C8-8F287EF93761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7808-F905-4436-96D9-00F7C7C47B06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451A-A817-4774-8434-EB3BEAC3357A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25A6-8B65-406C-9CAA-21D3FA665A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EB92-4CF7-44B6-907B-6C7314E513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7D22-0C6F-407C-A381-DB36B38369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F33C-11D1-4F1E-8376-9EA6C4D364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3041-BF00-4DBE-A76A-41C8EA3C2C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D460-097B-4192-B803-03CBCC7B30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0BE5-7BA4-4511-AFF1-E6C7E17EAB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D618-C051-47C2-9AAF-B9D019AF9C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6A4A-2755-43F4-AAB8-33E812D4FC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CE70-480E-41C8-A7E1-2A3631A6AB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2C46-29B0-48BC-9ABC-BFE0701CD1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DD9C-A375-41E2-B409-57B45F64CF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751A-DF95-4268-9099-A40954A2B5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27B5C-184F-4842-A35A-2E3406DF1C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5CEE-A877-4D5D-857C-DBE1E1CEF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819F-3DCF-4412-8242-1F05FE9738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9A00-7674-492C-8E72-15909A6528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9AB5A-2FC1-4288-BC4F-13199A9912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94267-8514-4AB6-AD06-61176542DE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80EFE-5796-4E86-8751-FD86CE08B3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60845-A097-4D57-B1CC-C208F18C4D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BBB44-F7D4-40A1-90AF-C5D5105F95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D069C-E968-4B48-AEFF-BC6F65555E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2E9A4-DD86-45A3-8C7B-9E1CE9DF125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0C1-31C7-489E-B439-E90307892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ECA-768E-4D57-A751-421B2999474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38E-37E2-4965-B23B-1AA7D4E63E1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18B-4ABF-47F7-B650-00EF8328802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00A-257B-481A-9B9C-B2B70086ACF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2AC-1475-41E0-BBFA-58734C50AD6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8BB-648C-484A-AB29-61308780DE5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835-38EE-4009-938E-B63571D693F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058-F180-45D9-A686-4239DAB6D2B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450-02FF-464C-B7A5-45E05A969BF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576-4A61-488E-9322-AA7E740F6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56B7-CF32-40A8-928C-67F509A5754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Image 1" descr="Fond.jpg"/>
          <p:cNvPicPr/>
          <p:nvPr/>
        </p:nvPicPr>
        <p:blipFill>
          <a:blip r:embed="rId2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ENTSOG_LOGO_001.png"/>
          <p:cNvPicPr/>
          <p:nvPr/>
        </p:nvPicPr>
        <p:blipFill>
          <a:blip r:embed="rId3"/>
          <a:stretch/>
        </p:blipFill>
        <p:spPr>
          <a:xfrm>
            <a:off x="3855960" y="6149880"/>
            <a:ext cx="1000080" cy="571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4071960" y="6559560"/>
            <a:ext cx="8571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946B-DF59-4007-A781-550B0387BC65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10"/>
          <p:cNvGrpSpPr/>
          <p:nvPr/>
        </p:nvGrpSpPr>
        <p:grpSpPr>
          <a:xfrm>
            <a:off x="3929040" y="6091200"/>
            <a:ext cx="1000080" cy="758880"/>
            <a:chOff x="3929040" y="6091200"/>
            <a:chExt cx="1000080" cy="758880"/>
          </a:xfrm>
        </p:grpSpPr>
        <p:pic>
          <p:nvPicPr>
            <p:cNvPr id="117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3929040" y="6091200"/>
              <a:ext cx="1000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4"/>
            <p:cNvSpPr/>
            <p:nvPr/>
          </p:nvSpPr>
          <p:spPr>
            <a:xfrm>
              <a:off x="4149720" y="6480000"/>
              <a:ext cx="779400" cy="37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3469-1444-44B4-B1A5-2D106560593C}" type="slidenum">
              <a:rPr b="0" lang="fr-BE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10"/>
          <p:cNvGrpSpPr/>
          <p:nvPr/>
        </p:nvGrpSpPr>
        <p:grpSpPr>
          <a:xfrm>
            <a:off x="4000680" y="6170760"/>
            <a:ext cx="1087200" cy="571320"/>
            <a:chOff x="4000680" y="6170760"/>
            <a:chExt cx="1087200" cy="571320"/>
          </a:xfrm>
        </p:grpSpPr>
        <p:pic>
          <p:nvPicPr>
            <p:cNvPr id="158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000680" y="6170760"/>
              <a:ext cx="100008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4"/>
            <p:cNvSpPr/>
            <p:nvPr/>
          </p:nvSpPr>
          <p:spPr>
            <a:xfrm>
              <a:off x="4230720" y="6575400"/>
              <a:ext cx="85716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4D0F-09FB-46A2-9E33-68D4D9549774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1"/>
          <p:cNvGrpSpPr/>
          <p:nvPr/>
        </p:nvGrpSpPr>
        <p:grpSpPr>
          <a:xfrm>
            <a:off x="4143240" y="6170760"/>
            <a:ext cx="1071720" cy="571320"/>
            <a:chOff x="4143240" y="6170760"/>
            <a:chExt cx="1071720" cy="571320"/>
          </a:xfrm>
        </p:grpSpPr>
        <p:pic>
          <p:nvPicPr>
            <p:cNvPr id="199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143240" y="6170760"/>
              <a:ext cx="100044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4"/>
            <p:cNvSpPr/>
            <p:nvPr/>
          </p:nvSpPr>
          <p:spPr>
            <a:xfrm>
              <a:off x="4357440" y="6575400"/>
              <a:ext cx="85752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2976-2249-4B2E-AD56-6F1B1E5D3ED9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Peak demand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contenu 2"/>
          <p:cNvSpPr/>
          <p:nvPr/>
        </p:nvSpPr>
        <p:spPr>
          <a:xfrm>
            <a:off x="108000" y="1179360"/>
            <a:ext cx="5759280" cy="567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ak case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 level of demand calculated according to the national standards or business codes that is used by TSO’s to assess the network capacities and needs of development. The peak case #1 is the high daily demand considered in the national pla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ak case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 level of demand calculated by TSOs under a harmonized level of risk, following a common methodology – when possible. This demand case considers the simultaneous occurrence of the so calculated high level of demand in every cou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ak case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and case derived from the peak case #2. In the peak case #3 the lack of simultaneity in the occurrence of the high levels of demand induces the mitigation of the peak dem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6024240" y="1628640"/>
            <a:ext cx="1879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Design Case (D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9"/>
          <p:cNvSpPr/>
          <p:nvPr/>
        </p:nvSpPr>
        <p:spPr>
          <a:xfrm>
            <a:off x="6455160" y="8683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roposed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0"/>
          <p:cNvSpPr/>
          <p:nvPr/>
        </p:nvSpPr>
        <p:spPr>
          <a:xfrm>
            <a:off x="6026040" y="3138480"/>
            <a:ext cx="288000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algn="just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ption 1:  High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ption 2: Undiversified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ption 3: Simultaneous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1"/>
          <p:cNvSpPr/>
          <p:nvPr/>
        </p:nvSpPr>
        <p:spPr>
          <a:xfrm>
            <a:off x="108000" y="1179360"/>
            <a:ext cx="8740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13"/>
          <p:cNvSpPr/>
          <p:nvPr/>
        </p:nvSpPr>
        <p:spPr>
          <a:xfrm>
            <a:off x="150840" y="3030480"/>
            <a:ext cx="874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14"/>
          <p:cNvSpPr/>
          <p:nvPr/>
        </p:nvSpPr>
        <p:spPr>
          <a:xfrm>
            <a:off x="150840" y="5084640"/>
            <a:ext cx="8742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5"/>
          <p:cNvSpPr/>
          <p:nvPr/>
        </p:nvSpPr>
        <p:spPr>
          <a:xfrm>
            <a:off x="6021360" y="5127480"/>
            <a:ext cx="314172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algn="just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ption 1:  Low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ption 2: Diversified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ption 3: Unsimultaneous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16"/>
          <p:cNvSpPr/>
          <p:nvPr/>
        </p:nvSpPr>
        <p:spPr>
          <a:xfrm>
            <a:off x="5970600" y="1179360"/>
            <a:ext cx="0" cy="534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9:21:19Z</dcterms:created>
  <dc:creator>Andrea Cirlicova</dc:creator>
  <dc:description>Test file to explore size and formatting issues</dc:description>
  <dc:language>en-US</dc:language>
  <cp:lastModifiedBy>Carmen Rodríguez Valdés</cp:lastModifiedBy>
  <cp:lastPrinted>2012-01-24T15:35:19Z</cp:lastPrinted>
  <dcterms:modified xsi:type="dcterms:W3CDTF">2012-03-20T08:18:31Z</dcterms:modified>
  <cp:revision>881</cp:revision>
  <dc:subject/>
  <dc:title>TYNDP 2013-2022 -- 1st SJWS</dc:title>
</cp:coreProperties>
</file>