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0867-225F-4798-8518-900453AC926F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942B-F8DB-4F7B-88EE-192902257A74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3524-ABA2-4373-9730-8721BAD902B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0414-BB35-4A03-8D00-2BBE052DEC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12C6-3AE8-4D71-BA09-F77C824B10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528B-FAE3-4BF7-BDBC-4D605A1A0F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7917-1B94-4133-9567-C681586D84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ACDA-96E4-4F7F-85EE-6E8B802D0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52AF-B332-47CD-8B87-6EA738DBE2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F8A0-F493-47D4-B676-2FCAD21E5C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BB39-3DAB-44F7-A286-1ACBB52000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2971-59CD-43DE-990A-29F1CBB00E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CA19-F9BA-45F6-8B1E-1FC90966A1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2AB3-1C60-401D-A87D-EEED598608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EB77-C9B5-411F-9234-9727495CE6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F260-6307-46AD-83CD-2261B1BBF3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DA61-A2D0-4B38-A6DC-A9269A5596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8459-1AC6-41A9-B057-F204FEA10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6480-9ED0-4AB3-9CFE-34549F1B49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FD7F-87CD-4875-B1CC-774430688E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2383-57E9-4436-AAE7-A391288682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7E5A-3BDA-40BF-8A12-EE7A62407E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3796-174B-437D-A69B-CC273F03FB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3785-E719-47F1-BE1B-024BCB289B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5C73-E1ED-4540-92DC-E9CA93E7C4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C642-B32B-4E9B-A895-10A1F06899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330F-7704-4EC6-9CF0-57AE453663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142-9914-4C24-AC8E-599877A49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C32-BB47-432C-A9D6-1A94AE7816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60E-D01D-4C00-AD61-20D5221AA3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70B-6988-4FF5-ABEC-F407860A23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C5C-036A-4505-9A0A-88DECACC2DC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D3F-0008-47CE-98BB-1414446CBAC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FDE-B178-4912-A1F6-4D00577715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C52-D34D-4112-93B3-EF7D8F3CA3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F5C-4119-4908-A080-89E43A5FE4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7B2-3C27-4E0D-BF6F-4179203E21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103-E5A4-4226-9BD6-3FD17E45D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BC3-FDF6-45D9-B40B-DA3BE11A72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3994-19E6-4556-877B-3CBDAE74BD6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7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ADDC-B986-4C67-817C-362776F330E9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8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CFA8-97D1-4A82-8032-F88E773FACF3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5EA7-EBC9-4AD0-AAE2-6818533B1F9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Peak demand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contenu 2"/>
          <p:cNvSpPr/>
          <p:nvPr/>
        </p:nvSpPr>
        <p:spPr>
          <a:xfrm>
            <a:off x="108000" y="1179360"/>
            <a:ext cx="5759280" cy="567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ak case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level of demand calculated according to the national standards or business codes that is used by TSO’s to assess the network capacities and needs of development. The peak case #1 is the high daily demand considered in the national pl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ak case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level of demand calculated by TSOs under a harmonized level of risk, following a common methodology – when possible. This demand case considers the simultaneous occurrence of the so calculated high level of demand in every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ak case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and case derived from the peak case #2. In the peak case #3 the lack of simultaneity in the occurrence of the high levels of demand induces the mitigation of the peak de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6024240" y="1628640"/>
            <a:ext cx="1879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Design Case (D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6455160" y="8683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oposed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"/>
          <p:cNvSpPr/>
          <p:nvPr/>
        </p:nvSpPr>
        <p:spPr>
          <a:xfrm>
            <a:off x="6026040" y="3138480"/>
            <a:ext cx="288000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algn="just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1:  High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2: Undiversified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3: Simultaneous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1"/>
          <p:cNvSpPr/>
          <p:nvPr/>
        </p:nvSpPr>
        <p:spPr>
          <a:xfrm>
            <a:off x="108000" y="1179360"/>
            <a:ext cx="8740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13"/>
          <p:cNvSpPr/>
          <p:nvPr/>
        </p:nvSpPr>
        <p:spPr>
          <a:xfrm>
            <a:off x="150840" y="3030480"/>
            <a:ext cx="874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4"/>
          <p:cNvSpPr/>
          <p:nvPr/>
        </p:nvSpPr>
        <p:spPr>
          <a:xfrm>
            <a:off x="150840" y="5084640"/>
            <a:ext cx="874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6021360" y="5127480"/>
            <a:ext cx="314172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algn="just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1:  Low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2: Diversified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3: Unsimultaneous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6"/>
          <p:cNvSpPr/>
          <p:nvPr/>
        </p:nvSpPr>
        <p:spPr>
          <a:xfrm>
            <a:off x="5970600" y="1179360"/>
            <a:ext cx="0" cy="534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>Test file to explore size and formatting issues</dc:description>
  <dc:language>en-US</dc:language>
  <cp:lastModifiedBy>Carmen Rodríguez Valdés</cp:lastModifiedBy>
  <cp:lastPrinted>2012-01-24T15:35:19Z</cp:lastPrinted>
  <dcterms:modified xsi:type="dcterms:W3CDTF">2012-03-20T08:18:31Z</dcterms:modified>
  <cp:revision>881</cp:revision>
  <dc:subject/>
  <dc:title>TYNDP 2013-2022 -- 1st SJWS</dc:title>
</cp:coreProperties>
</file>