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55A-443B-4585-8BA8-5B82C96E4DD8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1A92-9AA0-49C8-BF39-8879FA116E7B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68C-A9E5-4994-8E21-838A48FCA6F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3FFD-1B17-414A-AC6D-4CEEC518C13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06A4-AB0D-473E-B65A-A7CA402D732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39E4-D120-4C14-8E90-24B1B6D9F26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9FD-D99E-4AE7-9C2A-4CEC452BD73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86F7-86EE-45FA-AB97-D48265171C7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8F62-B27E-44F1-9986-70AAC9943F3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8CE-E617-4183-8CD7-31EC48858E6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D1BA-2E75-403B-ABCB-76516F7F150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ADF2-D72A-4AEE-B393-70FB17FCC897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580E-F363-42D9-8243-9803268BDC7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69B7-EC0F-4F2A-A648-3A5DE2BD459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7CD6-CF90-48D9-88CF-CBF03D8593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FE10-BFBE-44F1-BE87-31C22BD741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9AE4-19A7-4554-B8E5-C20DF05BF4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AF84-A34F-4560-AB7E-7D95CA5021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F3DE-FFB9-47CC-AD68-2F3CEE2EF4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AF63-F1FA-423C-8385-51E68483DD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9A82-21A8-4867-8663-E82946D9D2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C98B-4859-4889-968F-D7AA195C14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615E-DF9D-408A-B328-CD6FAEFA71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B5A1-2E9C-4FBF-B381-C77A1CCE58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5622-E20E-4C83-90D9-9527E835BE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0708-97F8-4E7A-A5A2-E063761810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039C-A0B9-4CAF-86B5-05B978920D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EA92-BFF7-45CC-B28F-51E1BD1092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5A9F-AE14-46E4-B1B8-BB5137D49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F9CE-F976-4849-8E42-7ACB37CA94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C980-A51B-4DD2-8484-05C16F0E0E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C782-CC66-4C80-898F-321E58A222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61F0-5277-4A95-82F0-CD18E8A93A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E0CA1-96DE-4999-B99A-8CCE634FE8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2997-E517-450F-B9CA-10FD08AE8F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69DC-C452-487A-8B07-9E47663077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89AB-7B85-47DB-AA40-5229B9801A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C8AB-D75E-48C7-8DBA-C7299EC9EE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E9A-BC08-4354-AAED-D7440A9CD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F98-E1BB-4240-8925-FB27672418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F57-FF82-48D5-9D6C-94EF06B2DA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C67-624A-4EE6-8B87-8F59C882F2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180-CEE2-4F01-87EA-BF05853C9B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F61-E70F-488F-8A55-7EA606152D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A0D7-6936-48BA-98CD-015E37ABC9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400-4AA8-4B93-A6FA-AF0492889B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CF6-7C0B-44B0-97B0-D9CFBF4051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765-87B2-4BAB-8434-F589341366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5A2-A444-45F7-BE40-5E1A4D34B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A92-4428-41F5-B46E-E85F4CAAD4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CAC-15B5-4531-903D-2C7C35AE452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5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3E60-11AF-4328-AF8E-3A8DFB05465E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6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856E-9782-47A0-8B14-EDD6B7DEA088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Olivier.Lebois@entsog.eu" TargetMode="External"/><Relationship Id="rId2" Type="http://schemas.openxmlformats.org/officeDocument/2006/relationships/hyperlink" Target="http://www.entsog.eu/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0840" y="2781360"/>
            <a:ext cx="82785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f82"/>
                </a:solidFill>
                <a:latin typeface="Calibri"/>
              </a:rPr>
              <a:t>Market Integration &amp; So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proposals for SJWS #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60440" y="558972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ENTSOG offices –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Stakeholder Joint Working Session – 20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– Mini/Max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A77-1840-4107-81EC-385F37860D0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9280" y="907920"/>
            <a:ext cx="8425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ly mini/maxi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maximization helps to measure the potential physical reach of a supply source (same as current TYND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minimization helps to measure the required minimum of a given source of gas in order to balance Europe (same as Winter Supply Outlook 2011/12 and providing some Security of Supply ind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evel of st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s (limitations, maximum reach and minimum supply) will highly depend on the level of stress defined by the following paramet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4360" y="4221000"/>
          <a:ext cx="7848360" cy="2291040"/>
        </p:xfrm>
        <a:graphic>
          <a:graphicData uri="http://schemas.openxmlformats.org/drawingml/2006/table">
            <a:tbl>
              <a:tblPr/>
              <a:tblGrid>
                <a:gridCol w="1439640"/>
                <a:gridCol w="2135160"/>
                <a:gridCol w="2136960"/>
                <a:gridCol w="213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bination of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per supply li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er supply li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-by-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historical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 potential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d by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– Combination of su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4C9D-1308-4675-A679-E5E238767D2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6800" y="1025640"/>
            <a:ext cx="7905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ne-by-on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previous TYNDP)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er region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7172"/>
          <p:cNvGrpSpPr/>
          <p:nvPr/>
        </p:nvGrpSpPr>
        <p:grpSpPr>
          <a:xfrm>
            <a:off x="5222880" y="2212920"/>
            <a:ext cx="3168720" cy="2104920"/>
            <a:chOff x="5222880" y="2212920"/>
            <a:chExt cx="3168720" cy="2104920"/>
          </a:xfrm>
        </p:grpSpPr>
        <p:grpSp>
          <p:nvGrpSpPr>
            <p:cNvPr id="324" name="Group 19"/>
            <p:cNvGrpSpPr/>
            <p:nvPr/>
          </p:nvGrpSpPr>
          <p:grpSpPr>
            <a:xfrm>
              <a:off x="5222880" y="2238480"/>
              <a:ext cx="3168720" cy="2079360"/>
              <a:chOff x="5222880" y="2238480"/>
              <a:chExt cx="3168720" cy="2079360"/>
            </a:xfrm>
          </p:grpSpPr>
          <p:sp>
            <p:nvSpPr>
              <p:cNvPr id="325" name="Rounded Rectangle 20"/>
              <p:cNvSpPr/>
              <p:nvPr/>
            </p:nvSpPr>
            <p:spPr>
              <a:xfrm>
                <a:off x="5222880" y="2238480"/>
                <a:ext cx="3168720" cy="2079360"/>
              </a:xfrm>
              <a:prstGeom prst="roundRect">
                <a:avLst>
                  <a:gd name="adj" fmla="val 16667"/>
                </a:avLst>
              </a:prstGeom>
              <a:solidFill>
                <a:srgbClr val="b4d13b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1"/>
              <p:cNvGrpSpPr/>
              <p:nvPr/>
            </p:nvGrpSpPr>
            <p:grpSpPr>
              <a:xfrm>
                <a:off x="5432400" y="2309400"/>
                <a:ext cx="2759760" cy="1944360"/>
                <a:chOff x="5432400" y="2309400"/>
                <a:chExt cx="2759760" cy="1944360"/>
              </a:xfrm>
            </p:grpSpPr>
            <p:grpSp>
              <p:nvGrpSpPr>
                <p:cNvPr id="327" name="Group 22"/>
                <p:cNvGrpSpPr/>
                <p:nvPr/>
              </p:nvGrpSpPr>
              <p:grpSpPr>
                <a:xfrm>
                  <a:off x="5432400" y="2309400"/>
                  <a:ext cx="2733120" cy="577440"/>
                  <a:chOff x="5432400" y="2309400"/>
                  <a:chExt cx="2733120" cy="577440"/>
                </a:xfrm>
              </p:grpSpPr>
              <p:sp>
                <p:nvSpPr>
                  <p:cNvPr id="328" name="Rounded Rectangle 31"/>
                  <p:cNvSpPr/>
                  <p:nvPr/>
                </p:nvSpPr>
                <p:spPr>
                  <a:xfrm>
                    <a:off x="5432400" y="230940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Rounded Rectangle 32"/>
                  <p:cNvSpPr/>
                  <p:nvPr/>
                </p:nvSpPr>
                <p:spPr>
                  <a:xfrm>
                    <a:off x="6394320" y="230940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Rounded Rectangle 33"/>
                  <p:cNvSpPr/>
                  <p:nvPr/>
                </p:nvSpPr>
                <p:spPr>
                  <a:xfrm>
                    <a:off x="7373160" y="230940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Group 23"/>
                <p:cNvGrpSpPr/>
                <p:nvPr/>
              </p:nvGrpSpPr>
              <p:grpSpPr>
                <a:xfrm>
                  <a:off x="5456520" y="2989440"/>
                  <a:ext cx="2733120" cy="577440"/>
                  <a:chOff x="5456520" y="2989440"/>
                  <a:chExt cx="2733120" cy="577440"/>
                </a:xfrm>
              </p:grpSpPr>
              <p:sp>
                <p:nvSpPr>
                  <p:cNvPr id="332" name="Rounded Rectangle 28"/>
                  <p:cNvSpPr/>
                  <p:nvPr/>
                </p:nvSpPr>
                <p:spPr>
                  <a:xfrm>
                    <a:off x="5456520" y="298944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Rounded Rectangle 29"/>
                  <p:cNvSpPr/>
                  <p:nvPr/>
                </p:nvSpPr>
                <p:spPr>
                  <a:xfrm>
                    <a:off x="6418440" y="298944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Rounded Rectangle 30"/>
                  <p:cNvSpPr/>
                  <p:nvPr/>
                </p:nvSpPr>
                <p:spPr>
                  <a:xfrm>
                    <a:off x="7397280" y="298944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Group 24"/>
                <p:cNvGrpSpPr/>
                <p:nvPr/>
              </p:nvGrpSpPr>
              <p:grpSpPr>
                <a:xfrm>
                  <a:off x="5459040" y="3676320"/>
                  <a:ext cx="2733120" cy="577440"/>
                  <a:chOff x="5459040" y="3676320"/>
                  <a:chExt cx="2733120" cy="577440"/>
                </a:xfrm>
              </p:grpSpPr>
              <p:sp>
                <p:nvSpPr>
                  <p:cNvPr id="336" name="Rounded Rectangle 25"/>
                  <p:cNvSpPr/>
                  <p:nvPr/>
                </p:nvSpPr>
                <p:spPr>
                  <a:xfrm>
                    <a:off x="5459040" y="367632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Rounded Rectangle 26"/>
                  <p:cNvSpPr/>
                  <p:nvPr/>
                </p:nvSpPr>
                <p:spPr>
                  <a:xfrm>
                    <a:off x="6420960" y="367632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Rounded Rectangle 27"/>
                  <p:cNvSpPr/>
                  <p:nvPr/>
                </p:nvSpPr>
                <p:spPr>
                  <a:xfrm>
                    <a:off x="7399800" y="367632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9" name="Freeform 2"/>
            <p:cNvSpPr/>
            <p:nvPr/>
          </p:nvSpPr>
          <p:spPr>
            <a:xfrm>
              <a:off x="7257600" y="2212920"/>
              <a:ext cx="42480" cy="2083680"/>
            </a:xfrm>
            <a:custGeom>
              <a:avLst/>
              <a:gdLst/>
              <a:ahLst/>
              <a:rect l="l" t="t" r="r" b="b"/>
              <a:pathLst>
                <a:path w="42530" h="2083981">
                  <a:moveTo>
                    <a:pt x="0" y="0"/>
                  </a:moveTo>
                  <a:lnTo>
                    <a:pt x="42530" y="2083981"/>
                  </a:lnTo>
                </a:path>
              </a:pathLst>
            </a:custGeom>
            <a:noFill/>
            <a:ln w="38160">
              <a:solidFill>
                <a:srgbClr val="4bacc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7168"/>
            <p:cNvSpPr/>
            <p:nvPr/>
          </p:nvSpPr>
          <p:spPr>
            <a:xfrm>
              <a:off x="5226120" y="2914560"/>
              <a:ext cx="2041560" cy="715680"/>
            </a:xfrm>
            <a:custGeom>
              <a:avLst/>
              <a:gdLst/>
              <a:ahLst/>
              <a:rect l="l" t="t" r="r" b="b"/>
              <a:pathLst>
                <a:path w="2041451" h="715856">
                  <a:moveTo>
                    <a:pt x="2041451" y="0"/>
                  </a:moveTo>
                  <a:lnTo>
                    <a:pt x="1541721" y="21265"/>
                  </a:lnTo>
                  <a:cubicBezTo>
                    <a:pt x="1399954" y="24809"/>
                    <a:pt x="1265275" y="3544"/>
                    <a:pt x="1190847" y="21265"/>
                  </a:cubicBezTo>
                  <a:cubicBezTo>
                    <a:pt x="1116419" y="38986"/>
                    <a:pt x="1111103" y="23037"/>
                    <a:pt x="1095154" y="127590"/>
                  </a:cubicBezTo>
                  <a:cubicBezTo>
                    <a:pt x="1079205" y="232144"/>
                    <a:pt x="1107559" y="551121"/>
                    <a:pt x="1095154" y="648586"/>
                  </a:cubicBezTo>
                  <a:cubicBezTo>
                    <a:pt x="1082749" y="746051"/>
                    <a:pt x="1203252" y="703520"/>
                    <a:pt x="1020726" y="712381"/>
                  </a:cubicBezTo>
                  <a:cubicBezTo>
                    <a:pt x="838200" y="721242"/>
                    <a:pt x="419100" y="711495"/>
                    <a:pt x="0" y="701749"/>
                  </a:cubicBezTo>
                </a:path>
              </a:pathLst>
            </a:custGeom>
            <a:noFill/>
            <a:ln w="38160">
              <a:solidFill>
                <a:srgbClr val="4bacc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Box 7169"/>
          <p:cNvSpPr/>
          <p:nvPr/>
        </p:nvSpPr>
        <p:spPr>
          <a:xfrm>
            <a:off x="5097600" y="43941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, LY &amp; L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Up Arrow 7170"/>
          <p:cNvSpPr/>
          <p:nvPr/>
        </p:nvSpPr>
        <p:spPr>
          <a:xfrm rot="2367000">
            <a:off x="6633720" y="4334040"/>
            <a:ext cx="368280" cy="657000"/>
          </a:xfrm>
          <a:prstGeom prst="upArrow">
            <a:avLst>
              <a:gd name="adj1" fmla="val 50000"/>
              <a:gd name="adj2" fmla="val 50091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383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9"/>
          <p:cNvSpPr/>
          <p:nvPr/>
        </p:nvSpPr>
        <p:spPr>
          <a:xfrm>
            <a:off x="522360" y="4559400"/>
            <a:ext cx="35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U, AL, LY, CA, LNG           -3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Up Arrow 40"/>
          <p:cNvSpPr/>
          <p:nvPr/>
        </p:nvSpPr>
        <p:spPr>
          <a:xfrm rot="7740600">
            <a:off x="4788000" y="1791360"/>
            <a:ext cx="370080" cy="657000"/>
          </a:xfrm>
          <a:prstGeom prst="upArrow">
            <a:avLst>
              <a:gd name="adj1" fmla="val 50000"/>
              <a:gd name="adj2" fmla="val 49848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6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1"/>
          <p:cNvSpPr/>
          <p:nvPr/>
        </p:nvSpPr>
        <p:spPr>
          <a:xfrm>
            <a:off x="7269120" y="15508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U, LNG &amp;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Up Arrow 43"/>
          <p:cNvSpPr/>
          <p:nvPr/>
        </p:nvSpPr>
        <p:spPr>
          <a:xfrm rot="7740600">
            <a:off x="8206560" y="1791000"/>
            <a:ext cx="370080" cy="657360"/>
          </a:xfrm>
          <a:prstGeom prst="upArrow">
            <a:avLst>
              <a:gd name="adj1" fmla="val 50000"/>
              <a:gd name="adj2" fmla="val 4987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6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Pentagon 7174"/>
          <p:cNvGrpSpPr/>
          <p:nvPr/>
        </p:nvGrpSpPr>
        <p:grpSpPr>
          <a:xfrm>
            <a:off x="6943680" y="3602160"/>
            <a:ext cx="907920" cy="409320"/>
            <a:chOff x="6943680" y="3602160"/>
            <a:chExt cx="907920" cy="409320"/>
          </a:xfrm>
        </p:grpSpPr>
        <p:pic>
          <p:nvPicPr>
            <p:cNvPr id="348" name="Pentagon 7174" descr=""/>
            <p:cNvPicPr/>
            <p:nvPr/>
          </p:nvPicPr>
          <p:blipFill>
            <a:blip r:embed="rId1"/>
            <a:stretch/>
          </p:blipFill>
          <p:spPr>
            <a:xfrm>
              <a:off x="6943680" y="3602160"/>
              <a:ext cx="90792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997680" y="3630600"/>
              <a:ext cx="72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Pentagon 46"/>
          <p:cNvGrpSpPr/>
          <p:nvPr/>
        </p:nvGrpSpPr>
        <p:grpSpPr>
          <a:xfrm>
            <a:off x="6437160" y="2487600"/>
            <a:ext cx="414360" cy="907920"/>
            <a:chOff x="6437160" y="2487600"/>
            <a:chExt cx="414360" cy="907920"/>
          </a:xfrm>
        </p:grpSpPr>
        <p:pic>
          <p:nvPicPr>
            <p:cNvPr id="351" name="Pentagon 46" descr=""/>
            <p:cNvPicPr/>
            <p:nvPr/>
          </p:nvPicPr>
          <p:blipFill>
            <a:blip r:embed="rId2"/>
            <a:stretch/>
          </p:blipFill>
          <p:spPr>
            <a:xfrm>
              <a:off x="6437160" y="2487600"/>
              <a:ext cx="4143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 rot="16200000">
              <a:off x="6284880" y="2801880"/>
              <a:ext cx="7207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48"/>
          <p:cNvGrpSpPr/>
          <p:nvPr/>
        </p:nvGrpSpPr>
        <p:grpSpPr>
          <a:xfrm>
            <a:off x="735120" y="2305080"/>
            <a:ext cx="3168720" cy="2079720"/>
            <a:chOff x="735120" y="2305080"/>
            <a:chExt cx="3168720" cy="2079720"/>
          </a:xfrm>
        </p:grpSpPr>
        <p:sp>
          <p:nvSpPr>
            <p:cNvPr id="354" name="Rounded Rectangle 51"/>
            <p:cNvSpPr/>
            <p:nvPr/>
          </p:nvSpPr>
          <p:spPr>
            <a:xfrm>
              <a:off x="735120" y="2305080"/>
              <a:ext cx="3168720" cy="2079720"/>
            </a:xfrm>
            <a:prstGeom prst="roundRect">
              <a:avLst>
                <a:gd name="adj" fmla="val 16667"/>
              </a:avLst>
            </a:prstGeom>
            <a:solidFill>
              <a:srgbClr val="b4d13b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52"/>
            <p:cNvGrpSpPr/>
            <p:nvPr/>
          </p:nvGrpSpPr>
          <p:grpSpPr>
            <a:xfrm>
              <a:off x="944640" y="2376000"/>
              <a:ext cx="2759760" cy="1944720"/>
              <a:chOff x="944640" y="2376000"/>
              <a:chExt cx="2759760" cy="1944720"/>
            </a:xfrm>
          </p:grpSpPr>
          <p:grpSp>
            <p:nvGrpSpPr>
              <p:cNvPr id="356" name="Group 53"/>
              <p:cNvGrpSpPr/>
              <p:nvPr/>
            </p:nvGrpSpPr>
            <p:grpSpPr>
              <a:xfrm>
                <a:off x="944640" y="2376000"/>
                <a:ext cx="2733120" cy="577800"/>
                <a:chOff x="944640" y="2376000"/>
                <a:chExt cx="2733120" cy="577800"/>
              </a:xfrm>
            </p:grpSpPr>
            <p:sp>
              <p:nvSpPr>
                <p:cNvPr id="357" name="Rounded Rectangle 62"/>
                <p:cNvSpPr/>
                <p:nvPr/>
              </p:nvSpPr>
              <p:spPr>
                <a:xfrm>
                  <a:off x="944640" y="237600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ounded Rectangle 63"/>
                <p:cNvSpPr/>
                <p:nvPr/>
              </p:nvSpPr>
              <p:spPr>
                <a:xfrm>
                  <a:off x="1906560" y="237600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Rounded Rectangle 64"/>
                <p:cNvSpPr/>
                <p:nvPr/>
              </p:nvSpPr>
              <p:spPr>
                <a:xfrm>
                  <a:off x="2885400" y="237600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968760" y="3056040"/>
                <a:ext cx="2733120" cy="577800"/>
                <a:chOff x="968760" y="3056040"/>
                <a:chExt cx="2733120" cy="577800"/>
              </a:xfrm>
            </p:grpSpPr>
            <p:sp>
              <p:nvSpPr>
                <p:cNvPr id="361" name="Rounded Rectangle 59"/>
                <p:cNvSpPr/>
                <p:nvPr/>
              </p:nvSpPr>
              <p:spPr>
                <a:xfrm>
                  <a:off x="968760" y="305604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Rounded Rectangle 60"/>
                <p:cNvSpPr/>
                <p:nvPr/>
              </p:nvSpPr>
              <p:spPr>
                <a:xfrm>
                  <a:off x="1930680" y="305604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ounded Rectangle 61"/>
                <p:cNvSpPr/>
                <p:nvPr/>
              </p:nvSpPr>
              <p:spPr>
                <a:xfrm>
                  <a:off x="2909520" y="305604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55"/>
              <p:cNvGrpSpPr/>
              <p:nvPr/>
            </p:nvGrpSpPr>
            <p:grpSpPr>
              <a:xfrm>
                <a:off x="971280" y="3742920"/>
                <a:ext cx="2733120" cy="577800"/>
                <a:chOff x="971280" y="3742920"/>
                <a:chExt cx="2733120" cy="577800"/>
              </a:xfrm>
            </p:grpSpPr>
            <p:sp>
              <p:nvSpPr>
                <p:cNvPr id="365" name="Rounded Rectangle 56"/>
                <p:cNvSpPr/>
                <p:nvPr/>
              </p:nvSpPr>
              <p:spPr>
                <a:xfrm>
                  <a:off x="971280" y="374292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Rounded Rectangle 57"/>
                <p:cNvSpPr/>
                <p:nvPr/>
              </p:nvSpPr>
              <p:spPr>
                <a:xfrm>
                  <a:off x="1933200" y="374292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ounded Rectangle 58"/>
                <p:cNvSpPr/>
                <p:nvPr/>
              </p:nvSpPr>
              <p:spPr>
                <a:xfrm>
                  <a:off x="2912040" y="374292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8" name="TextBox 65"/>
          <p:cNvSpPr/>
          <p:nvPr/>
        </p:nvSpPr>
        <p:spPr>
          <a:xfrm>
            <a:off x="246240" y="1585800"/>
            <a:ext cx="22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        +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Up Arrow 66"/>
          <p:cNvSpPr/>
          <p:nvPr/>
        </p:nvSpPr>
        <p:spPr>
          <a:xfrm rot="2367000">
            <a:off x="808200" y="1441440"/>
            <a:ext cx="368280" cy="657360"/>
          </a:xfrm>
          <a:prstGeom prst="upArrow">
            <a:avLst>
              <a:gd name="adj1" fmla="val 50000"/>
              <a:gd name="adj2" fmla="val 50119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383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7"/>
          <p:cNvSpPr/>
          <p:nvPr/>
        </p:nvSpPr>
        <p:spPr>
          <a:xfrm>
            <a:off x="4284720" y="1585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, RU, 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Up Arrow 68"/>
          <p:cNvSpPr/>
          <p:nvPr/>
        </p:nvSpPr>
        <p:spPr>
          <a:xfrm rot="7740600">
            <a:off x="2939400" y="4435200"/>
            <a:ext cx="368280" cy="657000"/>
          </a:xfrm>
          <a:prstGeom prst="upArrow">
            <a:avLst>
              <a:gd name="adj1" fmla="val 50000"/>
              <a:gd name="adj2" fmla="val 5009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6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175"/>
          <p:cNvSpPr/>
          <p:nvPr/>
        </p:nvSpPr>
        <p:spPr>
          <a:xfrm>
            <a:off x="1222200" y="1914480"/>
            <a:ext cx="871560" cy="457200"/>
          </a:xfrm>
          <a:custGeom>
            <a:avLst/>
            <a:gdLst/>
            <a:ahLst/>
            <a:rect l="l" t="t" r="r" b="b"/>
            <a:pathLst>
              <a:path w="871870" h="457200">
                <a:moveTo>
                  <a:pt x="0" y="0"/>
                </a:moveTo>
                <a:cubicBezTo>
                  <a:pt x="278218" y="31012"/>
                  <a:pt x="556437" y="62024"/>
                  <a:pt x="701749" y="138224"/>
                </a:cubicBezTo>
                <a:cubicBezTo>
                  <a:pt x="847061" y="214424"/>
                  <a:pt x="859465" y="335812"/>
                  <a:pt x="871870" y="457200"/>
                </a:cubicBezTo>
              </a:path>
            </a:pathLst>
          </a:custGeom>
          <a:noFill/>
          <a:ln w="38160">
            <a:solidFill>
              <a:srgbClr val="ffdf3b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0"/>
          <p:cNvSpPr/>
          <p:nvPr/>
        </p:nvSpPr>
        <p:spPr>
          <a:xfrm>
            <a:off x="1222200" y="1919160"/>
            <a:ext cx="109800" cy="466920"/>
          </a:xfrm>
          <a:custGeom>
            <a:avLst/>
            <a:gdLst/>
            <a:ahLst/>
            <a:rect l="l" t="t" r="r" b="b"/>
            <a:pathLst>
              <a:path w="871870" h="457200">
                <a:moveTo>
                  <a:pt x="0" y="0"/>
                </a:moveTo>
                <a:cubicBezTo>
                  <a:pt x="278218" y="31012"/>
                  <a:pt x="556437" y="62024"/>
                  <a:pt x="701749" y="138224"/>
                </a:cubicBezTo>
                <a:cubicBezTo>
                  <a:pt x="847061" y="214424"/>
                  <a:pt x="859465" y="335812"/>
                  <a:pt x="871870" y="457200"/>
                </a:cubicBezTo>
              </a:path>
            </a:pathLst>
          </a:custGeom>
          <a:noFill/>
          <a:ln w="38160">
            <a:solidFill>
              <a:srgbClr val="ffdf3b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7176"/>
          <p:cNvSpPr/>
          <p:nvPr/>
        </p:nvSpPr>
        <p:spPr>
          <a:xfrm>
            <a:off x="514440" y="1935000"/>
            <a:ext cx="739800" cy="1351080"/>
          </a:xfrm>
          <a:custGeom>
            <a:avLst/>
            <a:gdLst/>
            <a:ahLst/>
            <a:rect l="l" t="t" r="r" b="b"/>
            <a:pathLst>
              <a:path w="740153" h="1350334">
                <a:moveTo>
                  <a:pt x="740153" y="0"/>
                </a:moveTo>
                <a:cubicBezTo>
                  <a:pt x="398139" y="174551"/>
                  <a:pt x="56125" y="349102"/>
                  <a:pt x="6506" y="574158"/>
                </a:cubicBezTo>
                <a:cubicBezTo>
                  <a:pt x="-43113" y="799214"/>
                  <a:pt x="199664" y="1074774"/>
                  <a:pt x="442441" y="1350334"/>
                </a:cubicBezTo>
              </a:path>
            </a:pathLst>
          </a:custGeom>
          <a:noFill/>
          <a:ln w="38160">
            <a:solidFill>
              <a:srgbClr val="ffdf3b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7177"/>
          <p:cNvSpPr/>
          <p:nvPr/>
        </p:nvSpPr>
        <p:spPr>
          <a:xfrm>
            <a:off x="1150920" y="1844640"/>
            <a:ext cx="252360" cy="252360"/>
          </a:xfrm>
          <a:prstGeom prst="ellipse">
            <a:avLst/>
          </a:prstGeom>
          <a:solidFill>
            <a:srgbClr val="ffd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ontent Placeholder 2"/>
          <p:cNvSpPr/>
          <p:nvPr/>
        </p:nvSpPr>
        <p:spPr>
          <a:xfrm>
            <a:off x="509760" y="5229360"/>
            <a:ext cx="8424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ional approach may induce larger gas movement but may be less realistic with a given supply source moving in opposite direction depending the consider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– Demand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2CA1-605A-4CAC-BFF7-CEC15838616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9280" y="1125360"/>
            <a:ext cx="84250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mand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levels have a direct influence on the assessment resul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define the considered period (a year or a seas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igher demand is more stressful in case of supply minimization (Wint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wer demand is more stressful in case of supply maximization (Low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ole of the U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current TYNDP, the UGS has been kept neutral (no withdrawal or injection) whi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voids to make assumption on their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regards their impact on the maxi/minim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&amp; Market Integration proposed Cas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6976-CC66-41A4-9308-D5523399D5B8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4000" y="1052640"/>
            <a:ext cx="842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ist of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itial proposal accounts for 200 cases (against 67 for TYNDP 2011-2020), list will be updated considering your feed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9280" y="1484280"/>
          <a:ext cx="8856720" cy="3876840"/>
        </p:xfrm>
        <a:graphic>
          <a:graphicData uri="http://schemas.openxmlformats.org/drawingml/2006/table">
            <a:tbl>
              <a:tblPr/>
              <a:tblGrid>
                <a:gridCol w="647640"/>
                <a:gridCol w="1008360"/>
                <a:gridCol w="1152360"/>
                <a:gridCol w="1728720"/>
                <a:gridCol w="1224000"/>
                <a:gridCol w="1656000"/>
                <a:gridCol w="143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ra.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and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ration          Occ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ru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GS deliver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ly source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F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W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% / Ref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% / Ref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L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Object 12"/>
          <p:cNvGraphicFramePr/>
          <p:nvPr/>
        </p:nvGraphicFramePr>
        <p:xfrm>
          <a:off x="6732720" y="602136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6021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3C7B-56BA-469D-B4C4-110A23A1A330}" type="slidenum">
              <a:rPr b="0" lang="fr-B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89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2419560" y="3867120"/>
            <a:ext cx="42984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Olivier Lebois, Adviser, System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NTSOG -- European Network of Transmission System Operators for 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venue de Cortenbergh 100, B-1000 Bruss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ML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livier.Lebois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+ 32 2 894 51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WW: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JWS process on SoS &amp; Market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C770-5935-4ADD-8E0B-4FC66EFDC71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63240" y="2204640"/>
            <a:ext cx="863100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ebruary session – Come-back to TYNDP 2011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stablishment of a shared understanding of current report and associated feed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7a35"/>
                </a:solidFill>
                <a:latin typeface="Calibri"/>
                <a:ea typeface="Arial"/>
              </a:rPr>
              <a:t>March session – ENTSOG initial propos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Proposals focus on selection of relevant cases for SoS &amp; Mkt Int.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Feedback on proposals and first considerations on indicators to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ril session – ENTSOG updated propos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ne-tuned scenarios and first set of indic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y session – Fine-tuning of assess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esentation of an integrated method (cases &amp; indicators) fitting with other SJW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entagon 2"/>
          <p:cNvSpPr/>
          <p:nvPr/>
        </p:nvSpPr>
        <p:spPr>
          <a:xfrm>
            <a:off x="539640" y="1413000"/>
            <a:ext cx="6912000" cy="503280"/>
          </a:xfrm>
          <a:custGeom>
            <a:avLst/>
            <a:gdLst>
              <a:gd name="textAreaLeft" fmla="*/ 0 w 6912000"/>
              <a:gd name="textAreaRight" fmla="*/ 6912360 w 691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13" y="0"/>
                </a:lnTo>
                <a:lnTo>
                  <a:pt x="21600" y="10800"/>
                </a:lnTo>
                <a:lnTo>
                  <a:pt x="2081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4"/>
          <p:cNvSpPr/>
          <p:nvPr/>
        </p:nvSpPr>
        <p:spPr>
          <a:xfrm>
            <a:off x="7596360" y="1052640"/>
            <a:ext cx="1368360" cy="1224000"/>
          </a:xfrm>
          <a:prstGeom prst="roundRect">
            <a:avLst>
              <a:gd name="adj" fmla="val 16667"/>
            </a:avLst>
          </a:pr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une TYNDP 2013-2022 Public 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5"/>
          <p:cNvSpPr/>
          <p:nvPr/>
        </p:nvSpPr>
        <p:spPr>
          <a:xfrm>
            <a:off x="900000" y="1197000"/>
            <a:ext cx="865440" cy="93672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936720"/>
              <a:gd name="textAreaBottom" fmla="*/ 894600 h 936720"/>
            </a:gdLst>
            <a:ahLst/>
            <a:rect l="textAreaLeft" t="textAreaTop" r="textAreaRight" b="textAreaBottom"/>
            <a:pathLst>
              <a:path w="21600" h="23378">
                <a:moveTo>
                  <a:pt x="3600" y="0"/>
                </a:moveTo>
                <a:arcTo wR="3600" hR="3600" stAng="16200000" swAng="-5400000"/>
                <a:lnTo>
                  <a:pt x="0" y="19778"/>
                </a:lnTo>
                <a:arcTo wR="3600" hR="3600" stAng="10800000" swAng="-5400000"/>
                <a:lnTo>
                  <a:pt x="18000" y="23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b. 15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Rounded Rectangle 7"/>
          <p:cNvGrpSpPr/>
          <p:nvPr/>
        </p:nvGrpSpPr>
        <p:grpSpPr>
          <a:xfrm>
            <a:off x="2382840" y="981000"/>
            <a:ext cx="1353960" cy="1427400"/>
            <a:chOff x="2382840" y="981000"/>
            <a:chExt cx="1353960" cy="1427400"/>
          </a:xfrm>
        </p:grpSpPr>
        <p:pic>
          <p:nvPicPr>
            <p:cNvPr id="253" name="Rounded Rectangle 7" descr=""/>
            <p:cNvPicPr/>
            <p:nvPr/>
          </p:nvPicPr>
          <p:blipFill>
            <a:blip r:embed="rId1"/>
            <a:stretch/>
          </p:blipFill>
          <p:spPr>
            <a:xfrm>
              <a:off x="2382840" y="981000"/>
              <a:ext cx="135396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670120" y="1268280"/>
              <a:ext cx="781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a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0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ounded Rectangle 8"/>
          <p:cNvSpPr/>
          <p:nvPr/>
        </p:nvSpPr>
        <p:spPr>
          <a:xfrm>
            <a:off x="4356000" y="1227240"/>
            <a:ext cx="865440" cy="936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936360"/>
              <a:gd name="textAreaBottom" fmla="*/ 894240 h 936360"/>
            </a:gdLst>
            <a:ahLst/>
            <a:rect l="textAreaLeft" t="textAreaTop" r="textAreaRight" b="textAreaBottom"/>
            <a:pathLst>
              <a:path w="21600" h="23369">
                <a:moveTo>
                  <a:pt x="3600" y="0"/>
                </a:moveTo>
                <a:arcTo wR="3600" hR="3600" stAng="16200000" swAng="-5400000"/>
                <a:lnTo>
                  <a:pt x="0" y="19769"/>
                </a:lnTo>
                <a:arcTo wR="3600" hR="3600" stAng="10800000" swAng="-5400000"/>
                <a:lnTo>
                  <a:pt x="18000" y="23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9"/>
          <p:cNvSpPr/>
          <p:nvPr/>
        </p:nvSpPr>
        <p:spPr>
          <a:xfrm>
            <a:off x="6084720" y="1197000"/>
            <a:ext cx="865440" cy="93672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936720"/>
              <a:gd name="textAreaBottom" fmla="*/ 894600 h 936720"/>
            </a:gdLst>
            <a:ahLst/>
            <a:rect l="textAreaLeft" t="textAreaTop" r="textAreaRight" b="textAreaBottom"/>
            <a:pathLst>
              <a:path w="21600" h="23378">
                <a:moveTo>
                  <a:pt x="3600" y="0"/>
                </a:moveTo>
                <a:arcTo wR="3600" hR="3600" stAng="16200000" swAng="-5400000"/>
                <a:lnTo>
                  <a:pt x="0" y="19778"/>
                </a:lnTo>
                <a:arcTo wR="3600" hR="3600" stAng="10800000" swAng="-5400000"/>
                <a:lnTo>
                  <a:pt x="18000" y="23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83E-3354-4F3C-B3D7-0EF232EA054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9640" y="112536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at should be considered when selecting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driver is the identification of potential investment gaps under realistic c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ing tool is no more a limitation but result analysis remains the key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parability with previous TYNDP in order to measure improvement /decline in the European gas system resilie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ist of parameters defining as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scenario: ENTSOG (TSOs), NREAs, Prim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scenario: FID,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Demand case: combination of period (1, 7 &amp; 30 days) and methodology (Design, 1-in-20 &amp; 1-in-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case: consistent with Demand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Potential events: none (Reference Case), technical disruption (NO, AL &amp; LY), transit disruption (UA &amp; BY) and supply disruption (Qatari LNG), low UGS deliver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Demand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8800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5E08-869A-43E5-BD81-F7F4474547D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4000" y="981000"/>
            <a:ext cx="849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ximum transported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 natural case to test the resilience of the European transmission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this case demand is at the highest daily level and supply is assumed to be at its highest 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vel of demand can be defined in 2 way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Case: in every country demand is set at the level defined as the reference for national design according national legislation (highest stre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» Ensure consistence between national and European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-in-20  Case(Diversified or not): demand is set in every country according a given occur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» Ensure consistent risk across bor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ationales of X-day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uration of an event impact in a different way demand level and each supply 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se dissimilarities induce different transmission needs depending on the du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ress on gas infrastructure  is measured on one day (the last one is assumed to be the most stressfu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36600" y="3079800"/>
            <a:ext cx="5316480" cy="33098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X-day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8800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8490-B176-45D7-9B6D-08989235B8E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979200"/>
            <a:ext cx="8425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tion of demand level on a X-day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is assumed to be flat on the per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ily values from historical database used to define demand level are averaged on a X-day moving ba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ay to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ounded Rectangle 2"/>
          <p:cNvSpPr/>
          <p:nvPr/>
        </p:nvSpPr>
        <p:spPr>
          <a:xfrm>
            <a:off x="3166920" y="3497400"/>
            <a:ext cx="505080" cy="28796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2879640"/>
              <a:gd name="textAreaBottom" fmla="*/ 2855160 h 2879640"/>
            </a:gdLst>
            <a:ahLst/>
            <a:rect l="textAreaLeft" t="textAreaTop" r="textAreaRight" b="textAreaBottom"/>
            <a:pathLst>
              <a:path w="21600" h="123077">
                <a:moveTo>
                  <a:pt x="3600" y="0"/>
                </a:moveTo>
                <a:arcTo wR="3600" hR="3600" stAng="16200000" swAng="-5400000"/>
                <a:lnTo>
                  <a:pt x="0" y="119477"/>
                </a:lnTo>
                <a:arcTo wR="3600" hR="3600" stAng="10800000" swAng="-5400000"/>
                <a:lnTo>
                  <a:pt x="18000" y="123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c73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2994120" y="307980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373b"/>
                </a:solidFill>
                <a:latin typeface="Calibri"/>
              </a:rPr>
              <a:t>Model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5867280" y="3497400"/>
            <a:ext cx="316872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eb7a35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/Demand balance on the last day defines the need of 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49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eb7a35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ing check potenti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49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eb7a35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-post calculation defines the minimum UGS level prior th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potenti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1651-149D-4776-8098-D2760FB151B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280" y="1125360"/>
            <a:ext cx="8425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sruption events in current TYNDP, are they up to d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kraine and Belarus: total disruption of either trans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bya: total disruption of import pi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geria: 50% disruption of import pip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rway: total disruption of Langeled pipel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: Qatari disru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lue of a low UGS deliverability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f the understanding of disruptions is quite straight forward, stakeholders’ expectations in term of impact of a low UGS deliverability is less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24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ected out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tential investment 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lexibility of the gas system at Entry/Exit zo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66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Low 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AED4-E2C2-4ECD-9A28-C5A24F7A4B2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5000" y="796680"/>
            <a:ext cx="86043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itial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comparison with Reference Case, UGS deliverability is reduced by 10% then 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ssing gas is caught up by imports still limited by their Potential Suppl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tential 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GS withdrawal rate at European level is defined by putting all imports at their Potential Suppl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se is then modeled either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ame UGS withdrawal rate across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GS withdrawal rate in each system set in order to minimize investment 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6607080" y="4127400"/>
            <a:ext cx="2016360" cy="1297080"/>
            <a:chOff x="6607080" y="4127400"/>
            <a:chExt cx="2016360" cy="1297080"/>
          </a:xfrm>
        </p:grpSpPr>
        <p:sp>
          <p:nvSpPr>
            <p:cNvPr id="277" name="Rounded Rectangle 5"/>
            <p:cNvSpPr/>
            <p:nvPr/>
          </p:nvSpPr>
          <p:spPr>
            <a:xfrm>
              <a:off x="6607080" y="4127400"/>
              <a:ext cx="2016360" cy="1297080"/>
            </a:xfrm>
            <a:prstGeom prst="roundRect">
              <a:avLst>
                <a:gd name="adj" fmla="val 16667"/>
              </a:avLst>
            </a:prstGeom>
            <a:solidFill>
              <a:srgbClr val="b4d13b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9"/>
            <p:cNvGrpSpPr/>
            <p:nvPr/>
          </p:nvGrpSpPr>
          <p:grpSpPr>
            <a:xfrm>
              <a:off x="6740280" y="4171680"/>
              <a:ext cx="1756080" cy="1212840"/>
              <a:chOff x="6740280" y="4171680"/>
              <a:chExt cx="1756080" cy="1212840"/>
            </a:xfrm>
          </p:grpSpPr>
          <p:grpSp>
            <p:nvGrpSpPr>
              <p:cNvPr id="279" name="Group 6"/>
              <p:cNvGrpSpPr/>
              <p:nvPr/>
            </p:nvGrpSpPr>
            <p:grpSpPr>
              <a:xfrm>
                <a:off x="6740280" y="4171680"/>
                <a:ext cx="1739160" cy="360360"/>
                <a:chOff x="6740280" y="4171680"/>
                <a:chExt cx="1739160" cy="360360"/>
              </a:xfrm>
            </p:grpSpPr>
            <p:sp>
              <p:nvSpPr>
                <p:cNvPr id="280" name="Rounded Rectangle 4"/>
                <p:cNvSpPr/>
                <p:nvPr/>
              </p:nvSpPr>
              <p:spPr>
                <a:xfrm>
                  <a:off x="6740280" y="417168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ounded Rectangle 7"/>
                <p:cNvSpPr/>
                <p:nvPr/>
              </p:nvSpPr>
              <p:spPr>
                <a:xfrm>
                  <a:off x="7352280" y="417168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ounded Rectangle 8"/>
                <p:cNvSpPr/>
                <p:nvPr/>
              </p:nvSpPr>
              <p:spPr>
                <a:xfrm>
                  <a:off x="7975440" y="417168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0"/>
              <p:cNvGrpSpPr/>
              <p:nvPr/>
            </p:nvGrpSpPr>
            <p:grpSpPr>
              <a:xfrm>
                <a:off x="6755760" y="4595760"/>
                <a:ext cx="1739160" cy="360360"/>
                <a:chOff x="6755760" y="4595760"/>
                <a:chExt cx="1739160" cy="360360"/>
              </a:xfrm>
            </p:grpSpPr>
            <p:sp>
              <p:nvSpPr>
                <p:cNvPr id="284" name="Rounded Rectangle 11"/>
                <p:cNvSpPr/>
                <p:nvPr/>
              </p:nvSpPr>
              <p:spPr>
                <a:xfrm>
                  <a:off x="6755760" y="45957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ounded Rectangle 12"/>
                <p:cNvSpPr/>
                <p:nvPr/>
              </p:nvSpPr>
              <p:spPr>
                <a:xfrm>
                  <a:off x="7367760" y="45957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ounded Rectangle 13"/>
                <p:cNvSpPr/>
                <p:nvPr/>
              </p:nvSpPr>
              <p:spPr>
                <a:xfrm>
                  <a:off x="7990920" y="45957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14"/>
              <p:cNvGrpSpPr/>
              <p:nvPr/>
            </p:nvGrpSpPr>
            <p:grpSpPr>
              <a:xfrm>
                <a:off x="6757200" y="5024160"/>
                <a:ext cx="1739160" cy="360360"/>
                <a:chOff x="6757200" y="5024160"/>
                <a:chExt cx="1739160" cy="360360"/>
              </a:xfrm>
            </p:grpSpPr>
            <p:sp>
              <p:nvSpPr>
                <p:cNvPr id="288" name="Rounded Rectangle 15"/>
                <p:cNvSpPr/>
                <p:nvPr/>
              </p:nvSpPr>
              <p:spPr>
                <a:xfrm>
                  <a:off x="6757200" y="50241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ounded Rectangle 16"/>
                <p:cNvSpPr/>
                <p:nvPr/>
              </p:nvSpPr>
              <p:spPr>
                <a:xfrm>
                  <a:off x="7369200" y="50241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ounded Rectangle 17"/>
                <p:cNvSpPr/>
                <p:nvPr/>
              </p:nvSpPr>
              <p:spPr>
                <a:xfrm>
                  <a:off x="7992360" y="50241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91" name="TextBox 19" descr=""/>
          <p:cNvPicPr/>
          <p:nvPr/>
        </p:nvPicPr>
        <p:blipFill>
          <a:blip r:embed="rId1"/>
          <a:stretch/>
        </p:blipFill>
        <p:spPr>
          <a:xfrm>
            <a:off x="-285840" y="4260960"/>
            <a:ext cx="6021360" cy="103644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21"/>
          <p:cNvGrpSpPr/>
          <p:nvPr/>
        </p:nvGrpSpPr>
        <p:grpSpPr>
          <a:xfrm>
            <a:off x="6618240" y="5506920"/>
            <a:ext cx="2016000" cy="1295640"/>
            <a:chOff x="6618240" y="5506920"/>
            <a:chExt cx="2016000" cy="1295640"/>
          </a:xfrm>
        </p:grpSpPr>
        <p:sp>
          <p:nvSpPr>
            <p:cNvPr id="293" name="Rounded Rectangle 22"/>
            <p:cNvSpPr/>
            <p:nvPr/>
          </p:nvSpPr>
          <p:spPr>
            <a:xfrm>
              <a:off x="6618240" y="5506920"/>
              <a:ext cx="2016000" cy="1295640"/>
            </a:xfrm>
            <a:prstGeom prst="roundRect">
              <a:avLst>
                <a:gd name="adj" fmla="val 16667"/>
              </a:avLst>
            </a:prstGeom>
            <a:solidFill>
              <a:srgbClr val="b4d13b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6751440" y="5551200"/>
              <a:ext cx="1755720" cy="1211400"/>
              <a:chOff x="6751440" y="5551200"/>
              <a:chExt cx="1755720" cy="1211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6751440" y="5551200"/>
                <a:ext cx="1738800" cy="360000"/>
                <a:chOff x="6751440" y="5551200"/>
                <a:chExt cx="1738800" cy="360000"/>
              </a:xfrm>
            </p:grpSpPr>
            <p:sp>
              <p:nvSpPr>
                <p:cNvPr id="296" name="Rounded Rectangle 33"/>
                <p:cNvSpPr/>
                <p:nvPr/>
              </p:nvSpPr>
              <p:spPr>
                <a:xfrm>
                  <a:off x="6751440" y="55512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8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ounded Rectangle 34"/>
                <p:cNvSpPr/>
                <p:nvPr/>
              </p:nvSpPr>
              <p:spPr>
                <a:xfrm>
                  <a:off x="7363440" y="55512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Rounded Rectangle 35"/>
                <p:cNvSpPr/>
                <p:nvPr/>
              </p:nvSpPr>
              <p:spPr>
                <a:xfrm>
                  <a:off x="7986240" y="55512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5"/>
              <p:cNvGrpSpPr/>
              <p:nvPr/>
            </p:nvGrpSpPr>
            <p:grpSpPr>
              <a:xfrm>
                <a:off x="6766920" y="5974920"/>
                <a:ext cx="1738800" cy="360000"/>
                <a:chOff x="6766920" y="5974920"/>
                <a:chExt cx="1738800" cy="360000"/>
              </a:xfrm>
            </p:grpSpPr>
            <p:sp>
              <p:nvSpPr>
                <p:cNvPr id="300" name="Rounded Rectangle 30"/>
                <p:cNvSpPr/>
                <p:nvPr/>
              </p:nvSpPr>
              <p:spPr>
                <a:xfrm>
                  <a:off x="6766920" y="597492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ounded Rectangle 31"/>
                <p:cNvSpPr/>
                <p:nvPr/>
              </p:nvSpPr>
              <p:spPr>
                <a:xfrm>
                  <a:off x="7378920" y="597492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9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ounded Rectangle 32"/>
                <p:cNvSpPr/>
                <p:nvPr/>
              </p:nvSpPr>
              <p:spPr>
                <a:xfrm>
                  <a:off x="8001720" y="597492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8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26"/>
              <p:cNvGrpSpPr/>
              <p:nvPr/>
            </p:nvGrpSpPr>
            <p:grpSpPr>
              <a:xfrm>
                <a:off x="6768360" y="6402600"/>
                <a:ext cx="1738800" cy="360000"/>
                <a:chOff x="6768360" y="6402600"/>
                <a:chExt cx="1738800" cy="360000"/>
              </a:xfrm>
            </p:grpSpPr>
            <p:sp>
              <p:nvSpPr>
                <p:cNvPr id="304" name="Rounded Rectangle 27"/>
                <p:cNvSpPr/>
                <p:nvPr/>
              </p:nvSpPr>
              <p:spPr>
                <a:xfrm>
                  <a:off x="6768360" y="64026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8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ounded Rectangle 28"/>
                <p:cNvSpPr/>
                <p:nvPr/>
              </p:nvSpPr>
              <p:spPr>
                <a:xfrm>
                  <a:off x="7380360" y="64026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ounded Rectangle 29"/>
                <p:cNvSpPr/>
                <p:nvPr/>
              </p:nvSpPr>
              <p:spPr>
                <a:xfrm>
                  <a:off x="8003160" y="64026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6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07" name="TextBox 7167" descr=""/>
          <p:cNvPicPr/>
          <p:nvPr/>
        </p:nvPicPr>
        <p:blipFill>
          <a:blip r:embed="rId2"/>
          <a:stretch/>
        </p:blipFill>
        <p:spPr>
          <a:xfrm>
            <a:off x="66600" y="5541840"/>
            <a:ext cx="5254560" cy="1114560"/>
          </a:xfrm>
          <a:prstGeom prst="rect">
            <a:avLst/>
          </a:prstGeom>
          <a:ln w="0">
            <a:noFill/>
          </a:ln>
        </p:spPr>
      </p:pic>
      <p:sp>
        <p:nvSpPr>
          <p:cNvPr id="308" name="Right Brace 7168"/>
          <p:cNvSpPr/>
          <p:nvPr/>
        </p:nvSpPr>
        <p:spPr>
          <a:xfrm>
            <a:off x="5479920" y="4194000"/>
            <a:ext cx="389160" cy="2389320"/>
          </a:xfrm>
          <a:custGeom>
            <a:avLst/>
            <a:gdLst>
              <a:gd name="textAreaLeft" fmla="*/ 0 w 389160"/>
              <a:gd name="textAreaRight" fmla="*/ 140400 w 389160"/>
              <a:gd name="textAreaTop" fmla="*/ 46440 h 2389320"/>
              <a:gd name="textAreaBottom" fmla="*/ 2342880 h 238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6"/>
                  <a:pt x="10800" y="1351"/>
                </a:cubicBezTo>
                <a:lnTo>
                  <a:pt x="10800" y="9566"/>
                </a:lnTo>
                <a:cubicBezTo>
                  <a:pt x="10800" y="10242"/>
                  <a:pt x="16200" y="10917"/>
                  <a:pt x="21600" y="10917"/>
                </a:cubicBezTo>
                <a:cubicBezTo>
                  <a:pt x="16200" y="10917"/>
                  <a:pt x="10800" y="11593"/>
                  <a:pt x="10800" y="12268"/>
                </a:cubicBezTo>
                <a:lnTo>
                  <a:pt x="10800" y="20249"/>
                </a:lnTo>
                <a:cubicBezTo>
                  <a:pt x="10800" y="2092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169"/>
          <p:cNvSpPr/>
          <p:nvPr/>
        </p:nvSpPr>
        <p:spPr>
          <a:xfrm>
            <a:off x="6145200" y="529596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Event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293-EC5B-4BEF-B123-DCDD71727F8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9280" y="1125360"/>
            <a:ext cx="8425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of disruption or low UGS deliverability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priority 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5600" indent="-325800">
              <a:spcBef>
                <a:spcPts val="451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rupted supply through alternative ro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5600" indent="-325800">
              <a:spcBef>
                <a:spcPts val="451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ternative imports (including LNG until maximum potential supp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5600" indent="-325800">
              <a:spcBef>
                <a:spcPts val="451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 (using remaining capacity up to 80% send-out load factor) and U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5600" indent="-325800">
              <a:spcBef>
                <a:spcPts val="451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ru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rder does not influence the identification of gaps but provide transparency on the method and influence the resulting supply 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ad factor of import ro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l will be able to use different load factor for routes between a given supply source and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evertheless a minimum load factor (derived from historical data) will be defined for every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BFAC-9C62-4A1E-AB49-5D4A5EB0120D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39640" y="112536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at should be considered when selecting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driver is the identification of potential limitation in the supply spread (not gap as potential benefit should be assessed against cost by the market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which way infrastructures can support market integration (but not ensure it as it primarily depend on their u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ing tool is no more a limitation but result analysis remains the key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parability with previous TYNDP in order to measure improvement /decline in the European gas system resilie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ist of parameters defining as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scenario: ENTSOG (TSOs), NREAs, Prim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scenario: FID,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Demand case: average yearly day or seasonal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case: consistent with Demand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Potential events: maximization/minimization of a set of supply 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>Initial proposals built by NeMo KG based on feedback received during SJWSs</dc:description>
  <cp:keywords>TYNDP SOS Market Integration</cp:keywords>
  <dc:language>en-US</dc:language>
  <cp:lastModifiedBy>olivier.lebois</cp:lastModifiedBy>
  <cp:lastPrinted>2011-01-20T11:35:48Z</cp:lastPrinted>
  <dcterms:modified xsi:type="dcterms:W3CDTF">2012-03-16T14:08:54Z</dcterms:modified>
  <cp:revision>826</cp:revision>
  <dc:subject/>
  <dc:title>Draft initial proposal for SoS and Market Integration assess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454750B1B940428917959955031DCB010300BB7710452A044043A8516CD4B1CC2D43</vt:lpwstr>
  </property>
  <property fmtid="{D5CDD505-2E9C-101B-9397-08002B2CF9AE}" pid="3" name="DocumentOrigin">
    <vt:lpwstr>18</vt:lpwstr>
  </property>
  <property fmtid="{D5CDD505-2E9C-101B-9397-08002B2CF9AE}" pid="4" name="DocumentType">
    <vt:lpwstr>11</vt:lpwstr>
  </property>
  <property fmtid="{D5CDD505-2E9C-101B-9397-08002B2CF9AE}" pid="5" name="EntsogDocumentCategory">
    <vt:lpwstr>1</vt:lpwstr>
  </property>
  <property fmtid="{D5CDD505-2E9C-101B-9397-08002B2CF9AE}" pid="6" name="EntsogDocumentCode">
    <vt:lpwstr/>
  </property>
  <property fmtid="{D5CDD505-2E9C-101B-9397-08002B2CF9AE}" pid="7" name="EntsogDocumentStatus">
    <vt:lpwstr>6</vt:lpwstr>
  </property>
  <property fmtid="{D5CDD505-2E9C-101B-9397-08002B2CF9AE}" pid="8" name="PlannedDateApproval BOA">
    <vt:lpwstr/>
  </property>
  <property fmtid="{D5CDD505-2E9C-101B-9397-08002B2CF9AE}" pid="9" name="PlannedDateApproval GAS">
    <vt:lpwstr/>
  </property>
  <property fmtid="{D5CDD505-2E9C-101B-9397-08002B2CF9AE}" pid="10" name="WorkstreamCode">
    <vt:lpwstr>10</vt:lpwstr>
  </property>
  <property fmtid="{D5CDD505-2E9C-101B-9397-08002B2CF9AE}" pid="11" name="_DCDateCreated">
    <vt:lpwstr>2012-03-08T17:21:00Z</vt:lpwstr>
  </property>
  <property fmtid="{D5CDD505-2E9C-101B-9397-08002B2CF9AE}" pid="12" name="_DCDateModified">
    <vt:lpwstr>2012-03-08T17:21:00Z</vt:lpwstr>
  </property>
</Properties>
</file>