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415B-808C-4579-84A1-6A57B4424B63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AC99-5C0A-4E33-9544-AF5BD4C9409C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8247-276A-4A12-A49C-D3A783DBE83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328A-BAF5-4187-87BE-22C107C6866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791B-4333-4610-9C1C-5E6F5F00A5DF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CB8D-5B6B-4BEE-A88A-D0880A2A3675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4EE7-6FE2-42D9-842F-F582141FC7B4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59CE-507E-4CB9-807A-CE07BC64375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0186-14CC-4359-A549-4FB60B867E30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4C6F-3261-4B84-984C-7F27F91D29C8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5223-95C0-42DC-AFFB-85258510A97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DFA0-3524-4F08-9403-53EE6F773A6B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D4AE-255D-4DEF-AD1D-04FF7F91221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1B96-47BF-4728-A0B4-0B644CC1B428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F6DF-F091-4038-8481-E31BFBF78A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3E05-8B49-42F5-A550-A8975C3646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139A-342C-41A1-BEA9-2311AA6F1B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97CB-DEA6-400A-9607-51786F6423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E2AA-979A-4FA1-99FA-B7AD2A566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5A74-4FC9-40B7-AF5F-587B77FAC7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4F70-523F-430E-B977-B0B1403EBE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8B81-6A81-41B3-A969-13A53F4858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11A1-BB6E-49FE-9585-A5ADC479F8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1996-51AA-4D66-B307-673144B894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49B7-48CC-4AA1-8C2E-92574D4EF7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13C5-89CD-4EF8-99F2-426285B485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869DA-046F-43FD-824D-24237CB92C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B5B85-36D0-4EB1-865F-DFBAB6660D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3A24-FB59-4CE6-813A-CFAEB7D07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DDCD-E046-4EB0-A940-14B6D87A58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5F64-A794-4CE0-B0CE-DCB9DE17C8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AFE6-B7D7-4193-978D-A7D4E683CB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6512-8E29-46E1-BF87-3AB672F51F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753D4-5846-4507-B933-0E2545CB07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3993-6C5B-4B02-980B-A8E28538E2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3819-3184-48A0-81B8-046858B38C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4DCC-5C55-49F0-8730-72E7DFA32B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9EBC-FDEB-4271-B232-6C815DD02F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148-9DF9-41B9-9260-05CD481FF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A3B-0CD2-48F8-BAE2-DDF1980B516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3A3-B94C-4570-8BEC-C0E876AE8E2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D77-07E9-400A-9E0C-6D9D90BD1ED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BC4-A9AB-40B5-B8B8-9E23E018D44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A62-B4DF-4DA7-8FF6-AA727742E7E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C54-7E14-4A35-8BFA-E54DB0D05D5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B2D-F65B-4884-9763-37018AE294F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01D-F973-446C-9D46-32943B394D3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42E-FBD2-476A-991A-5CF7CBA9527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96C-A1D2-444C-A4BC-19026FAAB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AEA-BB6F-4F7C-8865-93819FB92D4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Fond.jpg"/>
          <p:cNvPicPr/>
          <p:nvPr/>
        </p:nvPicPr>
        <p:blipFill>
          <a:blip r:embed="rId2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ENTSOG_LOGO_001.png"/>
          <p:cNvPicPr/>
          <p:nvPr/>
        </p:nvPicPr>
        <p:blipFill>
          <a:blip r:embed="rId3"/>
          <a:stretch/>
        </p:blipFill>
        <p:spPr>
          <a:xfrm>
            <a:off x="3855960" y="6149880"/>
            <a:ext cx="1000080" cy="571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071960" y="6559560"/>
            <a:ext cx="8571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03AC-1E42-44FB-A64F-6F20B4E5AE2B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3929040" y="6091200"/>
            <a:ext cx="1000080" cy="758880"/>
            <a:chOff x="3929040" y="6091200"/>
            <a:chExt cx="1000080" cy="758880"/>
          </a:xfrm>
        </p:grpSpPr>
        <p:pic>
          <p:nvPicPr>
            <p:cNvPr id="115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3929040" y="6091200"/>
              <a:ext cx="1000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4"/>
            <p:cNvSpPr/>
            <p:nvPr/>
          </p:nvSpPr>
          <p:spPr>
            <a:xfrm>
              <a:off x="4149720" y="6480000"/>
              <a:ext cx="77940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470F-8508-4A80-A99E-FC8A76643ECC}" type="slidenum">
              <a:rPr b="0" lang="fr-BE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0"/>
          <p:cNvGrpSpPr/>
          <p:nvPr/>
        </p:nvGrpSpPr>
        <p:grpSpPr>
          <a:xfrm>
            <a:off x="4000680" y="6170760"/>
            <a:ext cx="1087200" cy="571320"/>
            <a:chOff x="4000680" y="6170760"/>
            <a:chExt cx="1087200" cy="571320"/>
          </a:xfrm>
        </p:grpSpPr>
        <p:pic>
          <p:nvPicPr>
            <p:cNvPr id="156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000680" y="6170760"/>
              <a:ext cx="10000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4"/>
            <p:cNvSpPr/>
            <p:nvPr/>
          </p:nvSpPr>
          <p:spPr>
            <a:xfrm>
              <a:off x="4230720" y="6575400"/>
              <a:ext cx="85716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D0C6-5BC9-4534-B726-CA665ABBA543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4143240" y="6170760"/>
            <a:ext cx="1071720" cy="571320"/>
            <a:chOff x="4143240" y="6170760"/>
            <a:chExt cx="1071720" cy="571320"/>
          </a:xfrm>
        </p:grpSpPr>
        <p:pic>
          <p:nvPicPr>
            <p:cNvPr id="199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143240" y="6170760"/>
              <a:ext cx="1000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4"/>
            <p:cNvSpPr/>
            <p:nvPr/>
          </p:nvSpPr>
          <p:spPr>
            <a:xfrm>
              <a:off x="4357440" y="6575400"/>
              <a:ext cx="85752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Olivier.Lebois@entsog.eu" TargetMode="External"/><Relationship Id="rId2" Type="http://schemas.openxmlformats.org/officeDocument/2006/relationships/hyperlink" Target="http://www.entsog.eu/" TargetMode="External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0840" y="2781360"/>
            <a:ext cx="82785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f82"/>
                </a:solidFill>
                <a:latin typeface="Calibri"/>
              </a:rPr>
              <a:t>Market Integration &amp; So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itial proposals for SJWS #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ous-titre 2"/>
          <p:cNvSpPr/>
          <p:nvPr/>
        </p:nvSpPr>
        <p:spPr>
          <a:xfrm>
            <a:off x="1360440" y="558972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66666"/>
                </a:solidFill>
                <a:latin typeface="Calibri"/>
              </a:rPr>
              <a:t>ENTSOG offices – Bru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66666"/>
                </a:solidFill>
                <a:latin typeface="Calibri"/>
              </a:rPr>
              <a:t>Stakeholder Joint Working Session – 20 March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– Mini/Maxim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6194-D3EA-4E3D-913C-71D4D844D22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9280" y="907920"/>
            <a:ext cx="8425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pply mini/maxim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maximization helps to measure the potential physical reach of a supply source (same as current TYND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minimization helps to measure the required minimum of a given source of gas in order to balance Europe (same as Winter Supply Outlook 2011/12 and providing some Security of Supply ind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evel of st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ults (limitations, maximum reach and minimum supply) will highly depend on the level of stress defined by the following paramet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4360" y="4221000"/>
          <a:ext cx="7848360" cy="2291040"/>
        </p:xfrm>
        <a:graphic>
          <a:graphicData uri="http://schemas.openxmlformats.org/drawingml/2006/table">
            <a:tbl>
              <a:tblPr/>
              <a:tblGrid>
                <a:gridCol w="1439640"/>
                <a:gridCol w="2135160"/>
                <a:gridCol w="2136960"/>
                <a:gridCol w="213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bination of sup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per supply li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er supply li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-by-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 from historical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imum potential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d by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– Combination of su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AF68-D3A0-437D-A6D8-87AE26E669F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56800" y="1025640"/>
            <a:ext cx="7905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ne-by-on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previous TYNDP)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er region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7172"/>
          <p:cNvGrpSpPr/>
          <p:nvPr/>
        </p:nvGrpSpPr>
        <p:grpSpPr>
          <a:xfrm>
            <a:off x="5222880" y="2212920"/>
            <a:ext cx="3168720" cy="2104920"/>
            <a:chOff x="5222880" y="2212920"/>
            <a:chExt cx="3168720" cy="2104920"/>
          </a:xfrm>
        </p:grpSpPr>
        <p:grpSp>
          <p:nvGrpSpPr>
            <p:cNvPr id="324" name="Group 19"/>
            <p:cNvGrpSpPr/>
            <p:nvPr/>
          </p:nvGrpSpPr>
          <p:grpSpPr>
            <a:xfrm>
              <a:off x="5222880" y="2238480"/>
              <a:ext cx="3168720" cy="2079360"/>
              <a:chOff x="5222880" y="2238480"/>
              <a:chExt cx="3168720" cy="2079360"/>
            </a:xfrm>
          </p:grpSpPr>
          <p:sp>
            <p:nvSpPr>
              <p:cNvPr id="325" name="Rounded Rectangle 20"/>
              <p:cNvSpPr/>
              <p:nvPr/>
            </p:nvSpPr>
            <p:spPr>
              <a:xfrm>
                <a:off x="5222880" y="2238480"/>
                <a:ext cx="3168720" cy="2079360"/>
              </a:xfrm>
              <a:prstGeom prst="roundRect">
                <a:avLst>
                  <a:gd name="adj" fmla="val 16667"/>
                </a:avLst>
              </a:prstGeom>
              <a:solidFill>
                <a:srgbClr val="b4d13b"/>
              </a:solidFill>
              <a:ln w="25560">
                <a:solidFill>
                  <a:srgbClr val="4f6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Group 21"/>
              <p:cNvGrpSpPr/>
              <p:nvPr/>
            </p:nvGrpSpPr>
            <p:grpSpPr>
              <a:xfrm>
                <a:off x="5432400" y="2309400"/>
                <a:ext cx="2759760" cy="1944360"/>
                <a:chOff x="5432400" y="2309400"/>
                <a:chExt cx="2759760" cy="1944360"/>
              </a:xfrm>
            </p:grpSpPr>
            <p:grpSp>
              <p:nvGrpSpPr>
                <p:cNvPr id="327" name="Group 22"/>
                <p:cNvGrpSpPr/>
                <p:nvPr/>
              </p:nvGrpSpPr>
              <p:grpSpPr>
                <a:xfrm>
                  <a:off x="5432400" y="2309400"/>
                  <a:ext cx="2733120" cy="577440"/>
                  <a:chOff x="5432400" y="2309400"/>
                  <a:chExt cx="2733120" cy="577440"/>
                </a:xfrm>
              </p:grpSpPr>
              <p:sp>
                <p:nvSpPr>
                  <p:cNvPr id="328" name="Rounded Rectangle 31"/>
                  <p:cNvSpPr/>
                  <p:nvPr/>
                </p:nvSpPr>
                <p:spPr>
                  <a:xfrm>
                    <a:off x="5432400" y="230940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Rounded Rectangle 32"/>
                  <p:cNvSpPr/>
                  <p:nvPr/>
                </p:nvSpPr>
                <p:spPr>
                  <a:xfrm>
                    <a:off x="6394320" y="230940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Rounded Rectangle 33"/>
                  <p:cNvSpPr/>
                  <p:nvPr/>
                </p:nvSpPr>
                <p:spPr>
                  <a:xfrm>
                    <a:off x="7373160" y="230940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Group 23"/>
                <p:cNvGrpSpPr/>
                <p:nvPr/>
              </p:nvGrpSpPr>
              <p:grpSpPr>
                <a:xfrm>
                  <a:off x="5456520" y="2989440"/>
                  <a:ext cx="2733120" cy="577440"/>
                  <a:chOff x="5456520" y="2989440"/>
                  <a:chExt cx="2733120" cy="577440"/>
                </a:xfrm>
              </p:grpSpPr>
              <p:sp>
                <p:nvSpPr>
                  <p:cNvPr id="332" name="Rounded Rectangle 28"/>
                  <p:cNvSpPr/>
                  <p:nvPr/>
                </p:nvSpPr>
                <p:spPr>
                  <a:xfrm>
                    <a:off x="5456520" y="298944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Rounded Rectangle 29"/>
                  <p:cNvSpPr/>
                  <p:nvPr/>
                </p:nvSpPr>
                <p:spPr>
                  <a:xfrm>
                    <a:off x="6418440" y="298944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Rounded Rectangle 30"/>
                  <p:cNvSpPr/>
                  <p:nvPr/>
                </p:nvSpPr>
                <p:spPr>
                  <a:xfrm>
                    <a:off x="7397280" y="298944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Group 24"/>
                <p:cNvGrpSpPr/>
                <p:nvPr/>
              </p:nvGrpSpPr>
              <p:grpSpPr>
                <a:xfrm>
                  <a:off x="5459040" y="3676320"/>
                  <a:ext cx="2733120" cy="577440"/>
                  <a:chOff x="5459040" y="3676320"/>
                  <a:chExt cx="2733120" cy="577440"/>
                </a:xfrm>
              </p:grpSpPr>
              <p:sp>
                <p:nvSpPr>
                  <p:cNvPr id="336" name="Rounded Rectangle 25"/>
                  <p:cNvSpPr/>
                  <p:nvPr/>
                </p:nvSpPr>
                <p:spPr>
                  <a:xfrm>
                    <a:off x="5459040" y="367632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Rounded Rectangle 26"/>
                  <p:cNvSpPr/>
                  <p:nvPr/>
                </p:nvSpPr>
                <p:spPr>
                  <a:xfrm>
                    <a:off x="6420960" y="367632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Rounded Rectangle 27"/>
                  <p:cNvSpPr/>
                  <p:nvPr/>
                </p:nvSpPr>
                <p:spPr>
                  <a:xfrm>
                    <a:off x="7399800" y="3676320"/>
                    <a:ext cx="792360" cy="5774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25560">
                    <a:solidFill>
                      <a:srgbClr val="f79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9" name="Freeform 2"/>
            <p:cNvSpPr/>
            <p:nvPr/>
          </p:nvSpPr>
          <p:spPr>
            <a:xfrm>
              <a:off x="7257600" y="2212920"/>
              <a:ext cx="42480" cy="2083680"/>
            </a:xfrm>
            <a:custGeom>
              <a:avLst/>
              <a:gdLst/>
              <a:ahLst/>
              <a:rect l="l" t="t" r="r" b="b"/>
              <a:pathLst>
                <a:path w="42530" h="2083981">
                  <a:moveTo>
                    <a:pt x="0" y="0"/>
                  </a:moveTo>
                  <a:lnTo>
                    <a:pt x="42530" y="2083981"/>
                  </a:lnTo>
                </a:path>
              </a:pathLst>
            </a:custGeom>
            <a:noFill/>
            <a:ln w="38160">
              <a:solidFill>
                <a:srgbClr val="4bacc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7168"/>
            <p:cNvSpPr/>
            <p:nvPr/>
          </p:nvSpPr>
          <p:spPr>
            <a:xfrm>
              <a:off x="5226120" y="2914560"/>
              <a:ext cx="2041560" cy="715680"/>
            </a:xfrm>
            <a:custGeom>
              <a:avLst/>
              <a:gdLst/>
              <a:ahLst/>
              <a:rect l="l" t="t" r="r" b="b"/>
              <a:pathLst>
                <a:path w="2041451" h="715856">
                  <a:moveTo>
                    <a:pt x="2041451" y="0"/>
                  </a:moveTo>
                  <a:lnTo>
                    <a:pt x="1541721" y="21265"/>
                  </a:lnTo>
                  <a:cubicBezTo>
                    <a:pt x="1399954" y="24809"/>
                    <a:pt x="1265275" y="3544"/>
                    <a:pt x="1190847" y="21265"/>
                  </a:cubicBezTo>
                  <a:cubicBezTo>
                    <a:pt x="1116419" y="38986"/>
                    <a:pt x="1111103" y="23037"/>
                    <a:pt x="1095154" y="127590"/>
                  </a:cubicBezTo>
                  <a:cubicBezTo>
                    <a:pt x="1079205" y="232144"/>
                    <a:pt x="1107559" y="551121"/>
                    <a:pt x="1095154" y="648586"/>
                  </a:cubicBezTo>
                  <a:cubicBezTo>
                    <a:pt x="1082749" y="746051"/>
                    <a:pt x="1203252" y="703520"/>
                    <a:pt x="1020726" y="712381"/>
                  </a:cubicBezTo>
                  <a:cubicBezTo>
                    <a:pt x="838200" y="721242"/>
                    <a:pt x="419100" y="711495"/>
                    <a:pt x="0" y="701749"/>
                  </a:cubicBezTo>
                </a:path>
              </a:pathLst>
            </a:custGeom>
            <a:noFill/>
            <a:ln w="38160">
              <a:solidFill>
                <a:srgbClr val="4bacc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TextBox 7169"/>
          <p:cNvSpPr/>
          <p:nvPr/>
        </p:nvSpPr>
        <p:spPr>
          <a:xfrm>
            <a:off x="5097600" y="439416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, LY &amp; L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Up Arrow 7170"/>
          <p:cNvSpPr/>
          <p:nvPr/>
        </p:nvSpPr>
        <p:spPr>
          <a:xfrm rot="2367000">
            <a:off x="6633720" y="4334040"/>
            <a:ext cx="368280" cy="657000"/>
          </a:xfrm>
          <a:prstGeom prst="upArrow">
            <a:avLst>
              <a:gd name="adj1" fmla="val 50000"/>
              <a:gd name="adj2" fmla="val 50091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383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9"/>
          <p:cNvSpPr/>
          <p:nvPr/>
        </p:nvSpPr>
        <p:spPr>
          <a:xfrm>
            <a:off x="522360" y="4559400"/>
            <a:ext cx="35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U, AL, LY, CA, LNG           -3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Up Arrow 40"/>
          <p:cNvSpPr/>
          <p:nvPr/>
        </p:nvSpPr>
        <p:spPr>
          <a:xfrm rot="7740600">
            <a:off x="4788000" y="1791360"/>
            <a:ext cx="370080" cy="657000"/>
          </a:xfrm>
          <a:prstGeom prst="upArrow">
            <a:avLst>
              <a:gd name="adj1" fmla="val 50000"/>
              <a:gd name="adj2" fmla="val 49848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846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1"/>
          <p:cNvSpPr/>
          <p:nvPr/>
        </p:nvSpPr>
        <p:spPr>
          <a:xfrm>
            <a:off x="7269120" y="155088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U, LNG &amp;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Up Arrow 43"/>
          <p:cNvSpPr/>
          <p:nvPr/>
        </p:nvSpPr>
        <p:spPr>
          <a:xfrm rot="7740600">
            <a:off x="8206560" y="1791000"/>
            <a:ext cx="370080" cy="657360"/>
          </a:xfrm>
          <a:prstGeom prst="upArrow">
            <a:avLst>
              <a:gd name="adj1" fmla="val 50000"/>
              <a:gd name="adj2" fmla="val 4987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846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Pentagon 7174"/>
          <p:cNvGrpSpPr/>
          <p:nvPr/>
        </p:nvGrpSpPr>
        <p:grpSpPr>
          <a:xfrm>
            <a:off x="6943680" y="3602160"/>
            <a:ext cx="907920" cy="409320"/>
            <a:chOff x="6943680" y="3602160"/>
            <a:chExt cx="907920" cy="409320"/>
          </a:xfrm>
        </p:grpSpPr>
        <p:pic>
          <p:nvPicPr>
            <p:cNvPr id="348" name="Pentagon 7174" descr=""/>
            <p:cNvPicPr/>
            <p:nvPr/>
          </p:nvPicPr>
          <p:blipFill>
            <a:blip r:embed="rId1"/>
            <a:stretch/>
          </p:blipFill>
          <p:spPr>
            <a:xfrm>
              <a:off x="6943680" y="3602160"/>
              <a:ext cx="90792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997680" y="3630600"/>
              <a:ext cx="720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Pentagon 46"/>
          <p:cNvGrpSpPr/>
          <p:nvPr/>
        </p:nvGrpSpPr>
        <p:grpSpPr>
          <a:xfrm>
            <a:off x="6437160" y="2487600"/>
            <a:ext cx="414360" cy="907920"/>
            <a:chOff x="6437160" y="2487600"/>
            <a:chExt cx="414360" cy="907920"/>
          </a:xfrm>
        </p:grpSpPr>
        <p:pic>
          <p:nvPicPr>
            <p:cNvPr id="351" name="Pentagon 46" descr=""/>
            <p:cNvPicPr/>
            <p:nvPr/>
          </p:nvPicPr>
          <p:blipFill>
            <a:blip r:embed="rId2"/>
            <a:stretch/>
          </p:blipFill>
          <p:spPr>
            <a:xfrm>
              <a:off x="6437160" y="2487600"/>
              <a:ext cx="4143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 rot="16200000">
              <a:off x="6284880" y="2801880"/>
              <a:ext cx="7207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48"/>
          <p:cNvGrpSpPr/>
          <p:nvPr/>
        </p:nvGrpSpPr>
        <p:grpSpPr>
          <a:xfrm>
            <a:off x="735120" y="2305080"/>
            <a:ext cx="3168720" cy="2079720"/>
            <a:chOff x="735120" y="2305080"/>
            <a:chExt cx="3168720" cy="2079720"/>
          </a:xfrm>
        </p:grpSpPr>
        <p:sp>
          <p:nvSpPr>
            <p:cNvPr id="354" name="Rounded Rectangle 51"/>
            <p:cNvSpPr/>
            <p:nvPr/>
          </p:nvSpPr>
          <p:spPr>
            <a:xfrm>
              <a:off x="735120" y="2305080"/>
              <a:ext cx="3168720" cy="2079720"/>
            </a:xfrm>
            <a:prstGeom prst="roundRect">
              <a:avLst>
                <a:gd name="adj" fmla="val 16667"/>
              </a:avLst>
            </a:prstGeom>
            <a:solidFill>
              <a:srgbClr val="b4d13b"/>
            </a:solidFill>
            <a:ln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52"/>
            <p:cNvGrpSpPr/>
            <p:nvPr/>
          </p:nvGrpSpPr>
          <p:grpSpPr>
            <a:xfrm>
              <a:off x="944640" y="2376000"/>
              <a:ext cx="2759760" cy="1944720"/>
              <a:chOff x="944640" y="2376000"/>
              <a:chExt cx="2759760" cy="1944720"/>
            </a:xfrm>
          </p:grpSpPr>
          <p:grpSp>
            <p:nvGrpSpPr>
              <p:cNvPr id="356" name="Group 53"/>
              <p:cNvGrpSpPr/>
              <p:nvPr/>
            </p:nvGrpSpPr>
            <p:grpSpPr>
              <a:xfrm>
                <a:off x="944640" y="2376000"/>
                <a:ext cx="2733120" cy="577800"/>
                <a:chOff x="944640" y="2376000"/>
                <a:chExt cx="2733120" cy="577800"/>
              </a:xfrm>
            </p:grpSpPr>
            <p:sp>
              <p:nvSpPr>
                <p:cNvPr id="357" name="Rounded Rectangle 62"/>
                <p:cNvSpPr/>
                <p:nvPr/>
              </p:nvSpPr>
              <p:spPr>
                <a:xfrm>
                  <a:off x="944640" y="237600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ounded Rectangle 63"/>
                <p:cNvSpPr/>
                <p:nvPr/>
              </p:nvSpPr>
              <p:spPr>
                <a:xfrm>
                  <a:off x="1906560" y="237600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Rounded Rectangle 64"/>
                <p:cNvSpPr/>
                <p:nvPr/>
              </p:nvSpPr>
              <p:spPr>
                <a:xfrm>
                  <a:off x="2885400" y="237600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54"/>
              <p:cNvGrpSpPr/>
              <p:nvPr/>
            </p:nvGrpSpPr>
            <p:grpSpPr>
              <a:xfrm>
                <a:off x="968760" y="3056040"/>
                <a:ext cx="2733120" cy="577800"/>
                <a:chOff x="968760" y="3056040"/>
                <a:chExt cx="2733120" cy="577800"/>
              </a:xfrm>
            </p:grpSpPr>
            <p:sp>
              <p:nvSpPr>
                <p:cNvPr id="361" name="Rounded Rectangle 59"/>
                <p:cNvSpPr/>
                <p:nvPr/>
              </p:nvSpPr>
              <p:spPr>
                <a:xfrm>
                  <a:off x="968760" y="305604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Rounded Rectangle 60"/>
                <p:cNvSpPr/>
                <p:nvPr/>
              </p:nvSpPr>
              <p:spPr>
                <a:xfrm>
                  <a:off x="1930680" y="305604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Rounded Rectangle 61"/>
                <p:cNvSpPr/>
                <p:nvPr/>
              </p:nvSpPr>
              <p:spPr>
                <a:xfrm>
                  <a:off x="2909520" y="305604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55"/>
              <p:cNvGrpSpPr/>
              <p:nvPr/>
            </p:nvGrpSpPr>
            <p:grpSpPr>
              <a:xfrm>
                <a:off x="971280" y="3742920"/>
                <a:ext cx="2733120" cy="577800"/>
                <a:chOff x="971280" y="3742920"/>
                <a:chExt cx="2733120" cy="577800"/>
              </a:xfrm>
            </p:grpSpPr>
            <p:sp>
              <p:nvSpPr>
                <p:cNvPr id="365" name="Rounded Rectangle 56"/>
                <p:cNvSpPr/>
                <p:nvPr/>
              </p:nvSpPr>
              <p:spPr>
                <a:xfrm>
                  <a:off x="971280" y="374292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Rounded Rectangle 57"/>
                <p:cNvSpPr/>
                <p:nvPr/>
              </p:nvSpPr>
              <p:spPr>
                <a:xfrm>
                  <a:off x="1933200" y="374292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Rounded Rectangle 58"/>
                <p:cNvSpPr/>
                <p:nvPr/>
              </p:nvSpPr>
              <p:spPr>
                <a:xfrm>
                  <a:off x="2912040" y="3742920"/>
                  <a:ext cx="792360" cy="5778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8" name="TextBox 65"/>
          <p:cNvSpPr/>
          <p:nvPr/>
        </p:nvSpPr>
        <p:spPr>
          <a:xfrm>
            <a:off x="246240" y="1585800"/>
            <a:ext cx="22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         +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Up Arrow 66"/>
          <p:cNvSpPr/>
          <p:nvPr/>
        </p:nvSpPr>
        <p:spPr>
          <a:xfrm rot="2367000">
            <a:off x="808200" y="1441440"/>
            <a:ext cx="368280" cy="657360"/>
          </a:xfrm>
          <a:prstGeom prst="upArrow">
            <a:avLst>
              <a:gd name="adj1" fmla="val 50000"/>
              <a:gd name="adj2" fmla="val 50119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383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67"/>
          <p:cNvSpPr/>
          <p:nvPr/>
        </p:nvSpPr>
        <p:spPr>
          <a:xfrm>
            <a:off x="4284720" y="1585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, RU, 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Up Arrow 68"/>
          <p:cNvSpPr/>
          <p:nvPr/>
        </p:nvSpPr>
        <p:spPr>
          <a:xfrm rot="7740600">
            <a:off x="2939400" y="4435200"/>
            <a:ext cx="368280" cy="657000"/>
          </a:xfrm>
          <a:prstGeom prst="upArrow">
            <a:avLst>
              <a:gd name="adj1" fmla="val 50000"/>
              <a:gd name="adj2" fmla="val 50091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846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7175"/>
          <p:cNvSpPr/>
          <p:nvPr/>
        </p:nvSpPr>
        <p:spPr>
          <a:xfrm>
            <a:off x="1222200" y="1914480"/>
            <a:ext cx="871560" cy="457200"/>
          </a:xfrm>
          <a:custGeom>
            <a:avLst/>
            <a:gdLst/>
            <a:ahLst/>
            <a:rect l="l" t="t" r="r" b="b"/>
            <a:pathLst>
              <a:path w="871870" h="457200">
                <a:moveTo>
                  <a:pt x="0" y="0"/>
                </a:moveTo>
                <a:cubicBezTo>
                  <a:pt x="278218" y="31012"/>
                  <a:pt x="556437" y="62024"/>
                  <a:pt x="701749" y="138224"/>
                </a:cubicBezTo>
                <a:cubicBezTo>
                  <a:pt x="847061" y="214424"/>
                  <a:pt x="859465" y="335812"/>
                  <a:pt x="871870" y="457200"/>
                </a:cubicBezTo>
              </a:path>
            </a:pathLst>
          </a:custGeom>
          <a:noFill/>
          <a:ln w="38160">
            <a:solidFill>
              <a:srgbClr val="ffdf3b"/>
            </a:solidFill>
            <a:round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70"/>
          <p:cNvSpPr/>
          <p:nvPr/>
        </p:nvSpPr>
        <p:spPr>
          <a:xfrm>
            <a:off x="1222200" y="1919160"/>
            <a:ext cx="109800" cy="466920"/>
          </a:xfrm>
          <a:custGeom>
            <a:avLst/>
            <a:gdLst/>
            <a:ahLst/>
            <a:rect l="l" t="t" r="r" b="b"/>
            <a:pathLst>
              <a:path w="871870" h="457200">
                <a:moveTo>
                  <a:pt x="0" y="0"/>
                </a:moveTo>
                <a:cubicBezTo>
                  <a:pt x="278218" y="31012"/>
                  <a:pt x="556437" y="62024"/>
                  <a:pt x="701749" y="138224"/>
                </a:cubicBezTo>
                <a:cubicBezTo>
                  <a:pt x="847061" y="214424"/>
                  <a:pt x="859465" y="335812"/>
                  <a:pt x="871870" y="457200"/>
                </a:cubicBezTo>
              </a:path>
            </a:pathLst>
          </a:custGeom>
          <a:noFill/>
          <a:ln w="38160">
            <a:solidFill>
              <a:srgbClr val="ffdf3b"/>
            </a:solidFill>
            <a:round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7176"/>
          <p:cNvSpPr/>
          <p:nvPr/>
        </p:nvSpPr>
        <p:spPr>
          <a:xfrm>
            <a:off x="514440" y="1935000"/>
            <a:ext cx="739800" cy="1351080"/>
          </a:xfrm>
          <a:custGeom>
            <a:avLst/>
            <a:gdLst/>
            <a:ahLst/>
            <a:rect l="l" t="t" r="r" b="b"/>
            <a:pathLst>
              <a:path w="740153" h="1350334">
                <a:moveTo>
                  <a:pt x="740153" y="0"/>
                </a:moveTo>
                <a:cubicBezTo>
                  <a:pt x="398139" y="174551"/>
                  <a:pt x="56125" y="349102"/>
                  <a:pt x="6506" y="574158"/>
                </a:cubicBezTo>
                <a:cubicBezTo>
                  <a:pt x="-43113" y="799214"/>
                  <a:pt x="199664" y="1074774"/>
                  <a:pt x="442441" y="1350334"/>
                </a:cubicBezTo>
              </a:path>
            </a:pathLst>
          </a:custGeom>
          <a:noFill/>
          <a:ln w="38160">
            <a:solidFill>
              <a:srgbClr val="ffdf3b"/>
            </a:solidFill>
            <a:round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7177"/>
          <p:cNvSpPr/>
          <p:nvPr/>
        </p:nvSpPr>
        <p:spPr>
          <a:xfrm>
            <a:off x="1150920" y="1844640"/>
            <a:ext cx="252360" cy="252360"/>
          </a:xfrm>
          <a:prstGeom prst="ellipse">
            <a:avLst/>
          </a:prstGeom>
          <a:solidFill>
            <a:srgbClr val="ffd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Content Placeholder 2"/>
          <p:cNvSpPr/>
          <p:nvPr/>
        </p:nvSpPr>
        <p:spPr>
          <a:xfrm>
            <a:off x="509760" y="5229360"/>
            <a:ext cx="8424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ional approach may induce larger gas movement but may be less realistic with a given supply source moving in opposite direction depending the consider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rket Integration – Demand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6C02-DF7B-42F9-B691-1323148E14D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39280" y="1125360"/>
            <a:ext cx="842508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mand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mand levels have a direct influence on the assessment resul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y define the considered period (a year or a seas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igher demand is more stressful in case of supply minimization (Wint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wer demand is more stressful in case of supply maximization (Low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ole of the U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current TYNDP, the UGS has been kept neutral (no withdrawal or injection) whi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voids to make assumption on their 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regards their impact on the maxi/minim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&amp; Market Integration proposed Cas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FB58-D021-4858-AEDD-84EA19C4028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24000" y="1052640"/>
            <a:ext cx="842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ist of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itial proposal accounts for 200 cases (against 67 for TYNDP 2011-2020), list will be updated considering your feedb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9280" y="1484280"/>
          <a:ext cx="8856720" cy="3876840"/>
        </p:xfrm>
        <a:graphic>
          <a:graphicData uri="http://schemas.openxmlformats.org/drawingml/2006/table">
            <a:tbl>
              <a:tblPr/>
              <a:tblGrid>
                <a:gridCol w="647640"/>
                <a:gridCol w="1008360"/>
                <a:gridCol w="1152360"/>
                <a:gridCol w="1728720"/>
                <a:gridCol w="1224000"/>
                <a:gridCol w="1656000"/>
                <a:gridCol w="143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ra.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mand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uration          Occu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ru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GS deliver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ly source m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F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Wi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% / Ref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/max 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% / Ref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/max 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/max 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/max 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/max 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/max L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Object 12"/>
          <p:cNvGraphicFramePr/>
          <p:nvPr/>
        </p:nvGraphicFramePr>
        <p:xfrm>
          <a:off x="6732720" y="602136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602136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6CB2-1533-4FE5-88E3-6E6C699F34B2}" type="slidenum">
              <a:rPr b="0" lang="fr-B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89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2419560" y="3867120"/>
            <a:ext cx="42984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Olivier Lebois, Adviser, System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NTSOG -- European Network of Transmission System Operators for 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venue de Cortenbergh 100, B-1000 Bruss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ML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livier.Lebois@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+ 32 2 894 51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WWW:   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JWS process on SoS &amp; Market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2B2E-D703-475C-B363-8CBA9880B53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63240" y="2204640"/>
            <a:ext cx="863100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ebruary session – Come-back to TYNDP 2011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stablishment of a shared understanding of current report and associated feedb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7a35"/>
                </a:solidFill>
                <a:latin typeface="Calibri"/>
                <a:ea typeface="Arial"/>
              </a:rPr>
              <a:t>March session – ENTSOG initial propos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Proposals focus on selection of relevant cases for SoS &amp; Mkt Int.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Feedback on proposals and first considerations on indicators to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pril session – ENTSOG updated propos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ine-tuned scenarios and first set of indic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y session – Fine-tuning of assess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esentation of an integrated method (cases &amp; indicators) fitting with other SJW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94840" indent="-2948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entagon 2"/>
          <p:cNvSpPr/>
          <p:nvPr/>
        </p:nvSpPr>
        <p:spPr>
          <a:xfrm>
            <a:off x="539640" y="1413000"/>
            <a:ext cx="6912000" cy="503280"/>
          </a:xfrm>
          <a:custGeom>
            <a:avLst/>
            <a:gdLst>
              <a:gd name="textAreaLeft" fmla="*/ 0 w 6912000"/>
              <a:gd name="textAreaRight" fmla="*/ 6912360 w 6912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13" y="0"/>
                </a:lnTo>
                <a:lnTo>
                  <a:pt x="21600" y="10800"/>
                </a:lnTo>
                <a:lnTo>
                  <a:pt x="2081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ounded Rectangle 4"/>
          <p:cNvSpPr/>
          <p:nvPr/>
        </p:nvSpPr>
        <p:spPr>
          <a:xfrm>
            <a:off x="7596360" y="1052640"/>
            <a:ext cx="1368360" cy="1224000"/>
          </a:xfrm>
          <a:prstGeom prst="roundRect">
            <a:avLst>
              <a:gd name="adj" fmla="val 16667"/>
            </a:avLst>
          </a:prstGeom>
          <a:solidFill>
            <a:srgbClr val="b4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une TYNDP 2013-2022 Public 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ounded Rectangle 5"/>
          <p:cNvSpPr/>
          <p:nvPr/>
        </p:nvSpPr>
        <p:spPr>
          <a:xfrm>
            <a:off x="900000" y="1197000"/>
            <a:ext cx="865440" cy="93672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936720"/>
              <a:gd name="textAreaBottom" fmla="*/ 894600 h 936720"/>
            </a:gdLst>
            <a:ahLst/>
            <a:rect l="textAreaLeft" t="textAreaTop" r="textAreaRight" b="textAreaBottom"/>
            <a:pathLst>
              <a:path w="21600" h="23378">
                <a:moveTo>
                  <a:pt x="3600" y="0"/>
                </a:moveTo>
                <a:arcTo wR="3600" hR="3600" stAng="16200000" swAng="-5400000"/>
                <a:lnTo>
                  <a:pt x="0" y="19778"/>
                </a:lnTo>
                <a:arcTo wR="3600" hR="3600" stAng="10800000" swAng="-5400000"/>
                <a:lnTo>
                  <a:pt x="18000" y="233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4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eb. 15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Rounded Rectangle 7"/>
          <p:cNvGrpSpPr/>
          <p:nvPr/>
        </p:nvGrpSpPr>
        <p:grpSpPr>
          <a:xfrm>
            <a:off x="2382840" y="981000"/>
            <a:ext cx="1353960" cy="1427400"/>
            <a:chOff x="2382840" y="981000"/>
            <a:chExt cx="1353960" cy="1427400"/>
          </a:xfrm>
        </p:grpSpPr>
        <p:pic>
          <p:nvPicPr>
            <p:cNvPr id="253" name="Rounded Rectangle 7" descr=""/>
            <p:cNvPicPr/>
            <p:nvPr/>
          </p:nvPicPr>
          <p:blipFill>
            <a:blip r:embed="rId1"/>
            <a:stretch/>
          </p:blipFill>
          <p:spPr>
            <a:xfrm>
              <a:off x="2382840" y="981000"/>
              <a:ext cx="135396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670120" y="1268280"/>
              <a:ext cx="78120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Ma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0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ounded Rectangle 8"/>
          <p:cNvSpPr/>
          <p:nvPr/>
        </p:nvSpPr>
        <p:spPr>
          <a:xfrm>
            <a:off x="4356000" y="1227240"/>
            <a:ext cx="865440" cy="936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936360"/>
              <a:gd name="textAreaBottom" fmla="*/ 894240 h 936360"/>
            </a:gdLst>
            <a:ahLst/>
            <a:rect l="textAreaLeft" t="textAreaTop" r="textAreaRight" b="textAreaBottom"/>
            <a:pathLst>
              <a:path w="21600" h="23369">
                <a:moveTo>
                  <a:pt x="3600" y="0"/>
                </a:moveTo>
                <a:arcTo wR="3600" hR="3600" stAng="16200000" swAng="-5400000"/>
                <a:lnTo>
                  <a:pt x="0" y="19769"/>
                </a:lnTo>
                <a:arcTo wR="3600" hR="3600" stAng="10800000" swAng="-5400000"/>
                <a:lnTo>
                  <a:pt x="18000" y="23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4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ounded Rectangle 9"/>
          <p:cNvSpPr/>
          <p:nvPr/>
        </p:nvSpPr>
        <p:spPr>
          <a:xfrm>
            <a:off x="6084720" y="1197000"/>
            <a:ext cx="865440" cy="93672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936720"/>
              <a:gd name="textAreaBottom" fmla="*/ 894600 h 936720"/>
            </a:gdLst>
            <a:ahLst/>
            <a:rect l="textAreaLeft" t="textAreaTop" r="textAreaRight" b="textAreaBottom"/>
            <a:pathLst>
              <a:path w="21600" h="23378">
                <a:moveTo>
                  <a:pt x="3600" y="0"/>
                </a:moveTo>
                <a:arcTo wR="3600" hR="3600" stAng="16200000" swAng="-5400000"/>
                <a:lnTo>
                  <a:pt x="0" y="19778"/>
                </a:lnTo>
                <a:arcTo wR="3600" hR="3600" stAng="10800000" swAng="-5400000"/>
                <a:lnTo>
                  <a:pt x="18000" y="233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4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4780-AD21-4203-9AFB-39861DAD137B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9640" y="1125360"/>
            <a:ext cx="8143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at should be considered when selecting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driver is the identification of potential investment gaps under realistic c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delling tool is no more a limitation but result analysis remains the key 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parability with previous TYNDP in order to measure improvement /decline in the European gas system resilie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ist of parameters defining as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mand scenario: ENTSOG (TSOs), NREAs, Prime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rastructure scenario: FID, non-F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Demand case: combination of period (1, 7 &amp; 30 days) and methodology (Design, 1-in-20 &amp; 1-in-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case: consistent with Demand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Potential events: none (Reference Case), technical disruption (NO, AL &amp; LY), transit disruption (UA &amp; BY) and supply disruption (Qatari LNG), low UGS deliver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– Demand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8800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712C-05C0-48D3-A5AB-F96103E1E9DC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4000" y="981000"/>
            <a:ext cx="8496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ximum transported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is is a natural case to test the resilience of the European transmission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this case demand is at the highest daily level and supply is assumed to be at its highest avail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vel of demand can be defined in 2 way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6096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ign Case: in every country demand is set at the level defined as the reference for national design according national legislation (highest stres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6096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» Ensure consistence between national and European pl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6096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-in-20  Case(Diversified or not): demand is set in every country according a given occur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6096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» Ensure consistent risk across bor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ationales of X-day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uration of an event impact in a different way demand level and each supply sou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se dissimilarities induce different transmission needs depending on the du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ress on gas infrastructure  is measured on one day (the last one is assumed to be the most stressfu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05280" indent="-3052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36600" y="3079800"/>
            <a:ext cx="5316480" cy="33098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– X-day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8800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9B5C-8A07-4DFC-A3EA-7E0D2867289B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9280" y="979200"/>
            <a:ext cx="8425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finition of demand level on a X-day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mand is assumed to be flat on the peri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aily values from historical database used to define demand level are averaged on a X-day moving ba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ay to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ounded Rectangle 2"/>
          <p:cNvSpPr/>
          <p:nvPr/>
        </p:nvSpPr>
        <p:spPr>
          <a:xfrm>
            <a:off x="3166920" y="3497400"/>
            <a:ext cx="505080" cy="28796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2879640"/>
              <a:gd name="textAreaBottom" fmla="*/ 2855160 h 2879640"/>
            </a:gdLst>
            <a:ahLst/>
            <a:rect l="textAreaLeft" t="textAreaTop" r="textAreaRight" b="textAreaBottom"/>
            <a:pathLst>
              <a:path w="21600" h="123077">
                <a:moveTo>
                  <a:pt x="3600" y="0"/>
                </a:moveTo>
                <a:arcTo wR="3600" hR="3600" stAng="16200000" swAng="-5400000"/>
                <a:lnTo>
                  <a:pt x="0" y="119477"/>
                </a:lnTo>
                <a:arcTo wR="3600" hR="3600" stAng="10800000" swAng="-5400000"/>
                <a:lnTo>
                  <a:pt x="18000" y="123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c737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2994120" y="307980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7373b"/>
                </a:solidFill>
                <a:latin typeface="Calibri"/>
              </a:rPr>
              <a:t>Modeled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5867280" y="3497400"/>
            <a:ext cx="316872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eb7a35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/Demand balance on the last day defines the need of 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249"/>
              </a:spcBef>
              <a:buClr>
                <a:srgbClr val="b4d13b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eb7a35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ling check potential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249"/>
              </a:spcBef>
              <a:buClr>
                <a:srgbClr val="b4d13b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eb7a35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-post calculation defines the minimum UGS level prior th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– potential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2FD0-5E7E-4395-AD7F-16984117D48F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280" y="1125360"/>
            <a:ext cx="8425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sruption events in current TYNDP, are they up to da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kraine and Belarus: total disruption of either trans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bya: total disruption of import pi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geria: 50% disruption of import pip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rway: total disruption of Langeled pipel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NG: Qatari disrup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alue of a low UGS deliverability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f the understanding of disruptions is quite straight forward, stakeholders’ expectations in term of impact of a low UGS deliverability is less cl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24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pected out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tential investment 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lexibility of the gas system at Entry/Exit zo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6600" y="18900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– Low 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6C49-8733-43BF-B936-7AB8EA04BEBE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25000" y="796680"/>
            <a:ext cx="86043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itial pro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comparison with Reference Case, UGS deliverability is reduced by 10% then 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issing gas is caught up by imports still limited by their Potential Suppl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otential 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GS withdrawal rate at European level is defined by putting all imports at their Potential Suppl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se is then modeled either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ame UGS withdrawal rate across Eur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GS withdrawal rate in each system set in order to minimize investment 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6607080" y="4127400"/>
            <a:ext cx="2016360" cy="1297080"/>
            <a:chOff x="6607080" y="4127400"/>
            <a:chExt cx="2016360" cy="1297080"/>
          </a:xfrm>
        </p:grpSpPr>
        <p:sp>
          <p:nvSpPr>
            <p:cNvPr id="277" name="Rounded Rectangle 5"/>
            <p:cNvSpPr/>
            <p:nvPr/>
          </p:nvSpPr>
          <p:spPr>
            <a:xfrm>
              <a:off x="6607080" y="4127400"/>
              <a:ext cx="2016360" cy="1297080"/>
            </a:xfrm>
            <a:prstGeom prst="roundRect">
              <a:avLst>
                <a:gd name="adj" fmla="val 16667"/>
              </a:avLst>
            </a:prstGeom>
            <a:solidFill>
              <a:srgbClr val="b4d13b"/>
            </a:solidFill>
            <a:ln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9"/>
            <p:cNvGrpSpPr/>
            <p:nvPr/>
          </p:nvGrpSpPr>
          <p:grpSpPr>
            <a:xfrm>
              <a:off x="6740280" y="4171680"/>
              <a:ext cx="1756080" cy="1212840"/>
              <a:chOff x="6740280" y="4171680"/>
              <a:chExt cx="1756080" cy="1212840"/>
            </a:xfrm>
          </p:grpSpPr>
          <p:grpSp>
            <p:nvGrpSpPr>
              <p:cNvPr id="279" name="Group 6"/>
              <p:cNvGrpSpPr/>
              <p:nvPr/>
            </p:nvGrpSpPr>
            <p:grpSpPr>
              <a:xfrm>
                <a:off x="6740280" y="4171680"/>
                <a:ext cx="1739160" cy="360360"/>
                <a:chOff x="6740280" y="4171680"/>
                <a:chExt cx="1739160" cy="360360"/>
              </a:xfrm>
            </p:grpSpPr>
            <p:sp>
              <p:nvSpPr>
                <p:cNvPr id="280" name="Rounded Rectangle 4"/>
                <p:cNvSpPr/>
                <p:nvPr/>
              </p:nvSpPr>
              <p:spPr>
                <a:xfrm>
                  <a:off x="6740280" y="417168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ounded Rectangle 7"/>
                <p:cNvSpPr/>
                <p:nvPr/>
              </p:nvSpPr>
              <p:spPr>
                <a:xfrm>
                  <a:off x="7352280" y="417168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ounded Rectangle 8"/>
                <p:cNvSpPr/>
                <p:nvPr/>
              </p:nvSpPr>
              <p:spPr>
                <a:xfrm>
                  <a:off x="7975440" y="417168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10"/>
              <p:cNvGrpSpPr/>
              <p:nvPr/>
            </p:nvGrpSpPr>
            <p:grpSpPr>
              <a:xfrm>
                <a:off x="6755760" y="4595760"/>
                <a:ext cx="1739160" cy="360360"/>
                <a:chOff x="6755760" y="4595760"/>
                <a:chExt cx="1739160" cy="360360"/>
              </a:xfrm>
            </p:grpSpPr>
            <p:sp>
              <p:nvSpPr>
                <p:cNvPr id="284" name="Rounded Rectangle 11"/>
                <p:cNvSpPr/>
                <p:nvPr/>
              </p:nvSpPr>
              <p:spPr>
                <a:xfrm>
                  <a:off x="6755760" y="459576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ounded Rectangle 12"/>
                <p:cNvSpPr/>
                <p:nvPr/>
              </p:nvSpPr>
              <p:spPr>
                <a:xfrm>
                  <a:off x="7367760" y="459576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Rounded Rectangle 13"/>
                <p:cNvSpPr/>
                <p:nvPr/>
              </p:nvSpPr>
              <p:spPr>
                <a:xfrm>
                  <a:off x="7990920" y="459576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Group 14"/>
              <p:cNvGrpSpPr/>
              <p:nvPr/>
            </p:nvGrpSpPr>
            <p:grpSpPr>
              <a:xfrm>
                <a:off x="6757200" y="5024160"/>
                <a:ext cx="1739160" cy="360360"/>
                <a:chOff x="6757200" y="5024160"/>
                <a:chExt cx="1739160" cy="360360"/>
              </a:xfrm>
            </p:grpSpPr>
            <p:sp>
              <p:nvSpPr>
                <p:cNvPr id="288" name="Rounded Rectangle 15"/>
                <p:cNvSpPr/>
                <p:nvPr/>
              </p:nvSpPr>
              <p:spPr>
                <a:xfrm>
                  <a:off x="6757200" y="502416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ounded Rectangle 16"/>
                <p:cNvSpPr/>
                <p:nvPr/>
              </p:nvSpPr>
              <p:spPr>
                <a:xfrm>
                  <a:off x="7369200" y="502416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Rounded Rectangle 17"/>
                <p:cNvSpPr/>
                <p:nvPr/>
              </p:nvSpPr>
              <p:spPr>
                <a:xfrm>
                  <a:off x="7992360" y="5024160"/>
                  <a:ext cx="504000" cy="3603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91" name="TextBox 19" descr=""/>
          <p:cNvPicPr/>
          <p:nvPr/>
        </p:nvPicPr>
        <p:blipFill>
          <a:blip r:embed="rId1"/>
          <a:stretch/>
        </p:blipFill>
        <p:spPr>
          <a:xfrm>
            <a:off x="-285840" y="4260960"/>
            <a:ext cx="6021360" cy="103644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21"/>
          <p:cNvGrpSpPr/>
          <p:nvPr/>
        </p:nvGrpSpPr>
        <p:grpSpPr>
          <a:xfrm>
            <a:off x="6618240" y="5506920"/>
            <a:ext cx="2016000" cy="1295640"/>
            <a:chOff x="6618240" y="5506920"/>
            <a:chExt cx="2016000" cy="1295640"/>
          </a:xfrm>
        </p:grpSpPr>
        <p:sp>
          <p:nvSpPr>
            <p:cNvPr id="293" name="Rounded Rectangle 22"/>
            <p:cNvSpPr/>
            <p:nvPr/>
          </p:nvSpPr>
          <p:spPr>
            <a:xfrm>
              <a:off x="6618240" y="5506920"/>
              <a:ext cx="2016000" cy="1295640"/>
            </a:xfrm>
            <a:prstGeom prst="roundRect">
              <a:avLst>
                <a:gd name="adj" fmla="val 16667"/>
              </a:avLst>
            </a:prstGeom>
            <a:solidFill>
              <a:srgbClr val="b4d13b"/>
            </a:solidFill>
            <a:ln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6751440" y="5551200"/>
              <a:ext cx="1755720" cy="1211400"/>
              <a:chOff x="6751440" y="5551200"/>
              <a:chExt cx="1755720" cy="1211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6751440" y="5551200"/>
                <a:ext cx="1738800" cy="360000"/>
                <a:chOff x="6751440" y="5551200"/>
                <a:chExt cx="1738800" cy="360000"/>
              </a:xfrm>
            </p:grpSpPr>
            <p:sp>
              <p:nvSpPr>
                <p:cNvPr id="296" name="Rounded Rectangle 33"/>
                <p:cNvSpPr/>
                <p:nvPr/>
              </p:nvSpPr>
              <p:spPr>
                <a:xfrm>
                  <a:off x="6751440" y="555120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80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ounded Rectangle 34"/>
                <p:cNvSpPr/>
                <p:nvPr/>
              </p:nvSpPr>
              <p:spPr>
                <a:xfrm>
                  <a:off x="7363440" y="555120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Rounded Rectangle 35"/>
                <p:cNvSpPr/>
                <p:nvPr/>
              </p:nvSpPr>
              <p:spPr>
                <a:xfrm>
                  <a:off x="7986240" y="555120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0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5"/>
              <p:cNvGrpSpPr/>
              <p:nvPr/>
            </p:nvGrpSpPr>
            <p:grpSpPr>
              <a:xfrm>
                <a:off x="6766920" y="5974920"/>
                <a:ext cx="1738800" cy="360000"/>
                <a:chOff x="6766920" y="5974920"/>
                <a:chExt cx="1738800" cy="360000"/>
              </a:xfrm>
            </p:grpSpPr>
            <p:sp>
              <p:nvSpPr>
                <p:cNvPr id="300" name="Rounded Rectangle 30"/>
                <p:cNvSpPr/>
                <p:nvPr/>
              </p:nvSpPr>
              <p:spPr>
                <a:xfrm>
                  <a:off x="6766920" y="597492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7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ounded Rectangle 31"/>
                <p:cNvSpPr/>
                <p:nvPr/>
              </p:nvSpPr>
              <p:spPr>
                <a:xfrm>
                  <a:off x="7378920" y="597492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95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ounded Rectangle 32"/>
                <p:cNvSpPr/>
                <p:nvPr/>
              </p:nvSpPr>
              <p:spPr>
                <a:xfrm>
                  <a:off x="8001720" y="597492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80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26"/>
              <p:cNvGrpSpPr/>
              <p:nvPr/>
            </p:nvGrpSpPr>
            <p:grpSpPr>
              <a:xfrm>
                <a:off x="6768360" y="6402600"/>
                <a:ext cx="1738800" cy="360000"/>
                <a:chOff x="6768360" y="6402600"/>
                <a:chExt cx="1738800" cy="360000"/>
              </a:xfrm>
            </p:grpSpPr>
            <p:sp>
              <p:nvSpPr>
                <p:cNvPr id="304" name="Rounded Rectangle 27"/>
                <p:cNvSpPr/>
                <p:nvPr/>
              </p:nvSpPr>
              <p:spPr>
                <a:xfrm>
                  <a:off x="6768360" y="640260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80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ounded Rectangle 28"/>
                <p:cNvSpPr/>
                <p:nvPr/>
              </p:nvSpPr>
              <p:spPr>
                <a:xfrm>
                  <a:off x="7380360" y="640260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ounded Rectangle 29"/>
                <p:cNvSpPr/>
                <p:nvPr/>
              </p:nvSpPr>
              <p:spPr>
                <a:xfrm>
                  <a:off x="8003160" y="6402600"/>
                  <a:ext cx="504000" cy="36000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Calibri"/>
                    </a:rPr>
                    <a:t>60%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07" name="TextBox 7167" descr=""/>
          <p:cNvPicPr/>
          <p:nvPr/>
        </p:nvPicPr>
        <p:blipFill>
          <a:blip r:embed="rId2"/>
          <a:stretch/>
        </p:blipFill>
        <p:spPr>
          <a:xfrm>
            <a:off x="66600" y="5541840"/>
            <a:ext cx="5254560" cy="1114560"/>
          </a:xfrm>
          <a:prstGeom prst="rect">
            <a:avLst/>
          </a:prstGeom>
          <a:ln w="0">
            <a:noFill/>
          </a:ln>
        </p:spPr>
      </p:pic>
      <p:sp>
        <p:nvSpPr>
          <p:cNvPr id="308" name="Right Brace 7168"/>
          <p:cNvSpPr/>
          <p:nvPr/>
        </p:nvSpPr>
        <p:spPr>
          <a:xfrm>
            <a:off x="5479920" y="4194000"/>
            <a:ext cx="389160" cy="2389320"/>
          </a:xfrm>
          <a:custGeom>
            <a:avLst/>
            <a:gdLst>
              <a:gd name="textAreaLeft" fmla="*/ 0 w 389160"/>
              <a:gd name="textAreaRight" fmla="*/ 140400 w 389160"/>
              <a:gd name="textAreaTop" fmla="*/ 46440 h 2389320"/>
              <a:gd name="textAreaBottom" fmla="*/ 2342880 h 238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6"/>
                  <a:pt x="10800" y="1351"/>
                </a:cubicBezTo>
                <a:lnTo>
                  <a:pt x="10800" y="9566"/>
                </a:lnTo>
                <a:cubicBezTo>
                  <a:pt x="10800" y="10242"/>
                  <a:pt x="16200" y="10917"/>
                  <a:pt x="21600" y="10917"/>
                </a:cubicBezTo>
                <a:cubicBezTo>
                  <a:pt x="16200" y="10917"/>
                  <a:pt x="10800" y="11593"/>
                  <a:pt x="10800" y="12268"/>
                </a:cubicBezTo>
                <a:lnTo>
                  <a:pt x="10800" y="20249"/>
                </a:lnTo>
                <a:cubicBezTo>
                  <a:pt x="10800" y="2092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169"/>
          <p:cNvSpPr/>
          <p:nvPr/>
        </p:nvSpPr>
        <p:spPr>
          <a:xfrm>
            <a:off x="6145200" y="529596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 – Event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B9D7-800D-4787-9B4B-A9D434D8099C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9280" y="1125360"/>
            <a:ext cx="8425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ment of disruption or low UGS deliverability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priority i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5600" indent="-325800">
              <a:spcBef>
                <a:spcPts val="451"/>
              </a:spcBef>
              <a:buClr>
                <a:srgbClr val="b4d13b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rupted supply through alternative ro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5600" indent="-325800">
              <a:spcBef>
                <a:spcPts val="451"/>
              </a:spcBef>
              <a:buClr>
                <a:srgbClr val="b4d13b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ternative imports (including LNG until maximum potential supp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5600" indent="-325800">
              <a:spcBef>
                <a:spcPts val="451"/>
              </a:spcBef>
              <a:buClr>
                <a:srgbClr val="b4d13b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NG (using remaining capacity up to 80% send-out load factor) and U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5600" indent="-325800">
              <a:spcBef>
                <a:spcPts val="451"/>
              </a:spcBef>
              <a:buClr>
                <a:srgbClr val="b4d13b"/>
              </a:buClr>
              <a:buSzPct val="13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ru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rder does not influence the identification of gaps but provide transparency on the method and influence the resulting supply 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ad factor of import ro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del will be able to use different load factor for routes between a given supply source and Eur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evertheless a minimum load factor (derived from historical data) will be defined for every ro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ecurity of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3F10-57A9-4620-9CFB-6C09DE491B52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39640" y="1125360"/>
            <a:ext cx="8143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at should be considered when selecting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driver is the identification of potential limitation in the supply spread (not gap as potential benefit should be assessed against cost by the market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which way infrastructures can support market integration (but not ensure it as it primarily depend on their us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delling tool is no more a limitation but result analysis remains the key 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mparability with previous TYNDP in order to measure improvement /decline in the European gas system resilie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ist of parameters defining as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mand scenario: ENTSOG (TSOs), NREAs, Prime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rastructure scenario: FID, non-F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Demand case: average yearly day or seasonal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case: consistent with Demand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Potential events: maximization/minimization of a set of supply 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21:19Z</dcterms:created>
  <dc:creator>Andrea Cirlicova</dc:creator>
  <dc:description>Initial proposals built by NeMo KG based on feedback received during SJWSs</dc:description>
  <cp:keywords>TYNDP SOS Market Integration</cp:keywords>
  <dc:language>en-US</dc:language>
  <cp:lastModifiedBy>olivier.lebois</cp:lastModifiedBy>
  <cp:lastPrinted>2011-01-20T11:35:48Z</cp:lastPrinted>
  <dcterms:modified xsi:type="dcterms:W3CDTF">2012-03-16T14:08:54Z</dcterms:modified>
  <cp:revision>826</cp:revision>
  <dc:subject/>
  <dc:title>Draft initial proposal for SoS and Market Integration assess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4454750B1B940428917959955031DCB010300BB7710452A044043A8516CD4B1CC2D43</vt:lpwstr>
  </property>
  <property fmtid="{D5CDD505-2E9C-101B-9397-08002B2CF9AE}" pid="3" name="DocumentOrigin">
    <vt:lpwstr>18</vt:lpwstr>
  </property>
  <property fmtid="{D5CDD505-2E9C-101B-9397-08002B2CF9AE}" pid="4" name="DocumentType">
    <vt:lpwstr>11</vt:lpwstr>
  </property>
  <property fmtid="{D5CDD505-2E9C-101B-9397-08002B2CF9AE}" pid="5" name="EntsogDocumentCategory">
    <vt:lpwstr>1</vt:lpwstr>
  </property>
  <property fmtid="{D5CDD505-2E9C-101B-9397-08002B2CF9AE}" pid="6" name="EntsogDocumentCode">
    <vt:lpwstr/>
  </property>
  <property fmtid="{D5CDD505-2E9C-101B-9397-08002B2CF9AE}" pid="7" name="EntsogDocumentStatus">
    <vt:lpwstr>6</vt:lpwstr>
  </property>
  <property fmtid="{D5CDD505-2E9C-101B-9397-08002B2CF9AE}" pid="8" name="PlannedDateApproval BOA">
    <vt:lpwstr/>
  </property>
  <property fmtid="{D5CDD505-2E9C-101B-9397-08002B2CF9AE}" pid="9" name="PlannedDateApproval GAS">
    <vt:lpwstr/>
  </property>
  <property fmtid="{D5CDD505-2E9C-101B-9397-08002B2CF9AE}" pid="10" name="WorkstreamCode">
    <vt:lpwstr>10</vt:lpwstr>
  </property>
  <property fmtid="{D5CDD505-2E9C-101B-9397-08002B2CF9AE}" pid="11" name="_DCDateCreated">
    <vt:lpwstr>2012-03-08T17:21:00Z</vt:lpwstr>
  </property>
  <property fmtid="{D5CDD505-2E9C-101B-9397-08002B2CF9AE}" pid="12" name="_DCDateModified">
    <vt:lpwstr>2012-03-08T17:21:00Z</vt:lpwstr>
  </property>
</Properties>
</file>