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3FA5-E666-4A61-932E-887B477B1D06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F2ED-F0EE-4A22-8F58-0F2130E154B8}" type="slidenum"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3790-9C8E-452B-BDAA-03A809D7416D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BF2D-CC78-4804-8435-3F11D112CDFA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7B40-5A0B-4FAC-BD52-472AF2730000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4564-FA50-41DF-A6CA-F26CDCC21682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D8F2-A599-46FE-84A0-C9AAFF97D482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128F8-375D-447D-AAFA-524124A9192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DE2CA-B279-47FE-BEC4-2BE2A1EDDF7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D8CC2-0B99-4B82-9B1C-E09E99E8DA5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76C3D-F7D7-45C8-9705-D9235093A62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C8CD8-C8B1-41E1-9D7C-E87CB7702D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99644-9204-4F3A-93E5-88F986DBD07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D0009-9E17-44AE-8DE2-94061FB108D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49905-F42B-4C43-8DC3-1F7DA1D4C37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823FF-053A-4D8E-ABDB-CAB4638869C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7C009-F3A4-4A06-97EA-10949683DB9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4D14D-A4D6-4DF3-8332-7E66080412C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4288F-6208-4A19-8148-6CBB3A999DB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6DCEA-EE37-49C1-A653-DF791A74A90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B1F25-D533-4725-B14A-6A0F81A8111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853BD-CC4B-4200-8443-DA2D2E3689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62FB1-EC62-4886-B581-EA7070C2501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C39FE-FB90-4A31-B4F7-A5CC222C61A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C4433-AB19-4175-BE83-C88FBE95C7C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F9C44-0FCE-4252-99CD-EF1BF80813F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1C7E6-3113-424F-A73B-4676D02F453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61801-CD62-48A4-AE59-8D2F93CA05F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BB422-8E30-4543-9EDB-A1BD4B5BBB9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016EC-C167-459F-92DB-9F14114E4FC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A170E-9B8C-4E35-8643-E223F5E2F64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92DB-7D17-4663-B66A-BDFB9BADAC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884A-ECDD-4A38-87D4-2A41E7264C9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A433-7BA4-4335-A5A4-06FED7F0FCF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7E02-7A8E-457E-9662-277DDBADF6B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2080-35DD-4FB4-AEE4-16A8AA8544E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2687-1F13-4D58-9C0E-98E9CA6E4BD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FD54-4238-44D3-9953-14AB6EFB5A5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11C4-08BD-4FAE-AF1C-F18632617A8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D6D5-CE48-47A9-A41C-FDFD0582D48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658C-1DA8-41E4-A169-0D48985F896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6EB1-209E-49DD-A707-13940498EE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AC2C-53A9-45E8-A5DC-0C6A884BDB3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Image 1" descr="Fond.jpg"/>
          <p:cNvPicPr/>
          <p:nvPr/>
        </p:nvPicPr>
        <p:blipFill>
          <a:blip r:embed="rId2"/>
          <a:stretch/>
        </p:blipFill>
        <p:spPr>
          <a:xfrm>
            <a:off x="11160" y="0"/>
            <a:ext cx="91216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Image 1" descr="Fond2.jpg"/>
          <p:cNvPicPr/>
          <p:nvPr/>
        </p:nvPicPr>
        <p:blipFill>
          <a:blip r:embed="rId2"/>
          <a:stretch/>
        </p:blipFill>
        <p:spPr>
          <a:xfrm>
            <a:off x="1357200" y="349200"/>
            <a:ext cx="5956560" cy="6159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ENTSOG_LOGO_001.png"/>
          <p:cNvPicPr/>
          <p:nvPr/>
        </p:nvPicPr>
        <p:blipFill>
          <a:blip r:embed="rId3"/>
          <a:stretch/>
        </p:blipFill>
        <p:spPr>
          <a:xfrm>
            <a:off x="3855960" y="6149880"/>
            <a:ext cx="1000080" cy="5716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4071960" y="6559560"/>
            <a:ext cx="8571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66666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1810-0CBD-4762-A9B1-BF1BE2C97570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Image 1" descr="Fond2.jpg"/>
          <p:cNvPicPr/>
          <p:nvPr/>
        </p:nvPicPr>
        <p:blipFill>
          <a:blip r:embed="rId2"/>
          <a:stretch/>
        </p:blipFill>
        <p:spPr>
          <a:xfrm>
            <a:off x="1357200" y="349200"/>
            <a:ext cx="5956560" cy="615960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10"/>
          <p:cNvGrpSpPr/>
          <p:nvPr/>
        </p:nvGrpSpPr>
        <p:grpSpPr>
          <a:xfrm>
            <a:off x="3929040" y="6091200"/>
            <a:ext cx="1000080" cy="758880"/>
            <a:chOff x="3929040" y="6091200"/>
            <a:chExt cx="1000080" cy="758880"/>
          </a:xfrm>
        </p:grpSpPr>
        <p:pic>
          <p:nvPicPr>
            <p:cNvPr id="115" name="Picture 2" descr="ENTSOG_LOGO_001.png"/>
            <p:cNvPicPr/>
            <p:nvPr/>
          </p:nvPicPr>
          <p:blipFill>
            <a:blip r:embed="rId3"/>
            <a:stretch/>
          </p:blipFill>
          <p:spPr>
            <a:xfrm>
              <a:off x="3929040" y="6091200"/>
              <a:ext cx="1000080" cy="5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Box 4"/>
            <p:cNvSpPr/>
            <p:nvPr/>
          </p:nvSpPr>
          <p:spPr>
            <a:xfrm>
              <a:off x="4149720" y="6480000"/>
              <a:ext cx="779400" cy="37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66666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05DB-259C-4258-A754-2309ED4412BA}" type="slidenum">
              <a:rPr b="0" lang="fr-BE" sz="14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Image 1" descr="Fond2.jpg"/>
          <p:cNvPicPr/>
          <p:nvPr/>
        </p:nvPicPr>
        <p:blipFill>
          <a:blip r:embed="rId2"/>
          <a:stretch/>
        </p:blipFill>
        <p:spPr>
          <a:xfrm>
            <a:off x="1357200" y="349200"/>
            <a:ext cx="5956560" cy="615960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10"/>
          <p:cNvGrpSpPr/>
          <p:nvPr/>
        </p:nvGrpSpPr>
        <p:grpSpPr>
          <a:xfrm>
            <a:off x="4000680" y="6170760"/>
            <a:ext cx="1087200" cy="571320"/>
            <a:chOff x="4000680" y="6170760"/>
            <a:chExt cx="1087200" cy="571320"/>
          </a:xfrm>
        </p:grpSpPr>
        <p:pic>
          <p:nvPicPr>
            <p:cNvPr id="156" name="Picture 2" descr="ENTSOG_LOGO_001.png"/>
            <p:cNvPicPr/>
            <p:nvPr/>
          </p:nvPicPr>
          <p:blipFill>
            <a:blip r:embed="rId3"/>
            <a:stretch/>
          </p:blipFill>
          <p:spPr>
            <a:xfrm>
              <a:off x="4000680" y="6170760"/>
              <a:ext cx="100008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Rectangle 4"/>
            <p:cNvSpPr/>
            <p:nvPr/>
          </p:nvSpPr>
          <p:spPr>
            <a:xfrm>
              <a:off x="4230720" y="6575400"/>
              <a:ext cx="857160" cy="142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66666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05AA-2244-415C-86C4-26D5721BFAEF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Image 1" descr="Fond2.jpg"/>
          <p:cNvPicPr/>
          <p:nvPr/>
        </p:nvPicPr>
        <p:blipFill>
          <a:blip r:embed="rId2"/>
          <a:stretch/>
        </p:blipFill>
        <p:spPr>
          <a:xfrm>
            <a:off x="1357200" y="349200"/>
            <a:ext cx="5956560" cy="615960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11"/>
          <p:cNvGrpSpPr/>
          <p:nvPr/>
        </p:nvGrpSpPr>
        <p:grpSpPr>
          <a:xfrm>
            <a:off x="4143240" y="6170760"/>
            <a:ext cx="1071720" cy="571320"/>
            <a:chOff x="4143240" y="6170760"/>
            <a:chExt cx="1071720" cy="571320"/>
          </a:xfrm>
        </p:grpSpPr>
        <p:pic>
          <p:nvPicPr>
            <p:cNvPr id="199" name="Picture 2" descr="ENTSOG_LOGO_001.png"/>
            <p:cNvPicPr/>
            <p:nvPr/>
          </p:nvPicPr>
          <p:blipFill>
            <a:blip r:embed="rId3"/>
            <a:stretch/>
          </p:blipFill>
          <p:spPr>
            <a:xfrm>
              <a:off x="4143240" y="6170760"/>
              <a:ext cx="100044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Rectangle 4"/>
            <p:cNvSpPr/>
            <p:nvPr/>
          </p:nvSpPr>
          <p:spPr>
            <a:xfrm>
              <a:off x="4357440" y="6575400"/>
              <a:ext cx="857520" cy="142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info@entsog.eu" TargetMode="External"/><Relationship Id="rId2" Type="http://schemas.openxmlformats.org/officeDocument/2006/relationships/hyperlink" Target="http://www.entsog.eu/" TargetMode="External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0840" y="2781360"/>
            <a:ext cx="827856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2a3f82"/>
                </a:solidFill>
                <a:latin typeface="Calibri"/>
              </a:rPr>
              <a:t>TYNDP 2013-2022 SJWS #2</a:t>
            </a:r>
            <a:br>
              <a:rPr sz="4000"/>
            </a:b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ecurity of Supply – Market Integ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ous-titre 2"/>
          <p:cNvSpPr/>
          <p:nvPr/>
        </p:nvSpPr>
        <p:spPr>
          <a:xfrm>
            <a:off x="1360440" y="5589720"/>
            <a:ext cx="6400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666666"/>
                </a:solidFill>
                <a:latin typeface="Calibri"/>
              </a:rPr>
              <a:t>TYNDP 2013-2022 – 2</a:t>
            </a:r>
            <a:r>
              <a:rPr b="1" i="1" lang="en-GB" sz="1200" spc="-1" strike="noStrike" baseline="30000">
                <a:solidFill>
                  <a:srgbClr val="666666"/>
                </a:solidFill>
                <a:latin typeface="Calibri"/>
              </a:rPr>
              <a:t>nd</a:t>
            </a:r>
            <a:r>
              <a:rPr b="1" i="1" lang="en-GB" sz="1200" spc="-1" strike="noStrike">
                <a:solidFill>
                  <a:srgbClr val="666666"/>
                </a:solidFill>
                <a:latin typeface="Calibri"/>
              </a:rPr>
              <a:t> SJW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666666"/>
                </a:solidFill>
                <a:latin typeface="Calibri"/>
              </a:rPr>
              <a:t>15 Februar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666666"/>
                </a:solidFill>
                <a:latin typeface="Calibri"/>
              </a:rPr>
              <a:t>ENTSOG offices -- Bru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28526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Market Integration assessment</a:t>
            </a:r>
            <a:br>
              <a:rPr sz="3200"/>
            </a:b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 in TYNDP 2011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05B1-E0E1-4A7E-8F41-2BE2FBF1844E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Market integration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8000" y="98064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 concept still to be def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arket Integration covers many aspects and a clear definition is needed in order to be able to quantitatively assess European gas infrastruc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sessment on a 10-year range requires a resilient methodology based on robust criteria (direct use of supply and transmission prices is not enough reliable when considering potential variation in level and structur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First European level asse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NTSOG considered supply diversification as a strong underlying factor of price convergence which is often quoted as a Market Integration indicator (still not a sufficient condi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arket Integration has to be assessed under everyday circumsta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is assessment has been carried out unde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 supply perspective: how far a source can send g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 demand perspective: how many sources a country can have ac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20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C252-36B6-40F6-90F1-E2AC9DE7361B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Market Integration - What is in the TYND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68000" y="98064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ain report: spread, diversification &amp; limitation ident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sessment is carried out on an average day (annual demand and supply divided by 365 being consistent with April or October day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ach SoS simulation is the result of following parameter combinati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2011 / 2015 /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ID / non-F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eference Case / Predominant supply (each import source one by on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20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 graphical representation of supply spread is provided with 3 ranges of supply shar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bove 2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etween 5 and 2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elow 5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20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 view is provided from a country perspective showing the progression in supply diversification of each cou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E008-84CD-47FC-BB31-10B6F6B1AB55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Supply source even spread in 2015 (FI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C2E3-1698-494C-A493-799AFFEA49EC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2859120" cy="25592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>
            <a:off x="3276720" y="1314360"/>
            <a:ext cx="2863800" cy="25606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"/>
          <p:cNvPicPr/>
          <p:nvPr/>
        </p:nvPicPr>
        <p:blipFill>
          <a:blip r:embed="rId3"/>
          <a:stretch/>
        </p:blipFill>
        <p:spPr>
          <a:xfrm>
            <a:off x="6122880" y="1341360"/>
            <a:ext cx="2854440" cy="25592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"/>
          <p:cNvPicPr/>
          <p:nvPr/>
        </p:nvPicPr>
        <p:blipFill>
          <a:blip r:embed="rId4"/>
          <a:stretch/>
        </p:blipFill>
        <p:spPr>
          <a:xfrm>
            <a:off x="611280" y="3998880"/>
            <a:ext cx="2884320" cy="25592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"/>
          <p:cNvPicPr/>
          <p:nvPr/>
        </p:nvPicPr>
        <p:blipFill>
          <a:blip r:embed="rId5"/>
          <a:stretch/>
        </p:blipFill>
        <p:spPr>
          <a:xfrm>
            <a:off x="5219640" y="3998880"/>
            <a:ext cx="2854440" cy="2559240"/>
          </a:xfrm>
          <a:prstGeom prst="rect">
            <a:avLst/>
          </a:prstGeom>
          <a:ln w="0">
            <a:noFill/>
          </a:ln>
        </p:spPr>
      </p:pic>
      <p:sp>
        <p:nvSpPr>
          <p:cNvPr id="287" name="TextBox 4"/>
          <p:cNvSpPr/>
          <p:nvPr/>
        </p:nvSpPr>
        <p:spPr>
          <a:xfrm>
            <a:off x="888840" y="134136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L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0"/>
          <p:cNvSpPr/>
          <p:nvPr/>
        </p:nvSpPr>
        <p:spPr>
          <a:xfrm>
            <a:off x="3916440" y="1341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Nor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1"/>
          <p:cNvSpPr/>
          <p:nvPr/>
        </p:nvSpPr>
        <p:spPr>
          <a:xfrm>
            <a:off x="6875640" y="135252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Rus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2"/>
          <p:cNvSpPr/>
          <p:nvPr/>
        </p:nvSpPr>
        <p:spPr>
          <a:xfrm>
            <a:off x="1260360" y="3978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Alg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3"/>
          <p:cNvSpPr/>
          <p:nvPr/>
        </p:nvSpPr>
        <p:spPr>
          <a:xfrm>
            <a:off x="5854680" y="3978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Lib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114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Source accessibility for end-consum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Content Placeholder 4" descr=""/>
          <p:cNvPicPr/>
          <p:nvPr/>
        </p:nvPicPr>
        <p:blipFill>
          <a:blip r:embed="rId1"/>
          <a:stretch/>
        </p:blipFill>
        <p:spPr>
          <a:xfrm>
            <a:off x="6480" y="938160"/>
            <a:ext cx="9347040" cy="5032440"/>
          </a:xfrm>
          <a:prstGeom prst="rect">
            <a:avLst/>
          </a:prstGeom>
          <a:ln w="0">
            <a:noFill/>
          </a:ln>
        </p:spPr>
      </p:pic>
      <p:sp>
        <p:nvSpPr>
          <p:cNvPr id="2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ECD7-C97C-40D4-8C8B-81D62D884DCB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5"/>
          <p:cNvSpPr/>
          <p:nvPr/>
        </p:nvSpPr>
        <p:spPr>
          <a:xfrm>
            <a:off x="1258920" y="5788080"/>
            <a:ext cx="59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# countries having potential access (5% share) to at least 3 sources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6"/>
          <p:cNvSpPr/>
          <p:nvPr/>
        </p:nvSpPr>
        <p:spPr>
          <a:xfrm>
            <a:off x="6732720" y="580392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a3c82"/>
                </a:solidFill>
                <a:latin typeface="Arial"/>
              </a:rPr>
              <a:t>3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7"/>
          <p:cNvSpPr/>
          <p:nvPr/>
        </p:nvSpPr>
        <p:spPr>
          <a:xfrm>
            <a:off x="6729480" y="580392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c7373b"/>
                </a:solidFill>
                <a:latin typeface="Arial"/>
              </a:rPr>
              <a:t>5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8"/>
          <p:cNvSpPr/>
          <p:nvPr/>
        </p:nvSpPr>
        <p:spPr>
          <a:xfrm>
            <a:off x="6726240" y="580392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b4d13b"/>
                </a:solidFill>
                <a:latin typeface="Arial"/>
              </a:rPr>
              <a:t>5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9"/>
          <p:cNvSpPr/>
          <p:nvPr/>
        </p:nvSpPr>
        <p:spPr>
          <a:xfrm>
            <a:off x="6727680" y="580392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c7373b"/>
                </a:solidFill>
                <a:latin typeface="Arial"/>
              </a:rPr>
              <a:t>6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0"/>
          <p:cNvSpPr/>
          <p:nvPr/>
        </p:nvSpPr>
        <p:spPr>
          <a:xfrm>
            <a:off x="6734160" y="580716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b4d13b"/>
                </a:solidFill>
                <a:latin typeface="Arial"/>
              </a:rPr>
              <a:t>8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1"/>
          <p:cNvSpPr/>
          <p:nvPr/>
        </p:nvSpPr>
        <p:spPr>
          <a:xfrm>
            <a:off x="0" y="615960"/>
            <a:ext cx="23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Number of alternative potential 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2635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Arial"/>
              </a:rPr>
              <a:t>Market integration resil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E1D3-D33B-44B0-8A77-4AF2E20066D8}" type="slidenum">
              <a:rPr b="0" lang="en-GB" sz="14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space réservé du contenu 2"/>
          <p:cNvSpPr/>
          <p:nvPr/>
        </p:nvSpPr>
        <p:spPr>
          <a:xfrm>
            <a:off x="326880" y="907920"/>
            <a:ext cx="8775720" cy="50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pinion on selected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pproach is ok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ven physical spread of supply may not be always appropri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201"/>
              </a:spcBef>
              <a:buClr>
                <a:srgbClr val="6666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silience ind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ly share should be considered even if less than 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ercentage could be hig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arrival of a new supply should reduce the share of the existing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 sources above 5% is a good and already ambitious target for some mar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bedded diversification of LNG should be consid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delling should assess if each potential supply can be transported through EU and the potential gap on its path to the end-consu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YNDP should identify infrastructures required to have equal capacity level on both side of each 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dicator should be updated according Target Model potential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YNDP should identify the infrastructure gaps hampering a full use of 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6666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6666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9273-9A9E-49AE-ACF2-73D151FF484A}" type="slidenum">
              <a:rPr b="0" lang="fr-BE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9894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</a:rPr>
              <a:t>Thank You for Your Atten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Box 5"/>
          <p:cNvSpPr/>
          <p:nvPr/>
        </p:nvSpPr>
        <p:spPr>
          <a:xfrm>
            <a:off x="2419560" y="3867120"/>
            <a:ext cx="42984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ENTSOG -- European Network of Transmission System Operators for G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Avenue de Cortenbergh 100, B-1000 Brusse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EML: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info@entsog.e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T: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+ 32 2 894 51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WWW:    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ntsog.e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Assessment of gas system resil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98600" y="1125000"/>
            <a:ext cx="8143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Role of TYNDP in gas system resili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esign of the European gas system results from national primary and secondary legislation and long term capacity commit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urther need for investment (potential gap) depends on resilience expectation and considered supply/demand scenarios expressed by stakehold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YNDP aims at providing meaningful input to decision-makers about potential need for additional investment and not at directly planning projec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nputs from SJWSs will be factored in future EIP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YNDP and Cost Benefit Analysis have already many converging featur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35480" indent="-3394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cenario defini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35480" indent="-3394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dicators defining the level of Market Integration and S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35480" indent="-3394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 network and market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YNDP 2013-2022 SJWS can be used as an incubator for the development of a CBA by ENTSOG. But further development will require more visibility and stability of the legislative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35480" indent="-3394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F552-7191-4BCE-9488-D89C08809B74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5280" y="28526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Security of Supply resilience assessment</a:t>
            </a:r>
            <a:br>
              <a:rPr sz="3200"/>
            </a:b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 in TYNDP 2011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74E2-7493-4D93-90B4-BDCC8A48F1D7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Security of Supply resilience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8000" y="98064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uropean v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p-down assessment of the Security of Supply resilience of the European gas infra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NTSOG TYNDP considers the impact of major events (climatic, disruption…) from a European perspective on the highly meshed European gas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is top-down approach shows how adjacent systems may influence/support each 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TYNDP sco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urrent report is based on a Reference Case (high daily demand broadly equivalent to a 1-in-20 day) and measuring the variation in flow pattern and supply when facing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20720" indent="-3326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 technical, transit or supply disrup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20720" indent="-3326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 lower deliverability of stor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nsidered events have been selected according to their potential impact and occurr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spcBef>
                <a:spcPts val="20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E291-5524-4D39-9EE9-348655C3AE07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SoS - What is in the TYND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68000" y="98064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ain report: gap and remedy ident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ach SoS simulation is the result of following parameter combinati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2011 / 2015 /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ID / non-F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eference Case / Disruption / UGS low deliver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 graphical representation of investment gaps is provided when a country remaining flexibility is below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5% under Reference C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1% under disruption or UGS low deliver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ngested infrastructures and submitted projects helping to mitigate the gaps are identified within the re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20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nnex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evertheless load factor of each individual project may be estimated using the remaining flexibility provided for projects in Annex E for most scenari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AC51-3ABC-455F-B91C-C3E8C076D304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729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Arial"/>
              </a:rPr>
              <a:t>Graphical representation before disru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4BC4-4D4F-47BB-8EB0-C2495465CC0D}" type="slidenum">
              <a:rPr b="0" lang="en-GB" sz="14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35192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729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Arial"/>
              </a:rPr>
              <a:t>Graphical representation during disru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923A-B084-48CD-8E0B-5E2C7027D643}" type="slidenum">
              <a:rPr b="0" lang="en-GB" sz="14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1042920" y="1419120"/>
            <a:ext cx="6481800" cy="5243760"/>
          </a:xfrm>
          <a:prstGeom prst="rect">
            <a:avLst/>
          </a:prstGeom>
          <a:ln w="0">
            <a:noFill/>
          </a:ln>
        </p:spPr>
      </p:pic>
      <p:sp>
        <p:nvSpPr>
          <p:cNvPr id="263" name="TextBox 1"/>
          <p:cNvSpPr/>
          <p:nvPr/>
        </p:nvSpPr>
        <p:spPr>
          <a:xfrm>
            <a:off x="468360" y="1341360"/>
            <a:ext cx="2519280" cy="36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YNDP intends to identify the disrupted areas (blue doted line) defined by complete upstream cross-border congestion (red arrow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Flow pattern within the area would need further investigation taking into account more parameters such as demand-side mea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Arial"/>
              </a:rPr>
              <a:t>Information provided within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E4E0-AC68-458E-97FC-54B1304D2167}" type="slidenum">
              <a:rPr b="0" lang="en-GB" sz="14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01600" y="2205000"/>
          <a:ext cx="4564080" cy="3745080"/>
        </p:xfrm>
        <a:graphic>
          <a:graphicData uri="http://schemas.openxmlformats.org/drawingml/2006/table">
            <a:tbl>
              <a:tblPr/>
              <a:tblGrid>
                <a:gridCol w="511200"/>
                <a:gridCol w="797040"/>
                <a:gridCol w="949320"/>
                <a:gridCol w="1663560"/>
                <a:gridCol w="642960"/>
              </a:tblGrid>
              <a:tr h="265320">
                <a:tc gridSpan="5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ainian disruption (additional investment gaps to the Reference Cas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7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7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47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. Cong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 rowSpan="7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7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lobal improvement due 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7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&amp; SK &gt; H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264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7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7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47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. Cong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4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7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7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47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. Cong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277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7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7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47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G &amp; TK &gt; G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7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7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7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47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&amp; SK &gt; H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264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7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7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47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. Cong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7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7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7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47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. Cong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1587600">
                <a:tc gridSpan="5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High Daily demand for the region defined by all above countries is covered by 70% with existing infrastructure plus FID and by 75% with addition of non-FID projects. Individual country’s supply demand balance cannot be assessed in this TYNDP due to the current lack of criteri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non-FID projects (AT to HU capacity increase) remaining flexibility for Austria is inferior to one per cent but still enable to cover the whole demand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67" name="Picture 4" descr=""/>
          <p:cNvPicPr/>
          <p:nvPr/>
        </p:nvPicPr>
        <p:blipFill>
          <a:blip r:embed="rId1"/>
          <a:stretch/>
        </p:blipFill>
        <p:spPr>
          <a:xfrm>
            <a:off x="5076720" y="981000"/>
            <a:ext cx="3753000" cy="5295960"/>
          </a:xfrm>
          <a:prstGeom prst="rect">
            <a:avLst/>
          </a:prstGeom>
          <a:ln w="0">
            <a:noFill/>
          </a:ln>
        </p:spPr>
      </p:pic>
      <p:sp>
        <p:nvSpPr>
          <p:cNvPr id="268" name="TextBox 3"/>
          <p:cNvSpPr/>
          <p:nvPr/>
        </p:nvSpPr>
        <p:spPr>
          <a:xfrm>
            <a:off x="324000" y="981000"/>
            <a:ext cx="43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umerical information within main body and non-FID project load factor within Annex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729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Arial"/>
              </a:rPr>
              <a:t>SoS  - Received feedba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3D42-EAD0-416B-A81E-91BF869433BE}" type="slidenum">
              <a:rPr b="0" lang="en-GB" sz="14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Espace réservé du contenu 2"/>
          <p:cNvSpPr/>
          <p:nvPr/>
        </p:nvSpPr>
        <p:spPr>
          <a:xfrm>
            <a:off x="333360" y="1160640"/>
            <a:ext cx="8631360" cy="50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pinion on selected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terruption of more than one source could be consid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ternal technical failure (such Transitgas) should be investig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ference to possible regional political turmoil may benefit the overall TYN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w availability of storage in the end of the winter could be consid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re detailed analysis of the selected scenarios would be welco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enarios are appropriate and should be used in next edition in order to assess the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itional scenarios could derive from REG-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silience ind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maining flexibility is a meaningful indic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arrival of a new supply should reduce the share of the existing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bedded diversification of LNG should be consid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6666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6666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09:21:19Z</dcterms:created>
  <dc:creator>Andrea Cirlicova</dc:creator>
  <dc:description>Test file to explore size and formatting issues</dc:description>
  <dc:language>en-US</dc:language>
  <cp:lastModifiedBy>olivier.lebois</cp:lastModifiedBy>
  <cp:lastPrinted>2012-01-24T15:35:19Z</cp:lastPrinted>
  <dcterms:modified xsi:type="dcterms:W3CDTF">2012-02-10T15:49:30Z</dcterms:modified>
  <cp:revision>827</cp:revision>
  <dc:subject/>
  <dc:title>TYNDP 2013-2022 -- 1st SJWS</dc:title>
</cp:coreProperties>
</file>