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DC2-1151-4375-84F5-E1CB497555E9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1AF7-E4B0-42EA-8FDC-E68277C43D3F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3F6A-9D54-4A79-B4C4-F7192EC9A0E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A50-C7A5-43F0-98A8-5194A2BBD18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937-0687-49A7-A762-E66938196A0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3BC-953B-489A-88C2-EB3E3066D28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4D3-318E-40B8-B1D5-FE4D2296F89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BD78-4AC6-4C7A-B79E-FB97D64A6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9B24-B373-44EF-8A71-86FCDA268E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1C16-823D-49F7-862C-21B8C0FB0F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2A3B-1ECF-43A5-B28E-17E9E8D4D8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480-23E8-4E48-BE64-FFC88A6F2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A7F0-6F6D-4B1A-9828-46862F941A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DD4E-6C41-4BC7-9B0A-0D32F896A6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0521-8413-475D-B794-1AFA1C337D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A3CA-262D-4FAA-B7E8-1F355F62DF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F81E-990A-4294-9231-9FD810247F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C5C9-C7FF-471A-9ABE-4FDD78C1AD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9CDA-1819-4591-B80D-4A112A2464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5469-CD3F-4336-BCED-58CB7C2258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3B1B-FD95-4952-B2B5-5BF519ED34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F5FFD-D463-4AA6-9462-D0458C472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1962-BDBD-48DC-A7C8-55CAE7B48F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36B5-AD86-4326-8147-F431220802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47B5-390D-44F7-AE5C-2A3B62799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14A0-E8D3-4EAB-B1BA-1EC76F862C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A614-EF01-4273-B8CD-DC8D1D3BD6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DA9D-8588-45BC-8015-E93E9EF510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85D4-3D1F-4E56-BB5D-2CB2E032D0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F84B-8540-40D2-943F-1ABFDAD9B4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DA37-1E26-4AC7-8659-7F2E2BE89E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9D9-E96A-4A2E-BA16-E1007734D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B87-10A3-4FDD-8A4F-DB1C7CC2B6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ACB-2EAC-4968-90B7-DAA03D7CBE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337-DE4D-4593-ACDE-A8008FC9FE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B58-A38E-46B1-8FD9-5A1CC44CF48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4ED-42EE-4B4F-9023-36711B3DBD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270-6034-4957-8606-9A070EF625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F0B-3C96-456C-B5F6-1939F14674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950-2AE6-4156-B8F3-A8DA74A87A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589-277A-4B55-B411-4264A65A3A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F25-577C-4A02-A0AD-B5B3DCB84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3A1-F4EF-4A03-A1B9-CCFD7C831F5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AB7C-CF7C-4AFA-967B-47033B7CB5E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A54-B90F-4C11-8EBB-18B490C0A5FC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6B2E-63BC-4DEC-AA83-7B88D51365B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nfo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3f82"/>
                </a:solidFill>
                <a:latin typeface="Calibri"/>
              </a:rPr>
              <a:t>TYNDP 2013-2022 SJWS #2</a:t>
            </a:r>
            <a:br>
              <a:rPr sz="40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curity of Supply – Market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TYNDP 2013-2022 – 2</a:t>
            </a:r>
            <a:r>
              <a:rPr b="1" i="1" lang="en-GB" sz="1200" spc="-1" strike="noStrike" baseline="30000">
                <a:solidFill>
                  <a:srgbClr val="666666"/>
                </a:solidFill>
                <a:latin typeface="Calibri"/>
              </a:rPr>
              <a:t>nd</a:t>
            </a: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 SJ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15 Februar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666666"/>
                </a:solidFill>
                <a:latin typeface="Calibri"/>
              </a:rPr>
              <a:t>ENTSOG offices --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assessment</a:t>
            </a:r>
            <a:br>
              <a:rPr sz="3200"/>
            </a:b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 in TYNDP 2011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503-0C66-4462-967D-9ECA5F44B46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concept still to b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 covers many aspects and a clear definition is needed in order to be able to quantitatively assess European gas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essment on a 10-year range requires a resilient methodology based on robust criteria (direct use of supply and transmission prices is not enough reliable when considering potential variation in level and structu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rst European leve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 considered supply diversification as a strong underlying factor of price convergence which is often quoted as a Market Integration indicator (still not a sufficient 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 has to be assessed under everyday circum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assessment has been carried out und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upply perspective: how far a source can send 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demand perspective: how many sources a country can have a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BC05-5B94-4AD5-98E7-369D3EB7FAF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- What is in the TYN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port: spread, diversification &amp; limitatio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essment is carried out on an average day (annual demand and supply divided by 365 being consistent with April or October day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SoS simulation is the result of following parameter comb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11 / 2015 /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D /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Case / Predominant supply (each import source one by 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graphical representation of supply spread is provided with 3 ranges of supply sha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bove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tween 5 and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low 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view is provided from a country perspective showing the progression in supply diversification of each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C48-C484-4EC4-BA81-4AC2E060759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ource even spread in 2015 (F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413C-5B3F-4AE3-8CD5-CD6328A8F61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859120" cy="2559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3276720" y="1314360"/>
            <a:ext cx="2863800" cy="256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3"/>
          <a:stretch/>
        </p:blipFill>
        <p:spPr>
          <a:xfrm>
            <a:off x="6122880" y="1341360"/>
            <a:ext cx="2854440" cy="2559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4"/>
          <a:stretch/>
        </p:blipFill>
        <p:spPr>
          <a:xfrm>
            <a:off x="611280" y="3998880"/>
            <a:ext cx="2884320" cy="2559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5"/>
          <a:stretch/>
        </p:blipFill>
        <p:spPr>
          <a:xfrm>
            <a:off x="5219640" y="3998880"/>
            <a:ext cx="2854440" cy="2559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888840" y="1341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391644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1"/>
          <p:cNvSpPr/>
          <p:nvPr/>
        </p:nvSpPr>
        <p:spPr>
          <a:xfrm>
            <a:off x="6875640" y="13525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2"/>
          <p:cNvSpPr/>
          <p:nvPr/>
        </p:nvSpPr>
        <p:spPr>
          <a:xfrm>
            <a:off x="1260360" y="397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5854680" y="397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ib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4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ource accessibility for end-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Content Placeholder 4" descr=""/>
          <p:cNvPicPr/>
          <p:nvPr/>
        </p:nvPicPr>
        <p:blipFill>
          <a:blip r:embed="rId1"/>
          <a:stretch/>
        </p:blipFill>
        <p:spPr>
          <a:xfrm>
            <a:off x="6480" y="938160"/>
            <a:ext cx="9347040" cy="503244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C98-6C3C-40F5-B23E-2FEEED0E62F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1258920" y="5788080"/>
            <a:ext cx="59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untries having potential access (5% share) to at least 3 sourc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6732720" y="58039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a3c82"/>
                </a:solidFill>
                <a:latin typeface="Arial"/>
              </a:rPr>
              <a:t>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7"/>
          <p:cNvSpPr/>
          <p:nvPr/>
        </p:nvSpPr>
        <p:spPr>
          <a:xfrm>
            <a:off x="672948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7373b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672624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4d13b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727680" y="5803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7373b"/>
                </a:solidFill>
                <a:latin typeface="Arial"/>
              </a:rPr>
              <a:t>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6734160" y="58071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4d13b"/>
                </a:solidFill>
                <a:latin typeface="Arial"/>
              </a:rPr>
              <a:t>8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1"/>
          <p:cNvSpPr/>
          <p:nvPr/>
        </p:nvSpPr>
        <p:spPr>
          <a:xfrm>
            <a:off x="0" y="6159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umber of alternative potential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26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C0A-7B28-4B82-BBD7-8E5E967C52BE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contenu 2"/>
          <p:cNvSpPr/>
          <p:nvPr/>
        </p:nvSpPr>
        <p:spPr>
          <a:xfrm>
            <a:off x="326880" y="907920"/>
            <a:ext cx="877572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inion on selected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roach is ok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n physical spread of supply may not be always appropr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0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ilienc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 should be considered even if less than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centage could be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rrival of a new supply should reduce the share of the existing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sources above 5% is a good and already ambitious target for some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bedded diversification of LNG sh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ling should assess if each potential supply can be transported through EU and the potential gap on its path to the end-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NDP should identify infrastructures required to have equal capacity level on both side of each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dicator should be updated according Target Model potentia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YNDP should identify the infrastructure gaps hampering a full use of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9190-8073-4259-82C3-A36CFED106B6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419560" y="3867120"/>
            <a:ext cx="4298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nfo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ssessment of gas system resil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Role of TYNDP in gas system resil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of the European gas system results from national primary and secondary legislation and long term capacity commi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 need for investment (potential gap) depends on resilience expectation and considered supply/demand scenarios expressed b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aims at providing meaningful input to decision-makers about potential need for additional investment and not at directly planning projec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puts from SJWSs will be factored in future EIP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and Cost Benefit Analysis have already many converging featur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enario defin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defining the level of Market Integration and 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network and marke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2013-2022 SJWS can be used as an incubator for the development of a CBA by ENTSOG. But further development will require more visibility and stability of the legislative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35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B0E-548E-4461-9658-6F9EB2C0D9B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resilience assessment</a:t>
            </a:r>
            <a:br>
              <a:rPr sz="3200"/>
            </a:b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 in TYNDP 2011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BD8-6000-4E02-985A-C05F61561B9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resilienc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-down assessment of the Security of Supply resilience of the European gas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 TYNDP considers the impact of major events (climatic, disruption…) from a European perspective on the highly meshed European gas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top-down approach shows how adjacent systems may influence/suppor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TYNDP 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urrent report is based on a Reference Case (high daily demand broadly equivalent to a 1-in-20 day) and measuring the variation in flow pattern and supply when fac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echnical, transit or supply disru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072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lower deliverability of stor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events have been selected according to their potential impact and occur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7565-F95F-44DE-AE77-05457581EAC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oS - What is in the TYN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00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in report: gap and remedy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SoS simulation is the result of following parameter comb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011 / 2015 /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D /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Case / Disruption / UGS low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graphical representation of investment gaps is provided when a country remaining flexibility is be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% under Reference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% under disruption or UGS low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gested infrastructures and submitted projects helping to mitigate the gaps are identified within the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nex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vertheless load factor of each individual project may be estimated using the remaining flexibility provided for projects in Annex E for most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DD02-0376-4C38-85D3-7039EB78749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raphical representation before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F8FF-8F31-43DA-AAD4-9E26F7946B37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519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raphical representation during disru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7EF-C670-41A5-99E8-C7ABD67D8AC2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042920" y="1419120"/>
            <a:ext cx="6481800" cy="52437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468360" y="1341360"/>
            <a:ext cx="2519280" cy="36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YNDP intends to identify the disrupted areas (blue doted line) defined by complete upstream cross-border congestion (red arrow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low pattern within the area would need further investigation taking into account more parameters such as demand-side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Information provided with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1A08-E1E9-4B08-A933-11C0848E4950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01600" y="2205000"/>
          <a:ext cx="4564080" cy="3745080"/>
        </p:xfrm>
        <a:graphic>
          <a:graphicData uri="http://schemas.openxmlformats.org/drawingml/2006/table">
            <a:tbl>
              <a:tblPr/>
              <a:tblGrid>
                <a:gridCol w="511200"/>
                <a:gridCol w="797040"/>
                <a:gridCol w="949320"/>
                <a:gridCol w="1663560"/>
                <a:gridCol w="642960"/>
              </a:tblGrid>
              <a:tr h="265320">
                <a:tc gridSpan="5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ainian disruption (additional investment gaps to the Reference Cas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improvement due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&amp; SK &gt; 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 &amp; TK &gt; G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&amp; SK &gt; H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6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47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. Co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1587600"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igh Daily demand for the region defined by all above countries is covered by 70% with existing infrastructure plus FID and by 75% with addition of non-FID projects. Individual country’s supply demand balance cannot be assessed in this TYNDP due to the current lack of criteri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non-FID projects (AT to HU capacity increase) remaining flexibility for Austria is inferior to one per cent but still enable to cover the whole demand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753000" cy="52959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324000" y="981000"/>
            <a:ext cx="43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erical information within main body and non-FID project load factor within Annex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oS  - Receive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463-7D9C-414D-A29F-143E75DFE2DC}" type="slidenum">
              <a:rPr b="0" lang="en-GB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contenu 2"/>
          <p:cNvSpPr/>
          <p:nvPr/>
        </p:nvSpPr>
        <p:spPr>
          <a:xfrm>
            <a:off x="333360" y="1160640"/>
            <a:ext cx="863136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inion on selected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ruption of more than one source c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technical failure (such Transitgas) should be investig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to possible regional political turmoil may benefit the overall TY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 availability of storage in the end of the winter c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re detailed analysis of the selected scenarios would be welco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 are appropriate and should be used in next edition in order to assess th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itional scenarios could derive from REG-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ilienc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aining flexibility is a meaningful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rrival of a new supply should reduce the share of the existing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bedded diversification of LNG should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dc:language>en-US</dc:language>
  <cp:lastModifiedBy>olivier.lebois</cp:lastModifiedBy>
  <cp:lastPrinted>2012-01-24T15:35:19Z</cp:lastPrinted>
  <dcterms:modified xsi:type="dcterms:W3CDTF">2012-02-10T15:49:30Z</dcterms:modified>
  <cp:revision>827</cp:revision>
  <dc:subject/>
  <dc:title>TYNDP 2013-2022 -- 1st SJWS</dc:title>
</cp:coreProperties>
</file>