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ED1D-8E5E-40B2-8D4C-6A51224E6AC1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29CB-4848-4415-91AC-6DB4420DE33C}" type="slidenum"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8660-F1A7-4761-9568-422945887CB0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AC77-1EDE-4F44-8D2E-7ED43D83D6B2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83F9-6E17-40C9-BD90-153CF5786204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3BEC-0E3B-4D1A-AAAB-FAC2041CFAA5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E75C-B04D-49B4-9DE2-9509511185CA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D667-40C1-424A-BC0C-B113C69F9EB6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9B81-9052-4E3B-882F-1C1E1A228986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752E-728F-4192-B585-CDD134FD414E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9EDC-6818-4097-9DF2-9783C55C6080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680CD-BB93-4132-8466-EA5698A445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33DF2-D495-4AF1-AA04-63895C29DA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9447-1176-48F1-95F9-ACD8BDA287E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3468B-8BBC-40E6-84EB-8D20746B7E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B3BF1-2804-4C15-B788-C7B8C1832E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BA63-7200-4A84-BEDC-160CB782A7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AA741-AA95-4452-9B99-B8484C1417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EE3D2-43B1-40A8-A203-2F5DEF3337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1AE91-B16E-42DE-B353-F6EBB5C054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8C6C5-594B-4797-A8B7-54EBB40454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D803C-AEC3-46C0-925F-98BDB82AA28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F2C53-762E-4259-B66F-BF53B9FB501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93281-17B0-4668-9685-55278811883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B0BCD-1640-438F-847C-F6986A609B1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DEBCA-932B-4424-9C00-83E9C37F3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27D68-3B17-4825-A8B9-3E845E4AFA8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ED113-696E-46BB-9469-16342E79184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38ABA-ABD0-4BE2-89CD-033E92A0775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84DC3-929B-48C3-AEC6-DAB789AF062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E8F2E-6BF3-4D8E-AA97-BDB9241CA89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7D2E7-4994-4A0D-B7C9-15356B164AB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C8CCD-43C7-4E55-B944-1CAA8540782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D8B60-05F5-45F7-93FF-1FC30F76BCB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F410A-0830-45A8-A09C-5738BB44759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55DE-358D-4E26-AFC3-ECF0B3669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CD3C-C70C-4C86-91EC-235F21E8FB4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5776-39FC-4B81-BFF4-0BDE554E618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1F7C-DB64-4260-BE52-4B884AEFCA5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C210-D691-4868-A7EE-A524DC31C7A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068B-E8A3-401C-83DE-BD4C8F53DEC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09E2-4A34-4679-AADD-E7CBD8F146B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4BD8-3DD1-490A-9DED-242C20C88E9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93CB-2C2A-4ABB-881F-F6C432BC25F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6901-FD25-41B2-A4ED-70850C5B6F8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88EB-2A07-4DD3-858B-71F6AF6281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AD89-AF4E-47A0-956F-586167B6C87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Image 1" descr="Fond.jpg"/>
          <p:cNvPicPr/>
          <p:nvPr/>
        </p:nvPicPr>
        <p:blipFill>
          <a:blip r:embed="rId2"/>
          <a:stretch/>
        </p:blipFill>
        <p:spPr>
          <a:xfrm>
            <a:off x="11160" y="0"/>
            <a:ext cx="9121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ENTSOG_LOGO_001.png"/>
          <p:cNvPicPr/>
          <p:nvPr/>
        </p:nvPicPr>
        <p:blipFill>
          <a:blip r:embed="rId3"/>
          <a:stretch/>
        </p:blipFill>
        <p:spPr>
          <a:xfrm>
            <a:off x="3855960" y="6149880"/>
            <a:ext cx="1000080" cy="5716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4071960" y="6559560"/>
            <a:ext cx="8571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D1AD-0BC7-45E7-A059-1D181CB18B4C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10"/>
          <p:cNvGrpSpPr/>
          <p:nvPr/>
        </p:nvGrpSpPr>
        <p:grpSpPr>
          <a:xfrm>
            <a:off x="3929040" y="6091200"/>
            <a:ext cx="1000080" cy="758880"/>
            <a:chOff x="3929040" y="6091200"/>
            <a:chExt cx="1000080" cy="758880"/>
          </a:xfrm>
        </p:grpSpPr>
        <p:pic>
          <p:nvPicPr>
            <p:cNvPr id="117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3929040" y="6091200"/>
              <a:ext cx="1000080" cy="5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Box 4"/>
            <p:cNvSpPr/>
            <p:nvPr/>
          </p:nvSpPr>
          <p:spPr>
            <a:xfrm>
              <a:off x="4149720" y="6480000"/>
              <a:ext cx="779400" cy="37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46EE-DBD4-4EEF-BD9A-CD4A5EE3C76F}" type="slidenum">
              <a:rPr b="0" lang="fr-BE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10"/>
          <p:cNvGrpSpPr/>
          <p:nvPr/>
        </p:nvGrpSpPr>
        <p:grpSpPr>
          <a:xfrm>
            <a:off x="4000680" y="6170760"/>
            <a:ext cx="1087200" cy="571320"/>
            <a:chOff x="4000680" y="6170760"/>
            <a:chExt cx="1087200" cy="571320"/>
          </a:xfrm>
        </p:grpSpPr>
        <p:pic>
          <p:nvPicPr>
            <p:cNvPr id="158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4000680" y="6170760"/>
              <a:ext cx="100008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4"/>
            <p:cNvSpPr/>
            <p:nvPr/>
          </p:nvSpPr>
          <p:spPr>
            <a:xfrm>
              <a:off x="4230720" y="6575400"/>
              <a:ext cx="857160" cy="142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B57D-74D1-4316-9BF1-9CEF1C5BA706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11"/>
          <p:cNvGrpSpPr/>
          <p:nvPr/>
        </p:nvGrpSpPr>
        <p:grpSpPr>
          <a:xfrm>
            <a:off x="4143240" y="6170760"/>
            <a:ext cx="1071720" cy="571320"/>
            <a:chOff x="4143240" y="6170760"/>
            <a:chExt cx="1071720" cy="571320"/>
          </a:xfrm>
        </p:grpSpPr>
        <p:pic>
          <p:nvPicPr>
            <p:cNvPr id="199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4143240" y="6170760"/>
              <a:ext cx="100044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4"/>
            <p:cNvSpPr/>
            <p:nvPr/>
          </p:nvSpPr>
          <p:spPr>
            <a:xfrm>
              <a:off x="4357440" y="6575400"/>
              <a:ext cx="857520" cy="142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0120" y="2787480"/>
            <a:ext cx="79293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a3f82"/>
                </a:solidFill>
                <a:latin typeface="Calibri"/>
              </a:rPr>
              <a:t>Network &amp; market modelling</a:t>
            </a:r>
            <a:br>
              <a:rPr sz="4000"/>
            </a:b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NTSOG tool handbo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ous-titre 2"/>
          <p:cNvSpPr/>
          <p:nvPr/>
        </p:nvSpPr>
        <p:spPr>
          <a:xfrm>
            <a:off x="1379520" y="5589720"/>
            <a:ext cx="6400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UGS and LNG tank level consid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98600" y="1125000"/>
            <a:ext cx="8143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Capacity vs. Volume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SOs’ task and main ENTSOG commitment is related to the resilience of the transmission network. Is capacity sufficient to face the most challenging da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Supply adequacy checking is also an ENTSOG task and encompasses a temporal (or volume dimension) through supply availability on a given period but cannot be carried out without stakeholders involvement as being beyond the scope of TSOs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Volume consid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Stakeholders assessment is key to assess supply avail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Storage (UGS and LNG tank) infrastructure modeling is made possible through close collaboration with GSE and GL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UGS stock level vs. deliverability cur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LNG tank management and ship unloa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AC4D-28A8-47BA-A44A-9A8B77CA3712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Embedded optimization en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Content Placeholder 2" descr=""/>
          <p:cNvPicPr/>
          <p:nvPr/>
        </p:nvPicPr>
        <p:blipFill>
          <a:blip r:embed="rId1"/>
          <a:stretch/>
        </p:blipFill>
        <p:spPr>
          <a:xfrm>
            <a:off x="500040" y="1127160"/>
            <a:ext cx="8143920" cy="5035680"/>
          </a:xfrm>
          <a:prstGeom prst="rect">
            <a:avLst/>
          </a:prstGeom>
          <a:ln w="0">
            <a:noFill/>
          </a:ln>
        </p:spPr>
      </p:pic>
      <p:sp>
        <p:nvSpPr>
          <p:cNvPr id="2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166C-BF3D-48B5-B1F2-A9C813D174AC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Why ENTSOG needs a modelling tool 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98600" y="1125000"/>
            <a:ext cx="8143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NTSOG has inherited the GIE expert role within the GC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odelling of the whole gas infrastructure (Transmission, UGS and L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gular presentation of ENTSOG reports (Outlooks and TYND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d hoc study asked by COM (mostly disruption scenario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NTSOG obligations under the 3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rd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Energy Pack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y adequacy and investment gap identification as carried out within TYNDP and Supply outlooks require a tool checking the ability to transport gas from supply to consumption are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ch tool needs to be consistent with the concept defined by the Regulation: Entry/Exit zones, hub-to-hub products and firm capa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Future expectations coming from Connecting Europe Fac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BA methodology to be developed by ENTSOG should be based on a gas Network and Market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ossible extension to a common model for electricity and gas by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31E5-BAA0-460F-AC28-6F23733822AB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Philosophy of ENTSOG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8360" y="920520"/>
            <a:ext cx="8143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European top-down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ENTSOG’s focus is on European and cross-border iss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Only a top-down approach may identify the influence of one system behaviour on the adjacent 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Network modelling based on the capacity sale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Modelling tool has to be consistent with adjacent Entry/Exit zones linked by cross-border capacity as targeted by the 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r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Energy Pack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Network resilience assessment has then to be consistent with the market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Market should manage all situations including crisis as far as infrastructure are avail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Embedded hydraulic sim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sults from TSOs hydraulic capacity calculation are factored in ENTSOG modelling tool through firm capa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o additional need to consider hydraulic simulation at the European lev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AE94-A84A-4171-9CE7-991C81DC5585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Overview of the European gas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5CFE-971C-4A15-8347-4ED0B3FB6CCF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79200" y="981000"/>
            <a:ext cx="9039240" cy="5877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480" y="115920"/>
            <a:ext cx="892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Model inpu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23640" y="691920"/>
            <a:ext cx="81435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em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demand figure is attached to every node of the system standing for an entry/exit z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u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r each supply source are considere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potential supply toward Eur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import capacity per rou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control range standing for upstream constraint or historical range of fl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weight in order to define priority between supply 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ub-to-hub capacity is derived from the firm capacity as calculated by TSOs on both sides of every IP between two entry/exit z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8071-4977-4304-85B0-B72EFAD81E19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Model top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EB0F-3AF2-4AA4-B106-09DD267AED20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rcRect l="75113" t="42806" r="6346" b="49178"/>
          <a:stretch/>
        </p:blipFill>
        <p:spPr>
          <a:xfrm>
            <a:off x="3733920" y="1655640"/>
            <a:ext cx="5086080" cy="917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"/>
          <p:cNvPicPr/>
          <p:nvPr/>
        </p:nvPicPr>
        <p:blipFill>
          <a:blip r:embed="rId2"/>
          <a:srcRect l="50340" t="47335" r="31537" b="19666"/>
          <a:stretch/>
        </p:blipFill>
        <p:spPr>
          <a:xfrm>
            <a:off x="179280" y="3086280"/>
            <a:ext cx="4972320" cy="3771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"/>
          <p:cNvPicPr/>
          <p:nvPr/>
        </p:nvPicPr>
        <p:blipFill>
          <a:blip r:embed="rId3"/>
          <a:srcRect l="50251" t="31055" r="31972" b="57783"/>
          <a:stretch/>
        </p:blipFill>
        <p:spPr>
          <a:xfrm>
            <a:off x="6480" y="838080"/>
            <a:ext cx="4876560" cy="1276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"/>
          <p:cNvPicPr/>
          <p:nvPr/>
        </p:nvPicPr>
        <p:blipFill>
          <a:blip r:embed="rId4"/>
          <a:srcRect l="76068" t="63392" r="6346" b="16028"/>
          <a:stretch/>
        </p:blipFill>
        <p:spPr>
          <a:xfrm>
            <a:off x="4324320" y="4505400"/>
            <a:ext cx="4824360" cy="2352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European gas system topology used by the t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BE03-76E2-4BA5-A536-E8C630DA131F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79200" y="981000"/>
            <a:ext cx="9039240" cy="5877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Tool functio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98600" y="1125000"/>
            <a:ext cx="8143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Basic functio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ind a flow pattern meeting the following constrain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Arcs: flows are within the lower/upper range defined for each ar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Nodes: flow pattern balances every n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Multiple time units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Basic period is one day and multiple day periods such as month or seasons may modelled as one average day or consecutive individual da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In latter case, UGS and LNG stock level are updated between 2 simul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System resilience deter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Investigation of the limits of the European gas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Use of optimization using an objective function describing he direction to be investig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5A8C-FBD4-4D9C-B0B8-11AEBD9F0C78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a3f82"/>
                </a:solidFill>
                <a:latin typeface="Calibri"/>
                <a:ea typeface="Arial"/>
              </a:rPr>
              <a:t>Overall modelling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2CC2-55A7-4DB4-B993-D3A70BABF75C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rcRect l="57344" t="42649" r="15791" b="16277"/>
          <a:stretch/>
        </p:blipFill>
        <p:spPr>
          <a:xfrm>
            <a:off x="55440" y="1031760"/>
            <a:ext cx="896940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9:21:19Z</dcterms:created>
  <dc:creator>Andrea Cirlicova</dc:creator>
  <dc:description>Test file to explore size and formatting issues</dc:description>
  <cp:keywords/>
  <dc:language>en-US</dc:language>
  <cp:lastModifiedBy>olivier.lebois</cp:lastModifiedBy>
  <cp:lastPrinted>2011-01-20T11:35:48Z</cp:lastPrinted>
  <dcterms:modified xsi:type="dcterms:W3CDTF">2012-03-02T11:30:11Z</dcterms:modified>
  <cp:revision>745</cp:revision>
  <dc:subject/>
  <dc:title>GRIPs Summary</dc:title>
</cp:coreProperties>
</file>