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480C-E3BE-42E7-BCAE-2A5CF30F19B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F56-9851-4984-B090-2A527588066D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B43D-50B2-4E8A-8A30-49530CB59D9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16F-5A04-4E46-9A6A-9BD3A2CD698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166-2CBB-4F37-BA8F-CCA001F9AEC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17A-E95D-416D-AFCD-1ABE41291A3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EAA5-BF4D-4544-AB3C-DE7DDEB4395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217D-5B57-45A0-AA5E-7869529C3A1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C7FA-77C8-425E-B6C4-CAC1D9217A1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9D1D-F3F0-4A3E-BDDF-133BE0BFA86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32B-8F02-4B98-8020-3C2809EEA6D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E2B1-E0D0-4BFA-8969-7E0F8A24F9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7337-7EBA-4048-9051-22ADC2E3FD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EF66-EB38-4E3C-B379-361E705F3C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0D9D-76B7-46B0-B674-B0FF3FC7C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6D66-5600-43AE-9850-9D6E3734C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89E-140B-4A56-AAC5-C886F22508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7B10-4801-42BA-A94E-29605CB32D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3CCF-62F3-4941-AD11-1029425F02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EF02-F779-44DA-B65F-3F998EE46C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33B0-1A3B-4AC0-BB92-97D95B0BB4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AD16-7E30-47E9-B5DE-F0E0F504C7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D63B-6C5D-48AA-B65C-895F91D608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C544-F362-45CB-A5F6-7603948D4C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846A-1FF0-4B3B-AD3D-04166F4DAD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0E22-2DE4-453A-9467-EBE2BF9A7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6BCE-1145-4C3C-9601-D28EAF0E1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A4E1-4091-44DD-B248-D740E0F787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734E-1905-4518-B2B8-6CE318F57D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7BDA1-1C47-4A35-AC8C-C20BD61AE7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0526-4E60-4CA2-8518-3354285790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05E5-C29D-4342-9F7D-9C592DE2DE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5D17-618F-4172-9AE2-503768C648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6E91-19F3-4CFA-865E-38BD54B43C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6DE5-6750-4420-8A8A-A136D97C0D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409-31E9-4E25-B85F-A812F3AAA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0E1-69AC-41F8-B7FF-C802FE583B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00-B3C9-495D-91B3-48617E7FF4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705-0517-40E2-84D3-C0FB7FC5E9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846-D276-40B5-AC0C-EC81D84887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50C-065F-4456-A72C-4A7A2F4A22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BB6-243B-4E26-A171-69BA2FC9C1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E14-0F16-465E-8DF3-93FE6819A4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F62-BA46-4814-8234-398C720B35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D45-C5BC-4964-B007-A67D4D6E28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1D0-6A08-45FE-8CCC-345903413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2B7-98CE-4520-A5BD-558861C16D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13F-2C9F-4475-8174-7040771F6FB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7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6F49-9B03-4DC7-BFD8-F475130518E2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8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1FFD-691F-47F1-95BC-8F0834ED326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0120" y="2787480"/>
            <a:ext cx="79293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a3f82"/>
                </a:solidFill>
                <a:latin typeface="Calibri"/>
              </a:rPr>
              <a:t>Network &amp; market modelling</a:t>
            </a:r>
            <a:br>
              <a:rPr sz="40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TSOG tool hand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7952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UGS and LNG tank level consid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apacity vs. Volum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SOs’ task and main ENTSOG commitment is related to the resilience of the transmission network. Is capacity sufficient to face the most challenging da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checking is also an ENTSOG task and encompasses a temporal (or volume dimension) through supply availability on a given period but cannot be carried out without stakeholders involvement as being beyond the scope of TSOs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Volume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takeholders assessment is key to assess supply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torage (UGS and LNG tank) infrastructure modeling is made possible through close collaboration with GSE and G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GS stock level vs. deliverability cu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LNG tank management and ship unloa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5084-779D-4F33-887C-945565FE710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mbedded optimization en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Content Placeholder 2" descr=""/>
          <p:cNvPicPr/>
          <p:nvPr/>
        </p:nvPicPr>
        <p:blipFill>
          <a:blip r:embed="rId1"/>
          <a:stretch/>
        </p:blipFill>
        <p:spPr>
          <a:xfrm>
            <a:off x="500040" y="1127160"/>
            <a:ext cx="8143920" cy="503568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891-CB92-4301-8F0E-9EFC9B545C8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Why ENTSOG needs a modelling tool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TSOG has inherited the GIE expert role within the GC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of the whole gas infrastructure (Transmission, UGS and L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gular presentation of ENTSOG reports (Outlooks and TYN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 hoc study asked by COM (mostly disruption scenari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SOG obligations under the 3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Energy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and investment gap identification as carried out within TYNDP and Supply outlooks require a tool checking the ability to transport gas from supply to consumption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ch tool needs to be consistent with the concept defined by the Regulation: Entry/Exit zones, hub-to-hub products and firm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uture expectations coming from Connecting Europe Fac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BA methodology to be developed by ENTSOG should be based on a gas Network and Market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ssible extension to a common model for electricity and gas by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ABFD-B341-4FC7-8F64-377FE1E1E24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hilosophy of ENTSO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92052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uropean top-down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ENTSOG’s focus is on European and cross-border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Only a top-down approach may identify the influence of one system behaviour on the adjacent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etwork modelling based on the capacity sal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has to be consistent with adjacent Entry/Exit zones linked by cross-border capacity as targeted by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Energy Pack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etwork resilience assessment has then to be consistent with the market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rket should manage all situations including crisis as far as infrastructure are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mbedded hydraulic sim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ults from TSOs hydraulic capacity calculation are factored in ENTSOG modelling tool through firm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o additional need to consider hydraulic simulation at the European lev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E448-9077-497F-8A7F-AF1D9D8A9A8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Overview of the European gas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628-2A7B-48D9-BC5A-F54B8D6F218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79200" y="981000"/>
            <a:ext cx="90392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80" y="115920"/>
            <a:ext cx="8929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Model in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691920"/>
            <a:ext cx="81435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demand figure is attached to every node of the system standing for an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each supply source are consider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potential supply toward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import capacity per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control range standing for upstream constraint or historical range of fl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weight in order to define priority between supply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b-to-hub capacity is derived from the firm capacity as calculated by TSOs on both sides of every IP between two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ED5-4EF4-4AAE-B5F8-0858D53FCE1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odel t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31C-66D9-4A37-AE97-0A8AEB6594B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75113" t="42806" r="6346" b="49178"/>
          <a:stretch/>
        </p:blipFill>
        <p:spPr>
          <a:xfrm>
            <a:off x="3733920" y="1655640"/>
            <a:ext cx="5086080" cy="91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rcRect l="50340" t="47335" r="31537" b="19666"/>
          <a:stretch/>
        </p:blipFill>
        <p:spPr>
          <a:xfrm>
            <a:off x="179280" y="3086280"/>
            <a:ext cx="4972320" cy="3771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rcRect l="50251" t="31055" r="31972" b="57783"/>
          <a:stretch/>
        </p:blipFill>
        <p:spPr>
          <a:xfrm>
            <a:off x="6480" y="838080"/>
            <a:ext cx="4876560" cy="1276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4"/>
          <a:srcRect l="76068" t="63392" r="6346" b="16028"/>
          <a:stretch/>
        </p:blipFill>
        <p:spPr>
          <a:xfrm>
            <a:off x="4324320" y="4505400"/>
            <a:ext cx="4824360" cy="2352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uropean gas system topology used by the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6F6-4D5F-490D-9A3E-9C0A5678432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79200" y="981000"/>
            <a:ext cx="903924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Tool 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8600" y="1125000"/>
            <a:ext cx="8143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Basic functi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d a flow pattern meeting the following constrai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rcs: flows are within the lower/upper range defined for each a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Nodes: flow pattern balances every n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ultiple time unit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Basic period is one day and multiple day periods such as month or seasons may modelled as one average day or consecutive individual da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 latter case, UGS and LNG stock level are updated between 2 simul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ystem resilience de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igation of the limits of the European gas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se of optimization using an objective function describing he direction to be investig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3E2-8D22-4558-847A-F8AD8BED967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Overall modell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7730-E7F7-4DD2-87CC-F15AF245725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7344" t="42649" r="15791" b="16277"/>
          <a:stretch/>
        </p:blipFill>
        <p:spPr>
          <a:xfrm>
            <a:off x="55440" y="1031760"/>
            <a:ext cx="8969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cp:keywords/>
  <dc:language>en-US</dc:language>
  <cp:lastModifiedBy>olivier.lebois</cp:lastModifiedBy>
  <cp:lastPrinted>2011-01-20T11:35:48Z</cp:lastPrinted>
  <dcterms:modified xsi:type="dcterms:W3CDTF">2012-03-02T11:30:11Z</dcterms:modified>
  <cp:revision>745</cp:revision>
  <dc:subject/>
  <dc:title>GRIPs Summary</dc:title>
</cp:coreProperties>
</file>