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9D4D-543B-4A40-9121-E70728DCD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8520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2843-4528-4A57-A6FF-9EA2ECB82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9641-1994-424C-9CE8-AA220624F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6D8A-DA57-43C8-ACB2-99A233AB1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ABE-0C2A-4469-8373-1F187F65FD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F97-1A20-4547-B7CB-8402A726BB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4C7-0D26-4F86-A87B-2B88F1CF1C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C5A-B8E1-4073-900B-E91802AE4A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18E-710F-4FD6-9199-DEE050D8E3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DFF-D7FA-4404-9039-78299F0562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E77-1D11-4760-8A2E-DBEFD8949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79B0-1F6B-4E49-A45F-45A41A82D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951-0401-4371-9B52-6C60BB0A2E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114-F93F-43C7-A610-BEDEA3E727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98520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BC3-B2C2-4C16-957F-2FDBDFECFF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CA6-7E0E-4E0A-A293-8CCFB1B964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98520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CCD-DFF6-404E-87BE-518E7D9C5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0810-5BE5-49BE-95FE-958DFFFEB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B6C0-89F6-4FB0-98AE-63B29B60D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11F4-93FF-4E6D-B566-4B86E085E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4E77-14FA-46F9-A246-156A31442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DA7F-2E92-4ACA-A512-E118791CA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8520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1F99-669D-4E01-8670-97EE25204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8520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3464-D59F-42C0-882E-0ED09D6AD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\\Composition\d\DESFA\allages entypon\PPT-footer-ENG.jpg"/>
          <p:cNvPicPr/>
          <p:nvPr/>
        </p:nvPicPr>
        <p:blipFill>
          <a:blip r:embed="rId2"/>
          <a:stretch/>
        </p:blipFill>
        <p:spPr>
          <a:xfrm>
            <a:off x="6540480" y="5864400"/>
            <a:ext cx="2603520" cy="993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DESFA_TEMP_ESOTERIKI_A"/>
          <p:cNvPicPr/>
          <p:nvPr/>
        </p:nvPicPr>
        <p:blipFill>
          <a:blip r:embed="rId3"/>
          <a:srcRect l="7936" t="0" r="15895" b="0"/>
          <a:stretch/>
        </p:blipFill>
        <p:spPr>
          <a:xfrm>
            <a:off x="0" y="-2700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98728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1636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35D-9407-4E40-95B2-3139A07B72C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DESFA_FINAL_ESOTERIKI_B"/>
          <p:cNvPicPr/>
          <p:nvPr/>
        </p:nvPicPr>
        <p:blipFill>
          <a:blip r:embed="rId4"/>
          <a:stretch/>
        </p:blipFill>
        <p:spPr>
          <a:xfrm>
            <a:off x="0" y="5934240"/>
            <a:ext cx="2414520" cy="92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\\Composition\d\DESFA\allages entypon\PPT-front_ENG.jpg"/>
          <p:cNvPicPr/>
          <p:nvPr/>
        </p:nvPicPr>
        <p:blipFill>
          <a:blip r:embed="rId2"/>
          <a:stretch/>
        </p:blipFill>
        <p:spPr>
          <a:xfrm>
            <a:off x="0" y="0"/>
            <a:ext cx="9339120" cy="6950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7E92-6F79-4ED7-8252-92D21112D986}" type="slidenum">
              <a:rPr b="1" lang="el-G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uthern Corrid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IP 2014-20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9280" y="981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i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seph Florentin, coordin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TSOG’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IP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ussels 26 November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56000" y="2637000"/>
            <a:ext cx="3960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thern Corridor Reg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countries concer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TSOs from 9 cou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ment of some Energy Community members is desira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3498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the reg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ral countries have still immature mar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dependency on gas supplies from the e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ce of large projects of importance exceeding the region itse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16480" y="189000"/>
            <a:ext cx="38275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4736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Str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 Str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t 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2500200" y="1413000"/>
            <a:ext cx="653112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ACER’s comments of 25 March 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lude regional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already announced at the launch of the previous SC GRIP, the coming GRIP will include modelin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over we introduce a more detailed project cluster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fact due to the existence of very large and somehow competing projects the non-FID cluster may give a false impression of sufficiency given that not all of the competing projects will be  implemen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is reason we use in modeling the following cluste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 + TAP* + IG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 + TAP* + IGB + South Stre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 +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P* + IGB + I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D + non-F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gether with Adriatica and Tirrenica pipeli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ACER’s comments of 25 March 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ments to be includ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frastructure Resilience Assess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of the infrastructure to transport large quantities of gas under severe climatic conditions and subject to various disruption scena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ment per count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ment per reg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regions (Med, CEE, NW and Baltic) 1 region under uniform risk, other average week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pply Source Dependence Assess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tion of zones whose balance depends strongly on a single supply sour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pply Source Divers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of each zone to access each identified supply sour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ACER’s comments of 25 March 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-1 on a Regional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A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Z disruption to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ruption of the Revythoussa LNG termi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o ACER’s comments of 25 March 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volve interested stakehol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GRIP 2012-2021 was presented at ACER and Energy Charter events, however no reaction from stakeholders was received. The present event is an opportunity for interaction with stakeholde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rmonisation of enhanced GRIP approach across all GRIP reg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SOG has taken initiatives in this direction which will be intensified at the next (2015) iss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ation of possible IP conges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1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tention is to include data on all IPs’ use during the last two yea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30040" y="2500200"/>
            <a:ext cx="4311720" cy="3457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643280" y="2500200"/>
            <a:ext cx="434052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5:00:48Z</dcterms:created>
  <dc:creator>Χατζηαντωνίου Αναστασία</dc:creator>
  <dc:description/>
  <dc:language>en-US</dc:language>
  <cp:lastModifiedBy>Φλωρεντίν Ιωσήφ</cp:lastModifiedBy>
  <cp:lastPrinted>2013-11-25T10:34:06Z</cp:lastPrinted>
  <dcterms:modified xsi:type="dcterms:W3CDTF">2013-11-25T12:02:18Z</dcterms:modified>
  <cp:revision>26</cp:revision>
  <dc:subject/>
  <dc:title>PowerPoint Presentation</dc:title>
</cp:coreProperties>
</file>